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9AB9-33FF-48EB-BC67-2D8F3DAD8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0554-E91D-4333-86F7-D5C616595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32645-EB08-4DF3-A6FA-60C6C5F49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9854-9C93-4325-BD55-7704368CA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AF58-5D6E-4578-BF32-D71B72D74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D1F4-064F-47CB-B2D6-0BAFE4B78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44CE-FD81-48AE-B8EA-92A54200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E05C-4453-49B9-90BD-724C95890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7C6C-092E-4508-82A2-CC7FED802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AD9B-83F6-4674-9629-B4ADAF878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188D-A0B3-41FF-9375-54230F1DE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6CCD-AF5D-4A2A-94E4-1D236D8A8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4880" y="-360"/>
            <a:ext cx="9262800" cy="6858360"/>
            <a:chOff x="-74880" y="-360"/>
            <a:chExt cx="9262800" cy="6858360"/>
          </a:xfrm>
        </p:grpSpPr>
        <p:sp>
          <p:nvSpPr>
            <p:cNvPr id="1" name=""/>
            <p:cNvSpPr/>
            <p:nvPr/>
          </p:nvSpPr>
          <p:spPr>
            <a:xfrm flipH="1" rot="10800000">
              <a:off x="379800" y="0"/>
              <a:ext cx="221004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" name=""/>
            <p:cNvGraphicFramePr/>
            <p:nvPr/>
          </p:nvGraphicFramePr>
          <p:xfrm>
            <a:off x="-49320" y="1440"/>
            <a:ext cx="9193320" cy="685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49320" y="1440"/>
                      <a:ext cx="919332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"/>
            <p:cNvSpPr/>
            <p:nvPr/>
          </p:nvSpPr>
          <p:spPr>
            <a:xfrm>
              <a:off x="-7488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7896240" y="243000"/>
              <a:ext cx="1291680" cy="1110600"/>
              <a:chOff x="7896240" y="243000"/>
              <a:chExt cx="1291680" cy="1110600"/>
            </a:xfrm>
          </p:grpSpPr>
          <p:sp>
            <p:nvSpPr>
              <p:cNvPr id="6" name=""/>
              <p:cNvSpPr/>
              <p:nvPr/>
            </p:nvSpPr>
            <p:spPr>
              <a:xfrm>
                <a:off x="845928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45856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5856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5820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6000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" name=""/>
              <p:cNvGraphicFramePr/>
              <p:nvPr/>
            </p:nvGraphicFramePr>
            <p:xfrm>
              <a:off x="7896240" y="276120"/>
              <a:ext cx="638280" cy="1067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896240" y="276120"/>
                        <a:ext cx="63828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2188-C371-4D23-BAF5-F816113A6E9C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$20 WiFi Spectrum Analy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Proxim 7400 RangeLAN2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5" name="" descr="RangeLAN2 7400 PC Cards with dipole and snap-on antennas"/>
          <p:cNvPicPr/>
          <p:nvPr/>
        </p:nvPicPr>
        <p:blipFill>
          <a:blip r:embed="rId1"/>
          <a:stretch/>
        </p:blipFill>
        <p:spPr>
          <a:xfrm>
            <a:off x="2514600" y="411480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7B31-2C4B-4296-AC42-AFF7DD43BD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AP on channel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1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EB6C-8DFF-4826-B0D5-5AB3ABE89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AP on channel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15200" cy="523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43DB-F928-4CF2-BF2D-93F38D1D8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feet from microwave o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1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6D10-816B-450D-9E9D-F82CB5D81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ki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CMCIA car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rivers available from Proxim website for Win 2000, Win ME, Win 98, Win 95,     Win 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o driver available for Windows XP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n sale for $20 - $40 on eBay, Yaho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movable dipole antenna; some cards sold with a second antenn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E755-8AAB-4BFF-863A-B15528F87F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46748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C971-0A3E-4EEB-BCC1-B7843B25FC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MCX 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2243160"/>
            <a:ext cx="8561160" cy="17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77D9-E91C-4E64-AA91-E24CCC243C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ould I want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Fi spectrum analyz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o visually display 802.11 network signal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o display signals interfering with an 802.11 networ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general purpose tool for observing the 2.4 GHz ISM ban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7D1A-2183-406C-A1AB-352AA99994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2.11 Spectrum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1676520"/>
          <a:ext cx="822960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2296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89DD-1EBE-4C1E-A5BD-B7147DCBB0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2.11b/g Frequency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4880" y="1941480"/>
            <a:ext cx="725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802.11b/g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</a:rPr>
              <a:t>Channel-to-Frequency Mappin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SA/FCC &amp; Canada regions have 11 total channels allocated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ll frequencies are in GHz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hannel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Lower 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enter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Upper Frequency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0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1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23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04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17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28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11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2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33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16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27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38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21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3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43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26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37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48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7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31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4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53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8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36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47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58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9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41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5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63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46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57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.468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51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62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473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119B-7376-41A8-87BC-1273824757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use a normal spectrum analyz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ig and heav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ig and expensiv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verkill in a lot of cas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andheld 2.4 GHz spectrum analyzers available, but very expensiv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8D0E-E32A-4D96-AA17-9D7FF120C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at is this Proxim 7400 thin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obsolete, pre-802.11 wireless networking card, circa 1999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 supports Frequency Hopping Spread Spectrum (FH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HSS uses 80  1 MHz-spaced channels, from 2401 to 2480 MHz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ach FHSS session frequency hops across 15 of these channel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C9E1-2C92-4544-80E2-E93FF1505F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are you trying to sell me on this obsolete ju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ecause, the Proxim 7400 software includes a ‘Snoop’ application that scans the spectrum from 2401 to 2480 in 1 MHz steps and graphically displays the signals it receive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n essence, a crude spectrum analyzer that can be used to display the 2.4 GHz ISM ban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DE1C-DBEF-4008-BA0F-664E92E09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E9C6-7444-4EBB-8CE2-2E52BF6963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4 GHz cordless 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25AE-3552-4E7F-89A0-25420BF34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12-07T15:13:04Z</dcterms:modified>
  <cp:revision>50</cp:revision>
  <dc:subject/>
  <dc:title>Slide 1</dc:title>
</cp:coreProperties>
</file>