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7DA9-1C27-4146-A297-2FCFC2DC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9B4A-29A4-4BC9-AC06-A930DC4D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068D-B36A-4040-B415-32DD570A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E572A-B98F-43F2-BBA6-C0584C9E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FEB7-F712-400F-A93D-2AF10DEF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6F71-E20B-4F5B-92F4-C7AD565F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118A-2857-4A49-B660-D71AFC81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F927-3DC5-4D48-96CE-9D678732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36A2-9DA0-4DE0-9C45-54E3C565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3796-817C-44BA-8114-CF2061E4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3866-9B4E-4000-8C1A-817C19A3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A15A-CC11-48C6-98CF-0220A6EE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AA4F-4E46-4EC8-AE6A-3AEACDF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EB65-9738-441B-B756-B5603C6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CE04-F718-4ABE-B8EC-C2031A9D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8AFB-EF29-4138-A641-33517A3C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E09D-6FCB-460D-B486-12A317EA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0C43A-E354-471E-BD3B-044E3E00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51077-3291-43B5-9D2D-311C8DA6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9D39-53D4-4486-B092-21B3A274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BEA0-B216-4E97-B5F1-76D356AE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F1DDB-32D7-4605-A23F-B1E904B3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6733A-EC44-4900-9C7F-F7F30854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3370-AF6F-48B4-98F0-0A6B7261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EED4-597A-4781-A333-04B58C025D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2003-30B0-4CC2-9AA6-1D7DC5B8C5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uilding Cavity Filte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5PY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vember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dcap tuning pist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613560" y="1712880"/>
            <a:ext cx="2530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allthread i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p pipe c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t spacer on allthread near left side and secure with 2 nuts on either side of spa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one nut to tighten rod to brass nut after frequency 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 adjustment knob by putting two nuts toge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6440" y="6361200"/>
            <a:ext cx="68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der top endcap to 2” pipe—Secure bottom endcap with scr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ished produ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765600" cy="5021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27560" y="1484280"/>
            <a:ext cx="481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us far, haven’t seen need to solder bot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cap which allows user to adjust Q/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type had 4.5 MHz bandwidth at 160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0.2dB insertion l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just insertion loss with proximity of loops to ½” center conductor in cavity.  Loops can not touch the copper center conductor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ne cavity with all-thread.  Screw in=lower frequency.  Out=higher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type tuning range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170Mhz to ~108 M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s needed for VHF cav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537240" y="1865160"/>
            <a:ext cx="2606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” long 2” copper pi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2” pipe endca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” ½” copper pi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BNC conn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” of #14 wi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¼” brass n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” of ¼” allth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¼” nu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nylon spacer to just fit inside the ½” pi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2-56 scr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2-56 nu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” ¼” stainless scr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unting of connecto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918480" y="163656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2160" y="1636560"/>
            <a:ext cx="2073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ll 3/8” holes on opposite sides of 2” pipe 2” from bot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ll smaller mounting holes for securing connector w/ 2-56 scre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ten connectors with screws and nu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ldering center conduct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37240" y="1636560"/>
            <a:ext cx="2378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 ½” pipe is cut squarely and shine with scotchbrite or steel w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er the ½” pipe in the 2” endc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der pipe to endcap with propane torch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 pieces done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p endcap pre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613560" y="1636560"/>
            <a:ext cx="230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ll 3/8” hole in center of second endc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stainless screw in nut to ensure nut does not move when solder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lder brass nut to endc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65840" y="1789200"/>
            <a:ext cx="21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propane torch solder the brass nut to the endcap then remove stainless scr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 coupling lo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616800" y="1789200"/>
            <a:ext cx="2425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t #14 wire to ma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pieces as show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mensions optimiz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ft rise ½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ngth 2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ght rise ¼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stall coupling loo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537240" y="1487520"/>
            <a:ext cx="2378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der short end of wire to center conductor of conn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using propane torch, solder longer end to 2” pipe as near to the bottom as you can without spilling solder to the outside of the pi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reflow solder on connector to ensure good conne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160" y="6248520"/>
            <a:ext cx="88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ion loss and Q of cavity is modified by bending loop toward or away from ½” pi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insertion loss = lower Q (tighter coupl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01:50:30Z</dcterms:created>
  <dc:creator>KB5WMW</dc:creator>
  <dc:description/>
  <dc:language>en-US</dc:language>
  <cp:lastModifiedBy>Joseph Jurecka</cp:lastModifiedBy>
  <dcterms:modified xsi:type="dcterms:W3CDTF">2004-02-09T23:06:56Z</dcterms:modified>
  <cp:revision>6</cp:revision>
  <dc:subject/>
  <dc:title>Building Cavity Filters</dc:title>
</cp:coreProperties>
</file>