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87F-1120-4E40-B91B-17CA24F6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B5D-1413-49D2-9B16-3790937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9EA-5C68-457A-905F-F83F4496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F9D-FA1F-4FE2-9EC0-7A8C3DDA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425-3405-4B82-87ED-C63DE9C8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4D6-8E4C-4400-8AE7-7A2DC989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A1B-5931-42AC-9F29-E8DEE451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CE2-83E3-4C21-AE42-7FBF8DB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332-CFD8-438E-9620-AADAC14E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EA4-A198-47A7-9C70-E63245EA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99C-A2F3-4FBB-B7D6-7E574991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51D-2987-42E0-9E6E-AF293E06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4C5A-8EE7-4AC4-AB20-7F4CF5B0E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 Atch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5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7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21592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West 5616 MHz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Photo 10 MHz Ref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Photo 93.6 MHz VCXO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9.36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2896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447920"/>
            <a:ext cx="7391160" cy="487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1503360"/>
          <a:ext cx="647712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03360"/>
                    <a:ext cx="647712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West Source Mechanical M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MHz Reference - ~ 4.3 V pk-p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CXO Output - 93.6 MHz - ~ 3.6 V pk-p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5120" y="247644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une - 1 Volt/Div - 5 ms/D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437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mper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4 - L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6 - M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22:18:27Z</dcterms:created>
  <dc:creator>Wes Atchiosn</dc:creator>
  <dc:description/>
  <dc:language>en-US</dc:language>
  <cp:lastModifiedBy>Joseph Jurecka</cp:lastModifiedBy>
  <dcterms:modified xsi:type="dcterms:W3CDTF">2004-02-09T23:03:37Z</dcterms:modified>
  <cp:revision>14</cp:revision>
  <dc:subject/>
  <dc:title>No Slide Title</dc:title>
</cp:coreProperties>
</file>