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gif" ContentType="image/gif"/>
  <Override PartName="/ppt/media/image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C33-06DF-4BEA-9860-6FDC7A67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58D-BB6B-4531-8833-E4F0D38D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413-FE41-4C13-9773-2A47F7CC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BB4-C09D-4367-BE56-6739045C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7FA-D743-4842-A124-DF2C864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4B2-6DEE-4FDB-8C69-5B468B6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37F-A697-46F8-A2F7-2130522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591-C3C5-44DB-A9F1-31E8B1B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688-3F04-4CC1-8448-091FDA4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BA0-DD5D-4A14-BFC1-4573F08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6DF-DE1C-4B69-94B5-BE66C20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C03-8B71-4D60-9422-7AEDD97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0AD-2C75-4A63-8698-76FAB20A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 Atch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5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/19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159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5616 MHz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Photo 10 MHz Ref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Photo 93.6 MHz VCXO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9.36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2896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MHz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1080" y="1523880"/>
          <a:ext cx="533412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33412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Noise of 10 MHz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16 dBC/Hz @ 10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&amp;G Cinox Oscil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am Box to Reduce Temperature D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3.6 MHz Locked to CT1DM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47920" y="1805040"/>
          <a:ext cx="6172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05040"/>
                    <a:ext cx="6172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.6 MHz Oscillator Locked to 10 MHz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18.3 dBC/Hz @ 10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West Source Locked to CT1DM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76520" y="1752480"/>
          <a:ext cx="586728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86728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990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Locked to 10 MHz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13.3 dBC/Hz @ 10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ple @ 3.5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16 MHz 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@ 3 KHz &gt; -75 dBC/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2 VCOs Locked to Different P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quency West Source Not Locked to CT1DM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76520" y="1828800"/>
          <a:ext cx="58672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8672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990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NOT Locked to 10 MHz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er 5616 MHz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13.1 dBC/Hz @ 10 KHz Phas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@ 3 KHz –110 dBC/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West Source Locked to 10 MHz Reference with CT1DM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676520"/>
          <a:ext cx="594360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9436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99072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Locked to 10 MHz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16 MHz Signal with Rip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KHz RB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Not Put O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Left to Investi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Loop Filter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ing of Loop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Jitter/Phase Noise on 5616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5616 MHz Nois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er Sh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 Regulator @ Current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Lower Input Voltage – 10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ing of Ref Lock Board &amp; Frequency Wes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d Resistors and Caps on 74F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Found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Level &amp; Jitter of Reference Oscil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Level &amp; Jitter of VC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Level &amp; Jitter of V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Report Status @ Microwave Update Oc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447920"/>
            <a:ext cx="7391160" cy="487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1503360"/>
          <a:ext cx="647712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03360"/>
                    <a:ext cx="64771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West Source Mechanical M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MHz Reference - ~ 4.3 V pk-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CXO Output - 93.6 MHz - ~ 3.6 V pk-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5120" y="247644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une - 1 Volt/Div - 5 ms/D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437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1DMK REF LOC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per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4 - L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6 - M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990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2:18:27Z</dcterms:created>
  <dc:creator>Wes Atchiosn</dc:creator>
  <dc:description/>
  <dc:language>en-US</dc:language>
  <cp:lastModifiedBy>Marconi</cp:lastModifiedBy>
  <dcterms:modified xsi:type="dcterms:W3CDTF">2004-05-19T18:47:30Z</dcterms:modified>
  <cp:revision>19</cp:revision>
  <dc:subject/>
  <dc:title>No Slide Title</dc:title>
</cp:coreProperties>
</file>