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57ECD-4A8B-4894-8CCF-7F3275C03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327D0-247A-4561-BD21-5A3F341FE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AA298-5304-4560-ABB2-1E8C8A510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FC3BA-1B61-4900-83BF-AE4FA6F671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5746F-695B-4A5C-9351-B99584BB50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99E62-974B-475F-9844-3452E9943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6FDCB-B2DB-4DB2-8168-24E5B0989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08AC4-1E5F-434A-9474-81DA24A03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95280" y="22824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096F0-E49F-4189-A069-A021A66F7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F9BCA-8DF5-44B0-B1B0-DBA679F93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B33CA-6EDF-4EFA-9227-1638D4129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20466-ACDF-4D20-B4F3-1E5CA8BB5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rot="10800000">
            <a:off x="379800" y="0"/>
            <a:ext cx="2210040" cy="60948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-49320" y="1440"/>
          <a:ext cx="9193320" cy="685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9320" y="1440"/>
                    <a:ext cx="919332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-57240" y="5867280"/>
            <a:ext cx="92012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429000" y="6324480"/>
            <a:ext cx="3048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opyright © 2004 – John Beadles, N5O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4880" y="378000"/>
            <a:ext cx="51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5H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896240" y="243000"/>
            <a:ext cx="1291680" cy="1110600"/>
            <a:chOff x="7896240" y="243000"/>
            <a:chExt cx="1291680" cy="1110600"/>
          </a:xfrm>
        </p:grpSpPr>
        <p:sp>
          <p:nvSpPr>
            <p:cNvPr id="7" name=""/>
            <p:cNvSpPr/>
            <p:nvPr/>
          </p:nvSpPr>
          <p:spPr>
            <a:xfrm>
              <a:off x="8459280" y="243000"/>
              <a:ext cx="46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ort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58560" y="441360"/>
              <a:ext cx="494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x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58560" y="928800"/>
              <a:ext cx="729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crowa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58200" y="1122480"/>
              <a:ext cx="558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ociet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60000" y="642960"/>
              <a:ext cx="61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T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" name=""/>
            <p:cNvGraphicFramePr/>
            <p:nvPr/>
          </p:nvGraphicFramePr>
          <p:xfrm>
            <a:off x="7896240" y="276120"/>
            <a:ext cx="638280" cy="1067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896240" y="276120"/>
                      <a:ext cx="63828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1"/>
          </p:nvPr>
        </p:nvSpPr>
        <p:spPr>
          <a:xfrm>
            <a:off x="4568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9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2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4387-A4B1-4D5B-A0F9-961BBF243360}" type="slidenum">
              <a:rPr b="1" i="1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-87120" y="-360"/>
            <a:ext cx="9273960" cy="6858360"/>
            <a:chOff x="-87120" y="-360"/>
            <a:chExt cx="9273960" cy="6858360"/>
          </a:xfrm>
        </p:grpSpPr>
        <p:sp>
          <p:nvSpPr>
            <p:cNvPr id="55" name=""/>
            <p:cNvSpPr/>
            <p:nvPr/>
          </p:nvSpPr>
          <p:spPr>
            <a:xfrm flipH="1" rot="10800000">
              <a:off x="367560" y="0"/>
              <a:ext cx="2212920" cy="6094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6" name=""/>
            <p:cNvGraphicFramePr/>
            <p:nvPr/>
          </p:nvGraphicFramePr>
          <p:xfrm>
            <a:off x="-61560" y="1440"/>
            <a:ext cx="9205560" cy="685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61560" y="1440"/>
                      <a:ext cx="9205560" cy="685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-87120" y="378000"/>
              <a:ext cx="517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W5H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894440" y="243000"/>
              <a:ext cx="1292400" cy="1110600"/>
              <a:chOff x="7894440" y="243000"/>
              <a:chExt cx="1292400" cy="1110600"/>
            </a:xfrm>
          </p:grpSpPr>
          <p:sp>
            <p:nvSpPr>
              <p:cNvPr id="60" name=""/>
              <p:cNvSpPr/>
              <p:nvPr/>
            </p:nvSpPr>
            <p:spPr>
              <a:xfrm>
                <a:off x="8458200" y="243000"/>
                <a:ext cx="461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or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457120" y="441360"/>
                <a:ext cx="494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ex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457480" y="928800"/>
                <a:ext cx="729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icrowav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456760" y="1122480"/>
                <a:ext cx="558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ociet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458920" y="642960"/>
                <a:ext cx="61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NT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65" name=""/>
              <p:cNvGraphicFramePr/>
              <p:nvPr/>
            </p:nvGraphicFramePr>
            <p:xfrm>
              <a:off x="7894440" y="276120"/>
              <a:ext cx="638640" cy="1067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894440" y="276120"/>
                        <a:ext cx="638640" cy="1067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llas Area HSMM Updat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ch 10,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John Beadles - N5OOM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North Texas Microwave Society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A2B91-EC95-400B-8504-CB27A08D57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ropolitan Area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SMM working group to investigate the creation of a Metropolitan Area Network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hould be designed as an alternative to landline based internet in the event of a major area outag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Need to find a high reliability internet feed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aybe a link to local SWB or MCI facility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irectway satellite as an emergency alternative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Would have to bring in local area clubs, RACES &amp; ARES orgs who would have to contribute, provide maintenanc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vestigate benefits of Part 15 vs Part 97 operati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enefit in partering with local WISP operators to extend network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vide wireless internet service to area Hams by structuring network as a co-op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A278A-B4A7-4A98-AEB3-00B7B2BF96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MCOMM AP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’m intending to build an emergency deployment access point to take to EMCOMM events.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ot tagged to be the staging site coordinator for Collin County ARES, so I have a proprietary interest in getting this don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nt the system to support staging site activit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ill structure so as to support public service events as well (good testing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7C787-02FB-46FA-B345-A1402AE131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MCOMM Access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55720" y="1676520"/>
          <a:ext cx="743112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1676520"/>
                    <a:ext cx="74311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6110280" y="3429000"/>
            <a:ext cx="2514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235080" indent="-235080">
              <a:lnSpc>
                <a:spcPct val="60000"/>
              </a:lnSpc>
              <a:spcBef>
                <a:spcPts val="524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60000"/>
              </a:lnSpc>
              <a:spcBef>
                <a:spcPts val="524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d Agency Lia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60000"/>
              </a:lnSpc>
              <a:spcBef>
                <a:spcPts val="524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ather Lia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60000"/>
              </a:lnSpc>
              <a:spcBef>
                <a:spcPts val="524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 &amp; Welfare Lia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3240" y="1708200"/>
            <a:ext cx="1353240" cy="45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6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Point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2408400"/>
            <a:ext cx="99072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dge to an internet conn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267080"/>
            <a:ext cx="990360" cy="228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L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4465800"/>
            <a:ext cx="1143000" cy="685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ptop configured as an EMCOMM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27760" y="1706400"/>
            <a:ext cx="1143000" cy="4572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ment in weatherproof 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94200" y="2971800"/>
            <a:ext cx="1143000" cy="4572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run up the Ethernet 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58F3B-BD0C-4841-82FC-64B3471973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MCOMM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Kit will include a prepackaged Laptop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Linux (or other Unix) installation with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Web server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Web forums package (w email link)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Custom web app for managing volunteers, deployment locations, logistics, schedules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Store ICS forms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Area maps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APRS web server, internet feed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TP server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Allow access to files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SMTP eMail server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nstant messaging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Need a lightweight DNS server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Need to figure out how to centralize web management for all of these feature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D6018-0133-40BB-9025-975DF4488C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MCOMM AP Hard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Kit to provide enough eqpt to establish a local area coverage netwo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SL router (provide for link back to internet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 to cover local are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ridge back to local are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y have additional equipment to extend network to other locations, larger area coverag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owerline networking eqpt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32D88-4064-4D80-96E6-F0BEB9C543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00MHz ISM Band W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60560"/>
          <a:ext cx="8229600" cy="34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60560"/>
                    <a:ext cx="822960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752560" y="1195560"/>
            <a:ext cx="363708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60000"/>
              </a:lnSpc>
              <a:spcBef>
                <a:spcPts val="524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802.11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60000"/>
              </a:lnSpc>
              <a:spcBef>
                <a:spcPts val="524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ndor proprietary chanelliz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60000"/>
              </a:lnSpc>
              <a:spcBef>
                <a:spcPts val="524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SS and FHSS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60000"/>
              </a:lnSpc>
              <a:spcBef>
                <a:spcPts val="524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tree penetration cap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60000"/>
              </a:lnSpc>
              <a:spcBef>
                <a:spcPts val="524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 Kbps to 2 Mbps bandwid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77E73-3C50-4816-B7CD-58EB5647BA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11360" y="304920"/>
            <a:ext cx="772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4 GHz (802.11b/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11360" y="1143000"/>
          <a:ext cx="7721280" cy="38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143000"/>
                    <a:ext cx="772128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1585440" y="5257800"/>
            <a:ext cx="59716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66680" indent="-166680">
              <a:lnSpc>
                <a:spcPct val="90000"/>
              </a:lnSpc>
              <a:spcBef>
                <a:spcPts val="675"/>
              </a:spcBef>
              <a:spcAft>
                <a:spcPts val="10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1b channels 1-6 overlap amateur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0000"/>
              </a:lnSpc>
              <a:spcBef>
                <a:spcPts val="675"/>
              </a:spcBef>
              <a:spcAft>
                <a:spcPts val="10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SAT requests not to use ch 1 due to sat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1600200"/>
            <a:ext cx="190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90000"/>
              </a:lnSpc>
              <a:spcBef>
                <a:spcPts val="675"/>
              </a:spcBef>
              <a:spcAft>
                <a:spcPts val="10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 overlapping 802.11b/g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0000"/>
              </a:lnSpc>
              <a:spcBef>
                <a:spcPts val="675"/>
              </a:spcBef>
              <a:spcAft>
                <a:spcPts val="1012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 MHz wide each, 5 MHz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239A8-0068-4495-8EC2-5498E43113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11360" y="304920"/>
            <a:ext cx="772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 GHz (802.11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560" y="1378080"/>
            <a:ext cx="3637080" cy="23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60000"/>
              </a:lnSpc>
              <a:spcBef>
                <a:spcPts val="524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non-overlapping 802.11a chan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60000"/>
              </a:lnSpc>
              <a:spcBef>
                <a:spcPts val="524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 MHz wide 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60000"/>
              </a:lnSpc>
              <a:spcBef>
                <a:spcPts val="524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sets of 4 chan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60000"/>
              </a:lnSpc>
              <a:spcBef>
                <a:spcPts val="524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x40mw ch for indo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60000"/>
              </a:lnSpc>
              <a:spcBef>
                <a:spcPts val="524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x200mw ch for indoor, outdo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60000"/>
              </a:lnSpc>
              <a:spcBef>
                <a:spcPts val="524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x800mw ch for outdo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60000"/>
              </a:lnSpc>
              <a:spcBef>
                <a:spcPts val="524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wer specified at the 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60000"/>
              </a:lnSpc>
              <a:spcBef>
                <a:spcPts val="524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re bandwidth reque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76440" y="1941480"/>
          <a:ext cx="7791120" cy="41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941480"/>
                    <a:ext cx="779112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68BB4-76C8-4505-80AA-FFAD759C7B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llas Area HSMM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SMM applications identifi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AWG HSMM Merging into NTM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T5NT access point in ope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rdination with national activit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am IP subnet sough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blic service ev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vangelism, training activit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etropolitan area network plann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mcomm access point develop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1B3F2-5661-4C5E-94B7-B54FD29593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SMM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Hospital / EOC interconnect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ocument Storage &amp; Acces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rinter Sharing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RLP Repeater Link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PRS Internet Fee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Local Event Managemen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nternet-based Weather Service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Regular Internet Servic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5CBA1-56AB-48DD-81CB-938748FAA2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WG HSMM merging with NT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N5PYK investigates NTMS interest in HSMM, finds widespread acceptanc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N5OOM investigates DAWG-HSMM interest in merging with NTMS, finds acceptance, no negative response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HSMM activities presented at Mar 6 NTMS meeting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AWG HSMM to discuss at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B7108-D81C-4C1E-B46C-971283C3CA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T5NT Test AP in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urrently a repackaged Linksys WAP11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Users need a fixed IP, must register MAC add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16 db hpol panel antenna pointing north toward McKinne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o inherent internet access, can only provide a bridge between cli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urrent reception repor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N5OOM received at 190 &amp; Plano Rd (1.9 mi) with 5db an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N5PYK did not receive in McKinney w 24 db grid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eed to re-point antenna to support Richardson “Wild Ride” bike rall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A250C-28DA-471D-9A62-D3EF5488C9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ion with Nationa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RRL HSMM working group notified of local activitie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National WG seeking volunteers for task group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SMM applications working group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adio Metro Area Network working group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oftware development working group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eking product reviews for QST or QEX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stallation of AP at W1AW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47B56-DAA4-4CC5-A6AA-BCE65CD96A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P Subnet S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ear that we’re going to have an RMAN, we’ll need a ham subne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nd list of national AMPERNET coordinators, but no obvious NTX coordinator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llowing up with investigation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Need to determine how we’d structure an RMAN network (one big subnet, or route between area subnets 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1B9D4-DB4B-4469-B322-6BE76E9A58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Service Activ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ichardson “Wild Ride” Bike Rally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ay 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Starts near Nortel, goes to Lake Lavon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Want to cover Start /Stop and 3 rest stop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Combination of direct coverage from Nortel AP, remote Internet link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ollin Classic Bike Rally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June 12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Short distance link between net control area with event logistics coordinator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Provide APRS-IS, custom web app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lano Balloon Festiva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Late September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Cover launch field, recovery team area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thers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72CAB-70DA-4659-B8E4-A27ED8E96A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ngelism,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AWG-HSMM meetings publicized by NTX Section Manag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eed to push out to area club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st create a set of introductory user writeup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ypes of HSMM equipmen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to buy an access poin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ifferences between Part 97, part 15 oper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amcom presentat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urrently 9 HSMM presentations, including basic HSMM, TCP/IP networking &amp; networking secur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2D116-BF81-4E41-B927-BADB021A12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6:19:55Z</dcterms:created>
  <dc:creator>Joseph Jurecka</dc:creator>
  <dc:description/>
  <dc:language>en-US</dc:language>
  <cp:lastModifiedBy>Joseph Jurecka</cp:lastModifiedBy>
  <dcterms:modified xsi:type="dcterms:W3CDTF">2004-03-11T15:37:20Z</dcterms:modified>
  <cp:revision>51</cp:revision>
  <dc:subject/>
  <dc:title>Slide 1</dc:title>
</cp:coreProperties>
</file>