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FAA0F-483B-4CDC-BFD7-526845E6A7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FAA97-D2A5-49BB-863E-1212783FB6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AE95D-6D6E-4842-91C2-61EF34FAC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81EE-1D6D-4D47-9B41-B4E048D59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3D892-2D75-4A7C-9478-40A27FA391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EAD9-AAEF-4A02-97E8-DBF47B75E9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19950D-553D-475D-821D-478251502D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E7B74-2E8C-4CB0-A86E-575E0BCCA0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95280" y="228240"/>
            <a:ext cx="6477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B8670-7D75-4476-8AEF-8434EAE44D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AC41B-8E52-48B3-8FEE-17738EA41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AEB16-FFFA-43C0-870A-56F55BFAC5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27B79-7743-40EE-9DDF-DF67B5DD23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4880" y="-360"/>
            <a:ext cx="9262800" cy="6858360"/>
            <a:chOff x="-74880" y="-360"/>
            <a:chExt cx="9262800" cy="6858360"/>
          </a:xfrm>
        </p:grpSpPr>
        <p:sp>
          <p:nvSpPr>
            <p:cNvPr id="1" name=""/>
            <p:cNvSpPr/>
            <p:nvPr/>
          </p:nvSpPr>
          <p:spPr>
            <a:xfrm flipH="1" rot="10800000">
              <a:off x="379800" y="0"/>
              <a:ext cx="2210040" cy="609480"/>
            </a:xfrm>
            <a:prstGeom prst="rtTriangl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" name=""/>
            <p:cNvGraphicFramePr/>
            <p:nvPr/>
          </p:nvGraphicFramePr>
          <p:xfrm>
            <a:off x="-49320" y="1440"/>
            <a:ext cx="9193320" cy="6856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-49320" y="1440"/>
                      <a:ext cx="9193320" cy="6856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" name=""/>
            <p:cNvSpPr/>
            <p:nvPr/>
          </p:nvSpPr>
          <p:spPr>
            <a:xfrm>
              <a:off x="-74880" y="378000"/>
              <a:ext cx="5176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W5H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" name=""/>
            <p:cNvGrpSpPr/>
            <p:nvPr/>
          </p:nvGrpSpPr>
          <p:grpSpPr>
            <a:xfrm>
              <a:off x="7896240" y="243000"/>
              <a:ext cx="1291680" cy="1110600"/>
              <a:chOff x="7896240" y="243000"/>
              <a:chExt cx="1291680" cy="1110600"/>
            </a:xfrm>
          </p:grpSpPr>
          <p:sp>
            <p:nvSpPr>
              <p:cNvPr id="6" name=""/>
              <p:cNvSpPr/>
              <p:nvPr/>
            </p:nvSpPr>
            <p:spPr>
              <a:xfrm>
                <a:off x="8459280" y="243000"/>
                <a:ext cx="461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or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458560" y="441360"/>
                <a:ext cx="4946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exas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458560" y="928800"/>
                <a:ext cx="7293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icrowav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458200" y="1122480"/>
                <a:ext cx="5587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ociety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460000" y="642960"/>
                <a:ext cx="61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Arial"/>
                  </a:rPr>
                  <a:t>NTM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1" name=""/>
              <p:cNvGraphicFramePr/>
              <p:nvPr/>
            </p:nvGraphicFramePr>
            <p:xfrm>
              <a:off x="7896240" y="276120"/>
              <a:ext cx="638280" cy="106704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2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7896240" y="276120"/>
                        <a:ext cx="638280" cy="10670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ftr" idx="1"/>
          </p:nvPr>
        </p:nvSpPr>
        <p:spPr>
          <a:xfrm>
            <a:off x="456840" y="63813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2"/>
          </p:nvPr>
        </p:nvSpPr>
        <p:spPr>
          <a:xfrm>
            <a:off x="6552720" y="6381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1C1C-4FAC-4DB9-A270-E8342E08FBAE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learn-orienteering.org/old/" TargetMode="External"/><Relationship Id="rId2" Type="http://schemas.openxmlformats.org/officeDocument/2006/relationships/hyperlink" Target="http://www.thecompassstore.com/whatisdec.html" TargetMode="External"/><Relationship Id="rId3" Type="http://schemas.openxmlformats.org/officeDocument/2006/relationships/hyperlink" Target="http://geomag.usgs.gov/faq.html" TargetMode="External"/><Relationship Id="rId4" Type="http://schemas.openxmlformats.org/officeDocument/2006/relationships/hyperlink" Target="http://geology.isu.edu/geostac/Field_Exercise/topomaps/bearing.htm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tenna Aiming Issues for Rov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es Atchis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WA5TKU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C7F08-C1E3-4231-86F2-15B6D54CC39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an Dead Men Vote Twice At Election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v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gnetic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ation (Declination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u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asterl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63013-4A60-4FFF-A49F-81D6E3BDD7D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as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corrected Heading Read Off the Compa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evia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ffects of Unknown Magnetic Fiel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utomobil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ower Line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ron Deposi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F023D-FA92-4031-A985-5351E1A154F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riation (Declination)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ffect of Magnetic North and True North Not in Same 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aries with Location on Eart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rection is in Terms of East or West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rection Changes with Tim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6028-5A6E-4B54-9CA5-81DB2F7921E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ru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eading with Deviation and Variation Correction Appli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ferenced to True Nort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Add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Easterly Corrections From Compass To Tru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B0429-5B47-4BAC-8BB5-A833C51FD1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nfus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rt With True From Computer Progra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asterly Errors Must be Subtracted When Changing from True to Compa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eviation is Unknown Use 0 Corr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40D73E-7CDB-4F9D-8764-6678B2F7DC8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GP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o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lculated Direc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plays Direction IF Mov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es from Batter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nfamiliar with Func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CD60A-C82B-4ABC-80FE-CFCC4A2BF8C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h Aim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ish Aimin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ss Ros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eac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now St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Landma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59789-EAB3-42F7-BFE9-2BF5A1A42D8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h Aim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as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rect for Magnetic Erro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ove Away from Automobile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te Object on Horizon with Compass in Direction of Intere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im Dish at Objected Sited on Horiz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9ECC1-FEB3-4CCF-9CC9-EA21BCAA99B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h Aim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ass Ros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ircle Marked in Degre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djustable Around Ma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ointer on Mas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t with Compas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t to Station Work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t to Beac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t to Landma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2F033-A964-4A40-A3FE-B0042ADC04E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sh Aim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p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GS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ut of Dat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ircraft Sectiona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Updated Regularly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p CD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de from USGS Data – Question Data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oad Map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ok for Lat/Long Mark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BABE-3C29-49FB-82FA-5AC5EBD084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nna Aiming Issues for R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hort Distance 6 Digit Grid Square Point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ass Correc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GP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Dish Aiming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85FF4-8A32-4F2E-A4AF-64BF87A5F3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Tools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now How to Us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ractice Us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Knowledge of Limitat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f Possible Visit Si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F304E-7CC5-4FD9-8132-1529B5595F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tenna Aiming Issues for Rov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References: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earn-orienteering.org/old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hecompassstore.com/whatisdec.htm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geomag.usgs.gov/faq.htm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geology.isu.edu/geostac/Field_Exercise/topomaps/bearing.ht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ttp://www.tpub.com/content/administration/14220/css/14220_69.ht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F0D80-F288-43DB-9655-519A8A2324E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Digit Point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24040" y="1643040"/>
            <a:ext cx="5766840" cy="4437000"/>
            <a:chOff x="1724040" y="1643040"/>
            <a:chExt cx="5766840" cy="4437000"/>
          </a:xfrm>
        </p:grpSpPr>
        <p:sp>
          <p:nvSpPr>
            <p:cNvPr id="59" name=""/>
            <p:cNvSpPr/>
            <p:nvPr/>
          </p:nvSpPr>
          <p:spPr>
            <a:xfrm>
              <a:off x="1724040" y="1905120"/>
              <a:ext cx="567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724040" y="3908520"/>
              <a:ext cx="567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24040" y="5911920"/>
              <a:ext cx="567036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890720" y="1738440"/>
              <a:ext cx="1440" cy="43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560840" y="1738440"/>
              <a:ext cx="1800" cy="43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227720" y="1738440"/>
              <a:ext cx="1800" cy="434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632560" y="164304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 Mi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rot="5400000">
              <a:off x="7239600" y="2898360"/>
              <a:ext cx="36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 Mi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05080" y="2887560"/>
              <a:ext cx="4140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12"/>
                  </a:moveTo>
                  <a:lnTo>
                    <a:pt x="25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5" y="23"/>
                  </a:lnTo>
                  <a:lnTo>
                    <a:pt x="10" y="25"/>
                  </a:lnTo>
                  <a:lnTo>
                    <a:pt x="16" y="25"/>
                  </a:lnTo>
                  <a:lnTo>
                    <a:pt x="21" y="23"/>
                  </a:lnTo>
                  <a:lnTo>
                    <a:pt x="25" y="18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98960" y="4884840"/>
              <a:ext cx="52200" cy="5220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6"/>
                  </a:moveTo>
                  <a:lnTo>
                    <a:pt x="32" y="10"/>
                  </a:lnTo>
                  <a:lnTo>
                    <a:pt x="28" y="5"/>
                  </a:lnTo>
                  <a:lnTo>
                    <a:pt x="24" y="2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5"/>
                  </a:lnTo>
                  <a:lnTo>
                    <a:pt x="2" y="10"/>
                  </a:lnTo>
                  <a:lnTo>
                    <a:pt x="0" y="16"/>
                  </a:lnTo>
                  <a:lnTo>
                    <a:pt x="2" y="23"/>
                  </a:lnTo>
                  <a:lnTo>
                    <a:pt x="5" y="28"/>
                  </a:lnTo>
                  <a:lnTo>
                    <a:pt x="11" y="32"/>
                  </a:lnTo>
                  <a:lnTo>
                    <a:pt x="17" y="33"/>
                  </a:lnTo>
                  <a:lnTo>
                    <a:pt x="24" y="32"/>
                  </a:lnTo>
                  <a:lnTo>
                    <a:pt x="28" y="28"/>
                  </a:lnTo>
                  <a:lnTo>
                    <a:pt x="32" y="23"/>
                  </a:lnTo>
                  <a:lnTo>
                    <a:pt x="33" y="16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873760" y="4890960"/>
              <a:ext cx="41400" cy="414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12"/>
                  </a:moveTo>
                  <a:lnTo>
                    <a:pt x="25" y="7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3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10" y="26"/>
                  </a:lnTo>
                  <a:lnTo>
                    <a:pt x="16" y="26"/>
                  </a:lnTo>
                  <a:lnTo>
                    <a:pt x="21" y="23"/>
                  </a:lnTo>
                  <a:lnTo>
                    <a:pt x="25" y="18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73760" y="2887560"/>
              <a:ext cx="41400" cy="39960"/>
            </a:xfrm>
            <a:custGeom>
              <a:avLst/>
              <a:gdLst/>
              <a:ahLst/>
              <a:rect l="l" t="t" r="r" b="b"/>
              <a:pathLst>
                <a:path w="26" h="25">
                  <a:moveTo>
                    <a:pt x="26" y="12"/>
                  </a:moveTo>
                  <a:lnTo>
                    <a:pt x="25" y="7"/>
                  </a:lnTo>
                  <a:lnTo>
                    <a:pt x="21" y="2"/>
                  </a:lnTo>
                  <a:lnTo>
                    <a:pt x="16" y="0"/>
                  </a:lnTo>
                  <a:lnTo>
                    <a:pt x="10" y="0"/>
                  </a:lnTo>
                  <a:lnTo>
                    <a:pt x="4" y="2"/>
                  </a:lnTo>
                  <a:lnTo>
                    <a:pt x="1" y="7"/>
                  </a:lnTo>
                  <a:lnTo>
                    <a:pt x="0" y="12"/>
                  </a:lnTo>
                  <a:lnTo>
                    <a:pt x="1" y="18"/>
                  </a:lnTo>
                  <a:lnTo>
                    <a:pt x="4" y="23"/>
                  </a:lnTo>
                  <a:lnTo>
                    <a:pt x="10" y="25"/>
                  </a:lnTo>
                  <a:lnTo>
                    <a:pt x="16" y="25"/>
                  </a:lnTo>
                  <a:lnTo>
                    <a:pt x="21" y="23"/>
                  </a:lnTo>
                  <a:lnTo>
                    <a:pt x="25" y="18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ff0000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057400" y="3733920"/>
              <a:ext cx="84240" cy="83880"/>
            </a:xfrm>
            <a:prstGeom prst="rect">
              <a:avLst/>
            </a:prstGeom>
            <a:solidFill>
              <a:srgbClr val="33996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061040" y="4075200"/>
              <a:ext cx="84240" cy="8388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061040" y="4159080"/>
              <a:ext cx="144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088040" y="4159080"/>
              <a:ext cx="12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115040" y="4159080"/>
              <a:ext cx="12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142040" y="4149720"/>
              <a:ext cx="3240" cy="9360"/>
            </a:xfrm>
            <a:custGeom>
              <a:avLst/>
              <a:gdLst/>
              <a:ahLst/>
              <a:rect l="l" t="t" r="r" b="b"/>
              <a:pathLst>
                <a:path w="3" h="9">
                  <a:moveTo>
                    <a:pt x="0" y="9"/>
                  </a:moveTo>
                  <a:lnTo>
                    <a:pt x="3" y="9"/>
                  </a:lnTo>
                  <a:lnTo>
                    <a:pt x="3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7145280" y="4122360"/>
              <a:ext cx="180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7145280" y="4095360"/>
              <a:ext cx="180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37360" y="4075200"/>
              <a:ext cx="7920" cy="79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6" y="0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7111800" y="4075200"/>
              <a:ext cx="12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061040" y="4119480"/>
              <a:ext cx="1800" cy="12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061040" y="4146480"/>
              <a:ext cx="1800" cy="12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41640" y="382572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227320" y="3830760"/>
              <a:ext cx="54000" cy="28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314440" y="3836880"/>
              <a:ext cx="54000" cy="50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01920" y="384336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87600" y="3848040"/>
              <a:ext cx="540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575080" y="385452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0760" y="3859200"/>
              <a:ext cx="540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7880" y="386712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35360" y="387180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21040" y="387828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08160" y="3882960"/>
              <a:ext cx="540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095640" y="388944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181320" y="389556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68800" y="390060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354480" y="3906720"/>
              <a:ext cx="54000" cy="50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41600" y="391320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9080" y="3919680"/>
              <a:ext cx="52200" cy="28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614760" y="392436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701880" y="393048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89360" y="3936960"/>
              <a:ext cx="5256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394164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962520" y="394812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048200" y="3952800"/>
              <a:ext cx="540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135320" y="396072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22800" y="396540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08480" y="397188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395960" y="3976560"/>
              <a:ext cx="53640" cy="50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83080" y="3983040"/>
              <a:ext cx="5256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68760" y="3989520"/>
              <a:ext cx="54000" cy="28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656240" y="399420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741920" y="4000680"/>
              <a:ext cx="54000" cy="28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29040" y="4005360"/>
              <a:ext cx="540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16520" y="4011480"/>
              <a:ext cx="52200" cy="50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002200" y="401796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089680" y="4022640"/>
              <a:ext cx="522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76800" y="4029120"/>
              <a:ext cx="5256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2480" y="4035600"/>
              <a:ext cx="54000" cy="28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49960" y="404172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35640" y="404640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22760" y="4052880"/>
              <a:ext cx="540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610240" y="4059360"/>
              <a:ext cx="52200" cy="28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95920" y="4064040"/>
              <a:ext cx="540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783400" y="4070520"/>
              <a:ext cx="52200" cy="28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69080" y="4075200"/>
              <a:ext cx="540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956200" y="408312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43680" y="408780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29360" y="4094280"/>
              <a:ext cx="54000" cy="28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216480" y="4098960"/>
              <a:ext cx="540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03960" y="4105440"/>
              <a:ext cx="52560" cy="28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89640" y="411156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77120" y="4116240"/>
              <a:ext cx="52200" cy="50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562800" y="4122720"/>
              <a:ext cx="54000" cy="46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649920" y="4129200"/>
              <a:ext cx="540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7400" y="4135320"/>
              <a:ext cx="5220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23080" y="4140360"/>
              <a:ext cx="54000" cy="288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910560" y="4146480"/>
              <a:ext cx="5364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997680" y="4152960"/>
              <a:ext cx="52560" cy="32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083360" y="4157640"/>
              <a:ext cx="20880" cy="1440"/>
            </a:xfrm>
            <a:prstGeom prst="line">
              <a:avLst/>
            </a:prstGeom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6038640" y="1898640"/>
              <a:ext cx="6120" cy="6480"/>
            </a:xfrm>
            <a:prstGeom prst="line">
              <a:avLst/>
            </a:prstGeom>
            <a:ln w="64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57400" y="3809880"/>
              <a:ext cx="3809880" cy="1067040"/>
            </a:xfrm>
            <a:prstGeom prst="line">
              <a:avLst/>
            </a:prstGeom>
            <a:ln w="9360">
              <a:solidFill>
                <a:srgbClr val="ff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200400" y="2895480"/>
              <a:ext cx="3886200" cy="1219320"/>
            </a:xfrm>
            <a:prstGeom prst="line">
              <a:avLst/>
            </a:prstGeom>
            <a:ln w="9360">
              <a:solidFill>
                <a:srgbClr val="ff0000"/>
              </a:solidFill>
              <a:prstDash val="lgDashDot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21522-A046-4928-B728-5C36BA25A84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Digit Point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41600" y="1600200"/>
          <a:ext cx="58608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1600" y="1600200"/>
                    <a:ext cx="58608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5BFA-7128-4C6A-9D73-E5DC2E1E8C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Digit Point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354400"/>
            <a:ext cx="51814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36 inch Dis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 Width ~ 2.5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X = 2 / Tan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Distance Between Stations =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45.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105520" y="1447920"/>
          <a:ext cx="37796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447920"/>
                    <a:ext cx="37796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F0BD4-2DDC-41E1-AD6D-E584CF2BFD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Digit Point E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Points to Ponde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Be Aware of Close in Erro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uld Be Cause of Missed Close in Contac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Knowledge of Area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Lat/Lo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24DA2-7824-49FE-AACE-A61698F76FE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Compass Error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gnetic Variation/Declin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Magnetic North and True North Not Sam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Error Varies with Location on Earth with Respect to Magnetic North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hanges with Tim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gnetic Devi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aries with Surrounding Magnetic Field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74692-8EE7-4258-844F-38FF1B9753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Magnetic Variation/Declination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143000" y="2057400"/>
            <a:ext cx="6886440" cy="419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63EB3-C917-4F8A-8D51-4B0CB17D04E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22824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2438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Arial"/>
              </a:rPr>
              <a:t>Variation Changes with Tim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p Contour Minutes/Year 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6248520" cy="5010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WWW.NTMS.OR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D0B64-7BC0-4202-A6DB-6CF147E915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19:55Z</dcterms:created>
  <dc:creator>Joseph Jurecka</dc:creator>
  <dc:description/>
  <dc:language>en-US</dc:language>
  <cp:lastModifiedBy>Joseph Jurecka</cp:lastModifiedBy>
  <dcterms:modified xsi:type="dcterms:W3CDTF">2004-12-06T17:03:25Z</dcterms:modified>
  <cp:revision>43</cp:revision>
  <dc:subject/>
  <dc:title>Slide 1</dc:title>
</cp:coreProperties>
</file>