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195F-74A0-4064-8A0B-E8FB3D4C5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9925-6770-405D-A2B4-425FEF359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162C-6C01-4FAA-B87D-276F4C53E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3FFA-9FEA-4644-AEF2-5EACAA0B4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D82A-6350-495A-821C-B6E1EE9A0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AF73-8D96-40C7-ABED-36237515D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A413-E540-49C9-8505-9C198471A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673C-3BB8-43E0-88D9-5FA5DBF07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EDC0-532F-415B-9ADD-65062A48E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249F-B171-49D1-8019-4BEC03CC1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BAD1-10C7-4D10-BEDE-0BDACF76D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816A-F7D1-4D5F-A5C8-5944A9389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57240" y="5867280"/>
            <a:ext cx="920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29000" y="6324480"/>
            <a:ext cx="304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pyright © 2004 – John Beadles, N5O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7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6F2-55D1-447F-BF50-259E17333CBB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attlewireless.ne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87120" y="-360"/>
            <a:ext cx="9273960" cy="6858360"/>
            <a:chOff x="-87120" y="-360"/>
            <a:chExt cx="9273960" cy="6858360"/>
          </a:xfrm>
        </p:grpSpPr>
        <p:sp>
          <p:nvSpPr>
            <p:cNvPr id="56" name=""/>
            <p:cNvSpPr/>
            <p:nvPr/>
          </p:nvSpPr>
          <p:spPr>
            <a:xfrm flipH="1" rot="10800000">
              <a:off x="367560" y="0"/>
              <a:ext cx="221292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" name=""/>
            <p:cNvGraphicFramePr/>
            <p:nvPr/>
          </p:nvGraphicFramePr>
          <p:xfrm>
            <a:off x="-61560" y="1440"/>
            <a:ext cx="9205560" cy="685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61560" y="1440"/>
                      <a:ext cx="920556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-8712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894440" y="243000"/>
              <a:ext cx="1292400" cy="1110600"/>
              <a:chOff x="7894440" y="243000"/>
              <a:chExt cx="1292400" cy="1110600"/>
            </a:xfrm>
          </p:grpSpPr>
          <p:sp>
            <p:nvSpPr>
              <p:cNvPr id="61" name=""/>
              <p:cNvSpPr/>
              <p:nvPr/>
            </p:nvSpPr>
            <p:spPr>
              <a:xfrm>
                <a:off x="845820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5712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5748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5676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45892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6" name=""/>
              <p:cNvGraphicFramePr/>
              <p:nvPr/>
            </p:nvGraphicFramePr>
            <p:xfrm>
              <a:off x="7894440" y="276120"/>
              <a:ext cx="638640" cy="106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4440" y="276120"/>
                        <a:ext cx="63864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03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the Linksys WRT-54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3819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ohn Beadles – N5OOM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rth Texas Microwave Socie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anuary 3, 2005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D467-F191-49C0-A52A-D0FCBABAAF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560" y="1197000"/>
            <a:ext cx="4578480" cy="5010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19280" y="2392200"/>
            <a:ext cx="3467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rom seattlewireless.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ote that the wireless segment is separate from the local lan segmen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AE12-72C0-415A-9846-6F73DB708E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ccess Point and Client modes are built into the 802.11x specification, which limits how units can be connected together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WDS is used to provide greater flexibility in linking wireless node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Are MAC address base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And use a special data frame that uses up to 4 MAC addresses in a frame rather than usual 3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Interoperability is not guarantee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Implementations may vary from vendor to vendor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But many products are based on the Broadcom chipset so may be compatibl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Bridge mod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Acts as a wired ethernet bridge between one or more AP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APs talk only to each other, clients are not allowe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Repeater mod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Provides connections between both APs and client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Reduces system throughput since radio is having to handle traffic both between clients and remote AP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ee also: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http://www.smallnetbuilder.com/Sections-article78-page1.php for detail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http://www.proxim.com/support/techbulletins/TB-046.pdf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8E95-A06A-48BE-98BB-839250A01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DS 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 a static IPs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or simplicity stay in the same subnet for all APs and clien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llect the wireless MAC address for each A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Write down a table of the wireless MAC address and the IP address for each AP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ote that some units have separate MAC addresses for the WAN port, the wired ethernet ports and the wireless port.  For this you want the wireless port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erify that your client can connect to each A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t all APs to same clear frequenc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t SSIDs on each A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WDS is MAC level bridging and does not care about SSID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your clients are mobile, APs should all share same SSID so that clients will roam across AP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or testing, may want to set different SSIDs so that you can see what you are connecting to, but then you will have to connect to them automatically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0ED6-605B-403C-897E-35ABAEF9E2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 with W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the AP function is left running on each WDS bridged unit, this serves to act as a legal 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ents still need to have some ID method, but if clients are hardwired to a bridge, this is is avoided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eed to see how to lock clients out while leaving the SSID broadcasting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E601-5974-443C-ACE6-B24D04426A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ed 2 Hop WDS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452600"/>
          <a:ext cx="876924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2600"/>
                    <a:ext cx="876924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471040" y="4692600"/>
            <a:ext cx="32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cable from switch port to switch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8680" y="5618160"/>
            <a:ext cx="29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Ps broadcasting call based S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 client connection tested to each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409B-C1D7-47C4-802E-45FD7D5FF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ed 3 Hop WDS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7200" y="1452600"/>
          <a:ext cx="8769600" cy="39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452600"/>
                    <a:ext cx="876960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110400" y="5618160"/>
            <a:ext cx="29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Ps broadcasting call based S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 client connection tested to each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E688-883C-4351-A9E7-915103A130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ttp://www.linksys.com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actory suppor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ww.wrt54g.co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wireless.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ather a lot of technical and programming info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ww.linksysinfo.org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6699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party info on a range of Linksys produc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rums.wirelessnederland.n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ultiple languages, but technical discussion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roadband Reports Linksys Foru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ww.broadbandreports.com/forum/linksy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odified WiFi for Ham radi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ww.qsl.net/kb9mwr/projects/wireless/modify.htm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ww.qsl.net/n9zia/wireless/index.htm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1EE9-FCED-40A8-916F-3A633F0C0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, what the heck are you doing and why should we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want to provide a failure resistant wireless backbone for metropolitan area ham digital syste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cholin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RLP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inlink2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P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elpa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peater contro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enefits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ill make internet access more resistant to failure of local internet serv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elp spread the cost of internet access across multiple clubs, individuals, organiz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D7F9-7EEA-4A64-9364-2477C3D06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gital Network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74640" y="1033560"/>
          <a:ext cx="7278840" cy="53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033560"/>
                    <a:ext cx="727884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6959-3C14-42A9-860B-BD2A06703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Linksys WRT-54g fit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Linksys WRT-54g turns out to be easily modifyable with firmware and hardware ext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vice uses Linux based firmware and can be flashed with customized ver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6699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arty firmware allows the xmit power to be increased, sometimes substantiall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3</a:t>
            </a:r>
            <a:r>
              <a:rPr b="0" lang="en-US" sz="2800" spc="-1" strike="noStrike" baseline="30000">
                <a:solidFill>
                  <a:srgbClr val="006699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arty firmware also provides for WDS bridg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BB30-0147-42F9-8B24-73F195C37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rom www.seattlewireless.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X Pw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31mw out of box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an be upgraded to 84mw in softwa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ports of 250mw using Sveasoft “Alchemy” firmwar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But beware of unconfirmed reports of overheating issu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ceive Sensitivity (unconfirmed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65dbm running 802.11g 54mb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-80dbm running 802.11b 11mb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C Pow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1.0? – 5v @ 2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2.0 – 12v @ 1a (internally regulated down to 3.3v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oltage regulation on the v2.0s is reported to be done by an AnaChip 1501-33, a 150KHz, 3A DC-DC converter with a 45v max imput voltage.  This might permit the direct use of 24v or (almost) 48v POE suppli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1F03-E2ED-4ED3-8592-CCC13AC74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rom www.seattlewireless.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1.x Broadcom BCM4702KPB – 125MH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2 – Broadcom BCM4712KPB – 200MHz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ash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1.x - AMD AM29LV320DB-90EI (32Mbit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2 – Intel TE28F320 C3 flash 32Mbi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x IC42S164000 (64Mbit or 4Mx16) Ram Chip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1.0 – Mini PCI Linksys / Broadcom w dual Hirose connecto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1.1 – Integrated onto motherboard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2 – Integrated Broadcom BCM2050KW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5E99-0F5A-4DC2-998D-1A5AFB08E9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rna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7360" y="1943280"/>
            <a:ext cx="3963960" cy="2971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76840" y="1943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22960" y="587844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s snarfed from seattlewireles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EA76-F611-45A4-B33F-6CB9B2A48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.0 Internal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98440" y="898560"/>
            <a:ext cx="6745320" cy="50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22960" y="608472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s snarfed from seattlewireless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15D4-9DE3-469D-BB61-B4E00C630F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rdware &amp; Software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Firmwar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01.4 – Linux kernel 2.4.5, broken WPA security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02.1 – 802.1g standard update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30.1 – 802.11g standard compliance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30.7 - Fixe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41.2 – Changed web layou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42.2 – Linux kernel 2.4.20, other fixe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.42.3 - Fixe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.00.8 – Updated wireless drive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.02.2 – Repeater suppor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.04.3 – Numerous added feature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.04.4 – Updated wireless drive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3.01.3 – Supports v2.2 hdw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RT-54Gv1.0 – 5v w separate wireles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RT-54Gv1.1 – 12v with integrated wireless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RT-54Gv2.0 – More chipset integration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RT-54Gv2.2 – Updated ethernet controller?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RT-54GSv1.0 – Speedbooster - More ram &amp; flash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006699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 Party Firmwar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Sveasof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ww.sveasoft.com/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any unix commands and RF control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Support by subscription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yperWR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ww.hyperdrive.be/hyperwrt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Stays close to original firmware but with added features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-fi Box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ifi-box.sourceforge.net/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wr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ww.portless.net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Provides a captive portal based on NoCatSplash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tbox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www.batbox.org/wrt54g-linux.html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Adds misc unix tools for box exploration purposes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OpenWRT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http://openwrt.org/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inimal firmware with support for add-ons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CDC3-D0E6-4F6F-86C1-C8FB0D2E1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5-01-12T20:35:26Z</dcterms:modified>
  <cp:revision>9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9333585</vt:r8>
  </property>
  <property fmtid="{D5CDD505-2E9C-101B-9397-08002B2CF9AE}" pid="3" name="_AuthorEmail">
    <vt:lpwstr>beadles@americasm01.nt.com</vt:lpwstr>
  </property>
  <property fmtid="{D5CDD505-2E9C-101B-9397-08002B2CF9AE}" pid="4" name="_AuthorEmailDisplayName">
    <vt:lpwstr>Beadles, John-Thomas [RICH1:2795:EXCH]</vt:lpwstr>
  </property>
  <property fmtid="{D5CDD505-2E9C-101B-9397-08002B2CF9AE}" pid="5" name="_EmailSubject">
    <vt:lpwstr>NTMS presentation - Intro to WRT-54G</vt:lpwstr>
  </property>
  <property fmtid="{D5CDD505-2E9C-101B-9397-08002B2CF9AE}" pid="6" name="_ReviewingToolsShownOnce">
    <vt:lpwstr/>
  </property>
</Properties>
</file>