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6082-51F9-4EEA-8779-8B758D64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1770-3997-4810-B578-274F5F1B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8D4A-0617-4A08-9916-C6FC0222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BC6-5384-4F2B-8051-8ED971461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7FF8C-6582-4A9A-A96D-567939E72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F1FF-39B9-4B7F-AFC0-D1778E06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4DE-542E-42F8-8FB7-D51EDDEC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758A-EC72-451C-B3D5-2D3745F3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C20E-F236-473C-B247-5EF0F7A8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88D5-2173-4B43-BC91-8B5F37F6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90CAC-EDC0-4073-AE74-B363A956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BB2B-48A6-4821-8DFB-4735A638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2E11-5C4B-463B-BA75-A2C5E01E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0E2AB-AC0D-454C-8E78-75FD6C33C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1E46-9654-4FB3-AF9C-B0777F36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822F-2917-4FF3-810B-81DE8BC5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8E98-1F23-4BA9-8571-1AAED1FA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3DE6-9CD7-4F2A-A327-EBDCF4356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899E-CC10-4339-B946-8705707E0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C9CA-CFFD-49E5-AF74-025F9BCA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992-775F-4026-9269-7BE2D910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57C-EAE5-4728-A3F6-6D8D87ABE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97AD-C724-46CF-B5A8-C82AF807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136-3890-4E22-8C82-EC1578FC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ED4E-C6D7-40A7-AEFF-F9D48B13A67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AB4D-86D0-48F3-B5C5-906432E7AE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JT44 Observations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N5PYK – Joe Jurecka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200+ miles on 10 GHz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722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T-44 Recep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55931  0  -35  1.1  589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55931  0  -35  1.1  589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201  0  -21 -1.2 -166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231  0  -39  2.1  567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231  0  -39  2.1  567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231  0  -39  2.1  567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231  0  -39  2.1  567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431  1  -30 -0.7  554    *   OCLL?VIMXNULFWTZGT7CJ8         DO C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501  1  -23 -1.9  194    *   RRQSSRRRQRMRSRQSRZRRRR         RR R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531  0  -32  0.2  436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601  2  -25 -1.9  323    *   624191616157507184846Q         61 4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631  0  -39  1.0  393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701  3  -20 -1.8  462    *   M7PYN W50UA EM05 #00##         0Y 0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731  0  -37 -1.2  596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801  4  -27 -1.9  601    *   M.PYP.W.LUA$GS152/A5?.         A. ?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831  0  -39  1.5  495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901  2  -20 -1.9  312    *   N3NYK W5LUA,EM52,, / #         N, ,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0931  0  -29  2.1  474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001  0  -22 -1.9  458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031  0  -39 -0.4  501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101  0  -25  3.8  264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101  0  -25  3.8  264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101  0  -25  3.8  264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231  0  -39  2.7  556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301  0  -28 -0.1   90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331  0  -34  2.3  351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401  0  -24 -1.1 -145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431  0  -34  1.4  321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501  0  -23 -0.1   84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501  0  -23 -0.1   84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501  0  -23 -0.1   84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631  0  -39 -1.7  582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701  1  -22 -1.9 -319    *   45PMNVV4MTA 5PPYQ W5UU         P  W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731  1  -30  2.0  578    *   TDK4MMZ?0R.R7FM/VB0PH$         H? P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801  0  -20 -1.7 -337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831  0  -36  0.5  367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901  2  -18 -1.9 -301    *   O6OYK W5LUA N5PZL W6PV         W  X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2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aeaea"/>
                </a:solidFill>
                <a:latin typeface="Verdana"/>
              </a:rPr>
              <a:t>161931  0  -33  1.6  489</a:t>
            </a: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1905120" y="1371600"/>
            <a:ext cx="0" cy="2286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1371600"/>
            <a:ext cx="17524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43920" y="156060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requency offs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crowave JT44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ocal oscillator stability causes significant issues when decoding on microwav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hort term stability is a mu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requency accuracy is a must (unless you can hear the signal and tune it in audibly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JT44 on lower band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less tropo is there to assist, the best time for DX on VHF/UHF is during the day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ore aircraft to scatter signals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rth Texas to Jackson, MS possible via aircraft scatter with a modest beam and 50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th enhancement, significant improvements possibl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8:09:27Z</dcterms:created>
  <dc:creator>Joseph Jurecka</dc:creator>
  <dc:description/>
  <dc:language>en-US</dc:language>
  <cp:lastModifiedBy>Joseph Jurecka</cp:lastModifiedBy>
  <dcterms:modified xsi:type="dcterms:W3CDTF">2004-02-07T15:17:51Z</dcterms:modified>
  <cp:revision>5</cp:revision>
  <dc:subject/>
  <dc:title>JT44 Observations</dc:title>
</cp:coreProperties>
</file>