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C7D-3638-4DCD-8F02-BF8C692D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5DBD-C65A-4FDB-A2AE-949FB890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D12E-F73A-4D43-A888-EC6F05E46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129-DC28-4F03-A97D-2AD018D24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A2528-6C32-4EF7-AACD-CB441E041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59CD-53D4-4FA0-BA77-5A954889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16E42-7C70-4A98-B355-118779B4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3B90-092A-4184-8DB5-A7E31E35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8869-E1A3-43FD-B214-EB3E2DDC7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2518-756F-4949-9EB1-FDE5DC79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F374-DC43-4709-A5E2-9C14553A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736-164B-4D3A-8B4D-E295E48A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72EE-F923-49A0-9344-4D97F85E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CFD33-8FAB-4162-BADF-91EE8D7E8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33D0-4CD7-46BB-AC93-7DBE088A7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A160-52C0-4179-8664-1BF6D6AB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DE3A9-BF1D-4A8B-AA49-6FE0FD5E7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7758-3533-4E56-B9D4-A955A8CE3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009-38C2-44E8-A304-8EFD2B01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82D7-6ED6-47C6-8E2B-1BFF36C9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3502-A021-40F3-89CB-D209E0B9F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7BED-307C-4CF9-93DF-5F67FDD3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2C7B-B06A-4058-8A42-30904CF3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2994-FA1B-43D6-AC26-A64727D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457C-34F8-48BD-91E9-AF84746E89B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9146-F344-45DB-A18B-CC751E6CDF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71B6-BA94-4633-8D76-8FFD4199D581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6D7A-5C03-48E5-90F8-E21DFD659A3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90560" y="13712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Arial Narrow"/>
              </a:rPr>
              <a:t>A 10 GHz repeater using junk box components</a:t>
            </a:r>
            <a:endParaRPr b="1" lang="en-US" sz="6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9880" y="43434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ry Lauterbach AD6F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7378-3EF9-4E21-B70E-40314DAC8D3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69CC782-146C-4F14-9D40-6B55F159C9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eacon / ID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bottom edge of passb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to 17 dbm output level, 10db below maximum out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W ID: call and grid square every 9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active par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IC 16F84 and NE6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6053-CD9F-4AFC-8424-63A71F66AD5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5D8C0-7FC9-4E31-9AEF-5D4F8E2899DC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ontrol Link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440 FM receiver and DTMF decoder contro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mit On/O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ceive On/Of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/Low pow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ranslating/Non-transla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igh/Low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A5B-9367-427B-81B3-97DF1B26F07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DF6E2C-9A5B-4E47-A973-FD41288747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ntenna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o waveguide slot antenn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1’ vertical distance between xmit &amp; rcv antenn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6 slots, 10 db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1GHZ spreadsheet used to calculate slot spacing/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aylor amplitude distribu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ngs” for more uniform patte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26E2-50B6-4B7A-8204-29985180D7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D3AB6-0C6B-4968-AE47-4ED1ACCBAF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G_1812" descr=""/>
          <p:cNvPicPr/>
          <p:nvPr/>
        </p:nvPicPr>
        <p:blipFill>
          <a:blip r:embed="rId1"/>
          <a:stretch/>
        </p:blipFill>
        <p:spPr>
          <a:xfrm>
            <a:off x="1752480" y="1143000"/>
            <a:ext cx="5730840" cy="4299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486-F3E1-48A5-87E6-34D610D82DB2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2318A-AF79-430D-B05F-8C62979D86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SLOTORG" descr=""/>
          <p:cNvPicPr/>
          <p:nvPr/>
        </p:nvPicPr>
        <p:blipFill>
          <a:blip r:embed="rId1"/>
          <a:stretch/>
        </p:blipFill>
        <p:spPr>
          <a:xfrm>
            <a:off x="4648320" y="152280"/>
            <a:ext cx="4267080" cy="3106800"/>
          </a:xfrm>
          <a:prstGeom prst="rect">
            <a:avLst/>
          </a:prstGeom>
          <a:ln w="0">
            <a:noFill/>
          </a:ln>
        </p:spPr>
      </p:pic>
      <p:pic>
        <p:nvPicPr>
          <p:cNvPr id="117" name="SLOTNEW" descr=""/>
          <p:cNvPicPr/>
          <p:nvPr/>
        </p:nvPicPr>
        <p:blipFill>
          <a:blip r:embed="rId2"/>
          <a:stretch/>
        </p:blipFill>
        <p:spPr>
          <a:xfrm>
            <a:off x="304920" y="1981080"/>
            <a:ext cx="4278240" cy="3116520"/>
          </a:xfrm>
          <a:prstGeom prst="rect">
            <a:avLst/>
          </a:prstGeom>
          <a:ln w="0">
            <a:noFill/>
          </a:ln>
        </p:spPr>
      </p:pic>
      <p:pic>
        <p:nvPicPr>
          <p:cNvPr id="118" name="SLOTEL" descr=""/>
          <p:cNvPicPr/>
          <p:nvPr/>
        </p:nvPicPr>
        <p:blipFill>
          <a:blip r:embed="rId3"/>
          <a:stretch/>
        </p:blipFill>
        <p:spPr>
          <a:xfrm>
            <a:off x="4724280" y="3581280"/>
            <a:ext cx="4149720" cy="3022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DB77-7129-4EA4-8AD9-B2872F8D8E25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456E9-7A3A-4947-9957-952FD8BBCC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Long Path Calcul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7NOM to repea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11Km: 157 db path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113 dbm for full outpu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57 – 113 = 44 dbm erp (20 mw and 18” dish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to K7NO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 dbm erp – 157 = -120 db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4 KHz BW, 3 db NF = -140 db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0 db s/n with isotropic anten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300B-67C3-4214-A103-135A4F64E4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EEB86-BD37-4B9C-8C47-08627F4C989D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hort Path Calculatio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6FP to repeat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42 db path los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42 –113 = 29 dbm erp (100 mw and 16 slot omni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to AD6F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7 dbm – 142 = -105 db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2.4 KHz, 3 db NF = -140 db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35 db s/n with isotropic antenn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93A-AC57-4CC7-9B5E-EE81500386F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3BE26-C09F-42CA-9F41-F62CFA1756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Installation 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6196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. Allison, Fremont Californ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M97BL, 2658’ AS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tallation Tea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K6GSJ, WT6K, AA6IW,W6QI, KD6BP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0613-20DF-47E9-8ADA-011605619CE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F41544-D5AF-43D6-8599-004A7922A179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IMG_1834" descr=""/>
          <p:cNvPicPr/>
          <p:nvPr/>
        </p:nvPicPr>
        <p:blipFill>
          <a:blip r:embed="rId1"/>
          <a:stretch/>
        </p:blipFill>
        <p:spPr>
          <a:xfrm>
            <a:off x="5029200" y="1371600"/>
            <a:ext cx="3886200" cy="5181480"/>
          </a:xfrm>
          <a:prstGeom prst="rect">
            <a:avLst/>
          </a:prstGeom>
          <a:ln w="0">
            <a:noFill/>
          </a:ln>
        </p:spPr>
      </p:pic>
      <p:pic>
        <p:nvPicPr>
          <p:cNvPr id="126" name="IMG_1821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5060880" cy="37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7641-A372-45F0-AA17-6286C5F5647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58C3BE-A71C-444D-8FB7-1A06BF3EC0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151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Radio Mobile Coverage Plo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2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6286680" cy="571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4A8E-3912-4E5E-9CAB-22A2CA02728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AC02A-93F3-443E-A4D7-AB7FE3BDCFD7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Acknowledgement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erry N6IZ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n Diego ONCAR 199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ide band, 100 db ga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WW2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Der and DTMF decoder S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ts and help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ars AA6I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x KK6MK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D137-01F0-4158-9EB4-F09FC41F878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A82BFD-9A3A-4486-BF82-AAB3F5329B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ummary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ccessfully promotes activ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eekly microwave ne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source for rig test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be available world-wide through Echo-Lin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EEA6-997B-4185-96FF-E77CE6A1C7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EAA98A-6DAE-4779-ADD5-96277570CC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Goals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mote 10 GHz activity by providing a common line-of-site point between club memb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t it together quickly with parts on h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EFFA-3D6A-42FB-ADB6-2BF137EA83D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B8D28E-1DB1-4312-80E2-B3AA3203BE94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3BF-7E19-4E9F-9CDA-D559E105C9A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D45A9E-2427-43D9-B953-45691956ED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lock Diagra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1676520"/>
            <a:ext cx="647676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6476760" cy="4763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05120" y="1676520"/>
            <a:ext cx="6476760" cy="4763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CCA6-088E-4E06-895C-A690AA9CDB2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53A6D2-C032-4069-BA22-AE4B7C9B5C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LO Scheme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ystals on-hand dictated odd LO frequ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8 MHz first IF allows good image and LO rej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7 MHz IF allows common fil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put: 10368.575 +/- 22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: 10369.175 +/- 22 KH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acon: 10369.1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E240-B974-4545-8B4F-DE0489149C3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5827DF-5C08-4EA4-BA25-F52396D04A2D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System Gain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ise in 44 KHz BW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.7*10^-16 watt, 3db NF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127 dbm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eater gain set to 3 dbm noise output: 130 db g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gain with antennas 150 d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93A-A758-453C-86EF-207592662E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AF611A-2708-49B4-AE4F-842A48B9FBB8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Block Diagram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05120" y="1676520"/>
            <a:ext cx="6476760" cy="47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6476760" cy="47638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905120" y="1676520"/>
            <a:ext cx="6476760" cy="47638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1CA-5FE8-483A-8ACE-DE5531C7A9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286710-0776-428C-A798-731DE1EFBE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im00407" descr=""/>
          <p:cNvPicPr/>
          <p:nvPr/>
        </p:nvPicPr>
        <p:blipFill>
          <a:blip r:embed="rId1"/>
          <a:stretch/>
        </p:blipFill>
        <p:spPr>
          <a:xfrm>
            <a:off x="1143000" y="380880"/>
            <a:ext cx="6734160" cy="5773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D773-F076-4AC6-879D-89722348CC3C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C6D6D-8E8D-4845-8B28-7C1DE4F3B5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2T04:08:34Z</dcterms:created>
  <dc:creator/>
  <dc:description/>
  <dc:language>en-US</dc:language>
  <cp:lastModifiedBy>Joseph Jurecka</cp:lastModifiedBy>
  <cp:lastPrinted>2004-10-12T04:08:34Z</cp:lastPrinted>
  <dcterms:modified xsi:type="dcterms:W3CDTF">2004-10-16T17:11:22Z</dcterms:modified>
  <cp:revision>18</cp:revision>
  <dc:subject/>
  <dc:title>PowerPoint Presentation</dc:title>
</cp:coreProperties>
</file>