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7CA33-DE2C-4FCD-8BA4-E64595AA0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50006-DCEF-4A3B-8582-61EA9EF04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C5923-6F1F-4086-8735-2877BF9C7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8780D-7686-454F-A33B-1C3FED4B4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9885A-5934-4E39-AAB1-4C1DBA8BA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23CCD-7497-437E-9B93-9DC0FF84D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60660-5A94-4301-B7B4-E084F003E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E0463-2D8D-4A17-9666-259C42F3C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68EA5-208B-475E-B8AB-2D02BEFD6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9DB73-3F33-4975-AA05-F6F3B53DD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899F9-2176-4BD0-AE8A-740B66684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F3042-403D-4DFA-9C63-FF6EB44D3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2A88E-9CFE-4E21-8E8C-3620C1FC1E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oining The Fun On 1296 EM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y Liebman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5J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h at K7XQ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371600" y="1447920"/>
            <a:ext cx="670572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ME at WA1JO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2%20%20WA1JOF%20dish" descr=""/>
          <p:cNvPicPr/>
          <p:nvPr/>
        </p:nvPicPr>
        <p:blipFill>
          <a:blip r:embed="rId1"/>
          <a:stretch/>
        </p:blipFill>
        <p:spPr>
          <a:xfrm>
            <a:off x="914400" y="1871640"/>
            <a:ext cx="7338960" cy="498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8 Ft. Dish at WA1JO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3%20WA1JOF%2018'" descr=""/>
          <p:cNvPicPr/>
          <p:nvPr/>
        </p:nvPicPr>
        <p:blipFill>
          <a:blip r:embed="rId1"/>
          <a:stretch/>
        </p:blipFill>
        <p:spPr>
          <a:xfrm>
            <a:off x="1143000" y="1447920"/>
            <a:ext cx="703584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K1UW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4%20%20OK1UWA%20Dish" descr=""/>
          <p:cNvPicPr/>
          <p:nvPr/>
        </p:nvPicPr>
        <p:blipFill>
          <a:blip r:embed="rId1"/>
          <a:stretch/>
        </p:blipFill>
        <p:spPr>
          <a:xfrm>
            <a:off x="1828800" y="1851120"/>
            <a:ext cx="5099040" cy="500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hieving The Best Performance From Your LN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5%20LowNF" descr=""/>
          <p:cNvPicPr/>
          <p:nvPr/>
        </p:nvPicPr>
        <p:blipFill>
          <a:blip r:embed="rId1"/>
          <a:stretch/>
        </p:blipFill>
        <p:spPr>
          <a:xfrm>
            <a:off x="914400" y="1828800"/>
            <a:ext cx="7518240" cy="490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NA Attachment to Feedhor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tecting The LNA From The Weath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7%20Rec%20Port%20Protection" descr=""/>
          <p:cNvPicPr/>
          <p:nvPr/>
        </p:nvPicPr>
        <p:blipFill>
          <a:blip r:embed="rId1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0T16:22:25Z</dcterms:created>
  <dc:creator>axwar</dc:creator>
  <dc:description/>
  <dc:language>en-US</dc:language>
  <cp:lastModifiedBy>Joseph Jurecka</cp:lastModifiedBy>
  <dcterms:modified xsi:type="dcterms:W3CDTF">2004-10-16T17:09:10Z</dcterms:modified>
  <cp:revision>2</cp:revision>
  <dc:subject/>
  <dc:title>Joining The Fun On 1296 EME </dc:title>
</cp:coreProperties>
</file>