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D17-CF09-46F2-8D64-C5B12797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A5F-0868-44C5-A14C-F44F62CE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78F-DD03-4979-9444-9E633C2F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DB8-7A56-4006-8571-B9AC9798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30EC-102D-4143-A19B-80C10D31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BF4D-108C-46F2-8715-15619E1A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98F9-7B0F-4B20-9864-50DBE056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0534-1CAF-4B8A-A864-DFF2CABF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F8D0-613F-4D75-86C5-B459AF9B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A841-4C22-404F-883E-A0B07BC3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A17D-082B-4826-BFBC-54C865E0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5FA-3309-40B4-88F0-934245BC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6744-C4C1-4AF1-AA0C-B63F7CD7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1756-59BB-4675-B2F7-E5FACEE0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A5E9-6066-421C-9F67-C5E1F41F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8469-B934-442B-B616-92235B21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C81A-53F6-4516-9B7F-81BC7111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EF3-11E5-46D9-8340-6AC78652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55D-6A09-4A45-BD12-A52E73F3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B50-42C5-4DF0-881C-EA28046B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E5D-E89D-4E17-BF80-7AD170AB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62E-1808-4630-B0DB-B69165C2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77B-4956-4D26-9847-13E52952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19D-58EB-4A54-B551-69336E09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9F13-3919-4DBA-A15E-01E4D13C416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0D77-FB2D-4724-8683-4063CF80450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Simplified DDS/PLL Software Development for Microwave Synthesizers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3429000"/>
            <a:ext cx="4114800" cy="413244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Arial"/>
              </a:rPr>
              <a:t>John Miles, KE5F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PLL Device Selec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y parts avail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alog Devices ADF411x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ADF4110-ADF4113: 5V parts for 550 MHz - 4 GHz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ADF4106-ADF4107: 3.3V parts for 6-7 GHz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tional Semiconductor LMX23x6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Lower frequency limits than ADF serie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Fewer programming option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n’t overspecify the frequency limit if 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thtub-shaped sensitivity graph can lead to harmonic-locking probl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er-frequency parts are more expens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PLL Device Architectur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57560" y="4343400"/>
            <a:ext cx="875448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ove diagram from National Semiconductor LMX2326 data she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applies to ADF411x parts with very few differ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National/Analog PLL devices use 3-wire serial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F411x PLLs use 24-bit wo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MX23x6 PLLs use 21-bit wo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9852/4 DDS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ls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uses 3-wire programming (8-bit word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me basic interface circuitry and programming code for all PLL/DDS pa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8356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ontrol Platform Choi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od for ambitious projects with lots of user interface co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Built-in video, networking, audio hardware, etc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Support for almost any programming language in existence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PC CPUs are capable of very high DSP performance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igh-end equipment from Tektronix, Agilent, etc. is based on Windows PCs these days(!)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3" marL="1487880" indent="-212400">
              <a:lnSpc>
                <a:spcPct val="7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Very neat to have same resources available to Amateur experimenter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od development/test platfor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Use parallel or USB port(s) to talk to DDS, PLL, other chip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Use serial port(s) to talk to microcontroller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Note that direct access to parallel port under NT-based versions of Windows requires some extra work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3" marL="1487880" indent="-212400">
              <a:lnSpc>
                <a:spcPct val="7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http://www.beyondlogic.org/porttalk/porttalk.htm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ontrol Platform Choi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C (continu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ndows PCs are usually not a good choice for “hard realtime”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Better to delegate realtime work to dedicated controller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Linux/BSD may be a possibility as well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storically not a good choice for small projects due to space/power requirement, but new form factors like Mini-ITX are changing that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81280" y="4495680"/>
            <a:ext cx="23338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ontrol Platform Choi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mel AVR / ATme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19840" indent="-1998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antastic choice for small-scale proje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799920" indent="-15984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Lots of built-in I/O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3" marL="1119960" indent="-159840">
              <a:lnSpc>
                <a:spcPct val="7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Paralle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3" marL="1119960" indent="-159840">
              <a:lnSpc>
                <a:spcPct val="7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Seria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3" marL="1119960" indent="-159840">
              <a:lnSpc>
                <a:spcPct val="7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ADC channel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799920" indent="-15984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Low power consumption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799920" indent="-15984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ard realtime performance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3" marL="1119960" indent="-159840">
              <a:lnSpc>
                <a:spcPct val="7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Total control over interrupts, timers, CPU cycles..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799920" indent="-15984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ealthy developer community (www.avrfreaks.net)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519840" indent="-1998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most code-compatible with PC C++, thanks to AVR-GCC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19840" indent="-1998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ts of prototyping resources avail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799920" indent="-15984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Example: ATmega128 board from                             www.bdmicro.com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799920" indent="-15984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128K Flash memory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799920" indent="-15984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4K RAM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799920" indent="-15984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16 MHz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5198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72200" y="5024520"/>
            <a:ext cx="239544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ontrol Platform Choi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brid approach best for complex proj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PC handle user interaction, while microcontrollers like AVR/ATmega manage the hard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3043080" cy="2338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657600" y="2362320"/>
            <a:ext cx="5486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Language Choi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sual BAS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ss intimidating for the novice programm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ts of UI toolkits and third-party librar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cross-platform capabilities -- Windows PC only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w performance -- not easy to take advantage of PC hardware capabili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Language Choi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/C+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ough rope to shoot yourself in the fo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t: can be very easy to read and write with a little self-control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ery high perform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ery general -- everything from UI code to DS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herently platform-independ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ny systems-level programmers already know i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enty of free compil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Microsoft Visual C++ command-line compiler for Win32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OpenWatcom for Win32 or DO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GCC for Win32, DOS, Linux, Atmel... </a:t>
            </a: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everything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Language Choi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#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oss-platform for Windows, Linux (via Mono), but no embedded support y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ill unfamiliar to many peop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t a strong candidate for device programming at this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iginally intended for device program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be a good solution depending on platform suppo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alking to the Chip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oth DDS and PLL chips are 3-wire serial programmab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ny other parts work this way, too (volume controls, RF/IF subsystems…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mmand and data bits shifted in 1 bit at a tim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hifts control/data bits into input regis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DF411x PLLs use 24-bit wor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MX23x6 PLLs use 21-bit wor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D9852/4 DDS uses 8-bit wor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atc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lls chip to copy input register to specified command regis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mmand register selection is typically part of the input word itsel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MX23x6 PLL data sheet calls this LE (“Load Enable”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DF411x PLL calls this LE (“Latch Enable”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D9852/4 DDS calls it I/O UD CL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me function in all cases!  Software toggles the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atc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line after all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ata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bits for a given command have bee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lock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d i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Introduc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Who am I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“Beware of programmers with screwdrivers.”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- Robert Roy W4PZ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What projects inspired me to research this topic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DC - 1 GHz general coverage recei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Uses two ATmega128 controllers and one Mini-ITX PC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motherboa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Lots of register-level programming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Wanted a general-purpose way to build and work with  homebrew microwave signal sou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alking to the Chip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38095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bove timing diagram from National Semiconductor LMX23x6 data sheet, but (again) applies to all parts being discuss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9852/4 DDS also has two Reset li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STER RESE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ears entire chip st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nded to be asserted at power-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/O RESE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lears I/O interface state on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88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t needed in most desig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37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PLL Software Design Exampl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5FX/VK6BRO hybrid synthesizer described in Mar/Apr 2004 QE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producible project, no R&amp;D need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ff-the-shelf parts used througho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 1 GHz - 7 GHz range depending on component cho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unable in 1 Hz step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oss-platform C++ control software compatible with both Win32 and Atm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72200" y="1066680"/>
            <a:ext cx="1790640" cy="2381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371600" y="762120"/>
            <a:ext cx="38005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he Synthesizer Control API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ublic interface to synthesizer supports three basic opera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onstruction of SYNTH class instan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pplication must create one SYNTH instance per synthesizer to be controlled, specifying its parameter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75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LL chip typ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75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inimum output frequenc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75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DS center and reference-clock frequenc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75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DS clock multiplier ran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Frequency control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YNTH::set_frequency(U64 hertz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64-bit parameter specifies frequencies to 1.8E+19 Hz with 1 Hz precis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Status polling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OOL SYNTH::locked(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termines time-to-lock in test progra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elps detect hardware failu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SYNTH Construc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rive programming constants needed la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calculate as much as possible to save CPU time when setting the frequen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itialize the PLL c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itialize the DDS c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Derive Programming Constants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ick a reference modulus (R divis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termines nominal PLL comparison frequency 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com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er Fcomps usually lead to lower phase noise, up to a poi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-bit precis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1-16383 for ADF411x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3-16383 for LMX23x6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choose R=11 to yield Fcomp = ~1 MHz for 10.7 MHz DDS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culate DDS tuning ran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DS_BW = (DDS center frequency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 / (min_output_freq * 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bout 10.4 kHz for 1-2 GHz output with 10.7 MHz DDS and R=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x/min Fcomp = 10.7 MHz +/- (DDS_BW / 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-DDS filter passband needs to be this wi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Derive Programming Constants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ick a prescaler modulus (P divis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MX2306 (550 MHz) chips are hardwired to P=8/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MX2316 / 26 (1.2 / 2.8 GHz) chips are hardwired to P=32/3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F411x chips allow selection of P=8/9, 16/17, 32/33, or 64/6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ximum prescaler output frequency is limited by spe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&lt; 200 MHz for ADF4112 at Vcc=5V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Determined by chip’s max frequency for National LMX part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ADF411x parts, we select largest P that satisfies minimum-N relation for dual-modulus prescal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min_N = min_output_freq / max_Fcomp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P*P - P must always be &lt;= min_N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Example: min_N = 1027 at 1 GHz, so we choose P=32/33    (P*P - P = 992)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Initialize the PLL Chip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alog Devices ADF411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24-bit LATCH_INIT control wor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Enable digital lock detection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Select charge-pump gain Kpfd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-173520">
              <a:lnSpc>
                <a:spcPct val="7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We use Kpfd = 1.88 mA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3" marL="1216080" indent="-173520">
              <a:lnSpc>
                <a:spcPct val="7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Higher values up to 5 mA are possible and may improve PN in some loop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Select prescaler divisor P, chosen earlier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24-bit LATCH_R control wor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Set 14-bit R modulus (typically 11)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Set lock-detect precision = high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tional Semiconductor LMX23x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21-bit LATCH_INIT control wor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Enable digital lock detection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564480" indent="-2170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21-bit LATCH_R control wor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Set 14-bit R modulus (typically 11)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868680" indent="-17352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Set lock-detect precision = high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Initialize the AD9852/4 DDS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ssert MASTER RESET for at least 10 reference clock cyc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is initializes the DDS chip, leaving it in “auto-update” mode by defaul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uto-update = very annoying feature that we want to turn off ASA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rite four 8-bit words to DDS control register 7 to configure chi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sable internal comparator, quadrature DAC, and inverse-sinc fil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fault to minimum clock-multiplication fact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t single-tone output mo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sable auto-update mo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able AM amplitude-scaling register for improved spur performan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ait for one auto-update period (~1 uS at 100 MHz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is ensures that the command to disable auto-updates has been processed by the chip.  But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last part of the register write may have been interrupted by the final auto-update cycle!  So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e must repeat the control-register write operation, this time followed by a manually-issued I/O UD CLK (“Latch”) togg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SYNTH Frequency Control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NTH::set_frequency(U64 hertz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lculate optimal DDS clock multipli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lculate required PLL N divis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lculate required DDS output frequen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gram DDS output frequency and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gram PLL’s N divisor regis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turn to application, which may begin polling for loop lockup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form calculations up front to minimize time spent in unlocked/invalid st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SYNTH Frequency Control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culate optimal DDS clock multiplier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specified output frequen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DS_CLK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product of CM and DDS clock in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ur DDS_CLK range = 80-120 MHz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CM = 8-12 for 10 MHz input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want to maximize abs(output frequency in Hz - closest harmonic of either DDS_CLK/2 or DDS_CLK/3) to avoid output spurs due to intermod effe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de uses brute-force nested search loops, could probably be optimized furt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wouldn’t be necessary if the DDS were in its own shielded/decoupled enclosure away from the rest of the P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Focus on CW sour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x / Tx L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omebrew signal sources for test equip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low-speed OOK/FSK applic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ulate input reference within loop bandwidt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eac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igh-speed FM/FSK applications with no low-frequency components near the loop bandwidth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dd modulation directly to VCO tuning lin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SYNTH Frequency Control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culate required PLL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ivis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 = output frequency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/ minimum Fcomp, rounded down to integ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/C++ typecast to int does this automatica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culate required DDS output frequency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tual comparison frequency (Fcomp) = output Hz / 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ltiply Fcomp by R to obtain required DDS output frequency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D = R * (Hz / N), but…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Don’t divide by N just yet!  Start with the numerator (Hz)…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Multiply by R divisor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Shift left 8 bits to yield 56:8 fixed-point value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Perform /N </a:t>
            </a: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 the multiplication above to avoid losing LSB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Actual expression: D = ((Hz * S64(R)) &lt;&lt; 8) / N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Remember: division costs precision that multiplication/shifts can’t restore.  Multiply first, 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then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 divide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SYNTH Frequency Control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Program DDS clock multiplier </a:t>
            </a: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CM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Setting new CM requires full DDS initialization, so make sure it’s actually changed!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Program required DDS output frequency </a:t>
            </a: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Desired 48-bit DDS phase-increment register value = (D &lt;&lt; 48) / DDS_CLK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Again, we use fixed-point math techniques to maintain precision where it’s needed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ncoming D is in 56:8 format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3" marL="1455840" indent="-207720">
              <a:lnSpc>
                <a:spcPct val="7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Note that if D = ~10.7 MHz, the actual D value occupies about 24:8 bit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Shift D left by 28 bits, leaving it in 28:36 format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Divide by DDS_CLK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3" marL="1455840" indent="-207720">
              <a:lnSpc>
                <a:spcPct val="7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This is equivalent to shifting right by log2(DDS_CLK) bits        (about 26.5 bits if DDS_CLK = 100 MHz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3" marL="1455840" indent="-207720">
              <a:lnSpc>
                <a:spcPct val="7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Because 28 &gt; 26.5, we still have all the precision we started with!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Shift left by 12 bits to convert to 0:48 DDS phase-increment register format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Send lower 48 bits to DDS chip’s phase-increment register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3" marL="1455840" indent="-207720">
              <a:lnSpc>
                <a:spcPct val="7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Transmitted as 6 8-bit words before toggling LATCH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SYNTH Frequency Control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gram PLL’s N divis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already had to calculate N to determine DDS output frequen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eck to make sure N has actually changed, to avoid breaking phase continu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Remember, small changes in frequency are the DDS’s job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21- or 24-bit LATCH_N command with N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PLL chips break N into two sub-registers, A and B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3" marL="1375920" indent="-196560">
              <a:lnSpc>
                <a:spcPct val="7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B = N / P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3" marL="1375920" indent="-196560">
              <a:lnSpc>
                <a:spcPct val="7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A = N - (B * P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ADF411x N-register = 19-bit word BBBBBBBBBBBBBAAAAAA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LMX23x6 N-register = 18-bit word BBBBBBBBBBBBBAAAAA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LMX23x6: Also set bit 20 for high Kpfd (1 mA at Vcc=3V)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Good idea to sanity-check the A/B values against the chip spec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 this point, PLL and DDS chips are fully programmed.  Loop will now commence lock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Lock-Detection Status Poll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OL SYNTH::locked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turn TRUE when PLL lock detection signal goes TR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mply reads the input port associated with the PLL chip’s LD pin (Lock Detec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LD = the only output pin read by the host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L chip has previously been programmed for high-precision lock dete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Goes TRUE when phase error is &lt; 15 ns for 5 consecutive cycles of Fcomp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Remains TRUE until phase error of &gt; 25 ns is detected on any subsequent cycle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Lockup Performanc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59432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urple/blue: KE5FX hybrid synthesizer, 1000-2000 MHz and bac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reen/red: ICOM IC-R7000 1st LO, 770-1030 MHz and bac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7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Noise Performanc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1760" y="59432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urple: KE5FX hybrid synthesizer, -83.7 dBc/Hz at 1 kHz from carri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lue: ICOM IC-R7000 1st LO, -70.5 dBc/Hz at 1 kHz from carri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7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PC Client Applica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54860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in9x, Win2K, WinXP console application for synthesizer tes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lso runs under MS-DOS when built with OpenWatcom compil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upports Tektronix 49x / HP 8566 analyzer control for automated tests via GPIB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4771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Atmel Control Terminal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502884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osted via RS-232 port on ATmega12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me capabilities, same API,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same cod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as Win32 ap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in32 console application was built with Microsoft Visual C++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tmel terminal application was built with AVR-GC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878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ypical Embedded Applica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40384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ully self-contained 800 MHz data rad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ingle-conversion FM receiver based on Atmel ATmega128 microcontroller, KE5FX hybrid synth, and Philips SA604AD IF subsyste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6 MHz ATmega128 is fast enough to decode Motorola Type II SmartNet trunk control channel (3600 bps FSK) in real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Software demodulator written in 32-bit C++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Almost a straight port of motorola.cpp from well-known “Trunker” applic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Sends decoded traffic to PC via RS-232 at 38400 bps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eeds only power, antenna, 10 MHz PLL reference, and RS-232 connection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ts in a single Hammond 1590BB enclosure (4.6” x 3.6” x 1.3”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60195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Experimental Hybrid YIG PLL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4038480"/>
            <a:ext cx="5257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-6 GHz tuning rang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etter than -100 dBc/Hz PN at 10 kH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P 8672A-class performa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imple modifications to synth platfor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DF4107 PLL IC (7 GHz max freq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mitter follower instead of VC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Drives YIG FM tuning coil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YIG pretuned by MAX541 16-bit serial DAC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56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Driven by second PC parallel port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962520" cy="3056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541760" y="838080"/>
            <a:ext cx="4368960" cy="3054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249880" y="3936960"/>
            <a:ext cx="38941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Quick overview of hybrid DDS/PLL architectur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2319480"/>
            <a:ext cx="336852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DS as PLL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9852/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-DDS filt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ammable PLL 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F411x fam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MX23x6 fam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p fil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plat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67080" y="2438280"/>
            <a:ext cx="45705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-7668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onclusion: Design Resour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9903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ll schematics and software for KE5FX/VK6BRO hybrid syn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qsl.net/ke5fx/synth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hn Miles, KE5FX, and Richard Hosking, VK6BRO, “A Versatile Hybrid Synthesizer,”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QEX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-Apr 20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-18504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Also available online at www.qsl.net/ke5fx/synth.html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tional Semiconductor WEBENCH design tool (http://wireless.national.com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alog Devices ADIsimPLL design tool (www.analog.com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R-GCC multiplatform C++ compiler (www.avrfreaks.net/AVRGCC/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LL Performance, Simulation, and Desig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by Dean Banerjee (available at Amazon or at WEBENCH site abov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5FX Projects group for ongoing discussion (http://groups.yahoo.com/group/ke5fx/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DS as Referenc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L reference is typically, but not necessarily, a fixed sour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a hybrid PLL synth, the DDS is the “referenc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36480" y="5797440"/>
            <a:ext cx="8119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ove diagram from Analog Devices AD9850 data she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9852/54 is more complex, but we don’t use most of its fea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40863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DS as Referenc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ngle-loop PLLs normally tune in steps determined by              N * comparison frequen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ight change in reference frequency can fill in the gaps between PLL multiplication steps (N facto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DS technology is ideal for th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simple way to achieve high tuning precision without multiple loo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ypically capable of much better precision than most applications ne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DS as Referenc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wbacks to DDS reference include spu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-band spurs are multiplied by 20*log(N)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ut-of-band spurs can still cause EMI/crossmod probl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er-precision DAC (14 bits) offered by AD9852/AD9854 delivers better SFDR, but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-DDS filtering is still a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u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need for exotic DDS pa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ference generated at 10.7 MH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w-current parts are better if you have a cho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Less likely to cause RFI problems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Post-DDS Filter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olithic crystal fil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CS-10.7-15B (+/- 7.5 kHz bandwidth, 25 kHz stopband) is a good cho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expensive, available from Digi-Key as X704-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tching not critical -- comparator will take care of ripp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30528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Post-DDS Filter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C low-pass fil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use a three-pole design with 12 MHz cutof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iminates higher-order DDS images that pass through the crystal filter and cause spurs in PLL output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ven though they’re far outside the loop bandwid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ar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9852/9854 has its own built-in comparator, but it’s not optim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3.3V operation, but PLL chips work best with near-rail-to-rail 5V input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Some users have observed poor noise/jitter performance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use an LT1016 high-performance 5V compara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5000"/>
              </a:lnSpc>
              <a:spcBef>
                <a:spcPts val="737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Good to near 100 MHz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22:00:15Z</dcterms:created>
  <dc:creator>JOHNM</dc:creator>
  <dc:description/>
  <dc:language>en-US</dc:language>
  <cp:lastModifiedBy>Joseph Jurecka</cp:lastModifiedBy>
  <cp:lastPrinted>2004-09-05T21:06:33Z</cp:lastPrinted>
  <dcterms:modified xsi:type="dcterms:W3CDTF">2004-10-16T17:10:36Z</dcterms:modified>
  <cp:revision>40</cp:revision>
  <dc:subject/>
  <dc:title>Simplified DDS/PLL Software Development for Microwave Synthesizers</dc:title>
</cp:coreProperties>
</file>