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646-25A4-4F5F-A339-1483B088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E78-2918-4D01-80AF-6F6DA3B7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B2A-606E-42D4-B117-080BF91E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D5E-9963-4009-AD49-F30F193E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05D-F388-479B-8F78-58C7F4A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78C-47E9-4017-AD78-9252DD8F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CD0-3702-4B6F-91DA-1F3A1DCB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1D8-4888-4271-BEA3-FE44D589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FB5-3667-4827-A516-5EEDA31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915-4142-47E8-AFFC-C0E1489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F2A-850A-47F5-8F81-F40101A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193-A64F-4D87-BD3E-87EA2240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D2F-ACDB-4F8F-97CE-7EE858A7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 Plots from Microwave Update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3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6HIJ WR-42 E Switch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0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6HIJ WR-42 E Switch S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2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6HIJ WR-42 H Switch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027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6HIJ WR-42 H Switch S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2738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5YC Amp S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5012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5YC Amp M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42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0EOM Surplus Amp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024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7QX 10 GHz S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6546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7QX NB310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0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7QX NB310 S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0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on an Agilent E8364B 50 GHz P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plots are primarily shown here for the benefit of those that brought the items fo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known, the owner of the component is listed first followed by a very short description of the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dditional information please contact the owner of the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7QX NB310 S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0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1ZMS Surplus Amp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027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L WR-28 W/G Relay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2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L WR-28 W/G Relay S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787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A6IW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42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2STO 10 dB 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5027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2STO 3 dB P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027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2STO EMCO Coup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264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2STO Big Miteq Amplifier –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546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2STO Small Miteq Amplifier – S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83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2PED 47 GHz BPF Rev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7236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2PED 47 GHz BPF Rev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19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0IO 47 GHz BP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501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4MA German 47 GHz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024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5LUA German 47 GHz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155600"/>
            <a:ext cx="75787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5LUA German 47 GHz BP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872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5LUA Agilent AMMC-5040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0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3:21:39Z</dcterms:created>
  <dc:creator>axwar</dc:creator>
  <dc:description/>
  <dc:language>en-US</dc:language>
  <cp:lastModifiedBy>Joseph Jurecka</cp:lastModifiedBy>
  <dcterms:modified xsi:type="dcterms:W3CDTF">2004-11-04T15:16:55Z</dcterms:modified>
  <cp:revision>11</cp:revision>
  <dc:subject/>
  <dc:title>W2PED 47 GHz BPF Rev 0</dc:title>
</cp:coreProperties>
</file>