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D116-3FAF-452C-8004-0FC1CD030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8BB4-BDB7-45D6-9F9E-67A095C3E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AB77-79BF-49B6-A732-FE96AC25C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8070-913E-43C4-97E3-A099283BB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058D-A9AF-4D82-84DB-CCE21FCCE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943A-84DF-4824-B791-75202EB04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6DE4-A447-4ED4-9037-66C9FF4E5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7F40-D4D4-4737-9488-16030B120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AD70-A583-4D19-9F3A-A653C65F7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513A-CA6D-4F4B-8A73-25D3DDC1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D89-5A84-486D-AFC4-0B5C456FB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B90E-36FF-47EA-BD9A-8CDAEE727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D23-FCBF-4CE9-B37D-CB7EFAA40383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airnav.com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87120" y="-360"/>
            <a:ext cx="9273960" cy="6858360"/>
            <a:chOff x="-87120" y="-360"/>
            <a:chExt cx="9273960" cy="6858360"/>
          </a:xfrm>
        </p:grpSpPr>
        <p:sp>
          <p:nvSpPr>
            <p:cNvPr id="54" name=""/>
            <p:cNvSpPr/>
            <p:nvPr/>
          </p:nvSpPr>
          <p:spPr>
            <a:xfrm flipH="1" rot="10800000">
              <a:off x="367560" y="0"/>
              <a:ext cx="221292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-61560" y="1440"/>
            <a:ext cx="9205560" cy="685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61560" y="1440"/>
                      <a:ext cx="920556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-8712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894440" y="243000"/>
              <a:ext cx="1292400" cy="1110600"/>
              <a:chOff x="7894440" y="243000"/>
              <a:chExt cx="1292400" cy="1110600"/>
            </a:xfrm>
          </p:grpSpPr>
          <p:sp>
            <p:nvSpPr>
              <p:cNvPr id="59" name=""/>
              <p:cNvSpPr/>
              <p:nvPr/>
            </p:nvSpPr>
            <p:spPr>
              <a:xfrm>
                <a:off x="845820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45712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5748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5676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5892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4" name=""/>
              <p:cNvGraphicFramePr/>
              <p:nvPr/>
            </p:nvGraphicFramePr>
            <p:xfrm>
              <a:off x="7894440" y="276120"/>
              <a:ext cx="638640" cy="106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4440" y="276120"/>
                        <a:ext cx="63864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pospheric enhanc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HF and up</a:t>
            </a:r>
            <a:br>
              <a:rPr sz="3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causes band openings?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 can you find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oe Jurecka-N5PY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orth Texas Microwave Societ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183D-6503-47A5-B76E-5D27133048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per Air sounding (refrac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7080" y="13716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aken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Openin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arly May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7280" y="24382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41911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1160" y="2093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2880" y="3846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920" y="5257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08000" y="537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in milli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86240" y="5562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5607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80" y="2666880"/>
            <a:ext cx="18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@925mB N=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@975mB N=3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415880"/>
            <a:ext cx="6629400" cy="5303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2760" y="392256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ample of a surface duct right on the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AA4E-A6EF-4BE0-9932-1A000CAA4C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po Duc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n enable contacts over distances of over a thousand mile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F signal is propagated in duc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uch variance exists on where signal exits the duc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gnal can pass right over some users such that it is possible to work stations in Florida but not Mississippi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28AC-B7DE-47EC-BAD4-AF4D7EF68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407280"/>
            <a:ext cx="7924680" cy="3808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tic of Profile (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343400"/>
            <a:ext cx="8153280" cy="16002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105520"/>
            <a:ext cx="8153280" cy="9144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ings are large areas of consistent, favorab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066680" y="4419720"/>
            <a:ext cx="763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924680" y="4419720"/>
            <a:ext cx="763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48320" y="403812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971800"/>
            <a:ext cx="7696440" cy="838080"/>
          </a:xfrm>
          <a:custGeom>
            <a:avLst/>
            <a:gdLst/>
            <a:ahLst/>
            <a:rect l="l" t="t" r="r" b="b"/>
            <a:pathLst>
              <a:path w="4848" h="528">
                <a:moveTo>
                  <a:pt x="0" y="432"/>
                </a:moveTo>
                <a:cubicBezTo>
                  <a:pt x="196" y="372"/>
                  <a:pt x="392" y="312"/>
                  <a:pt x="768" y="240"/>
                </a:cubicBezTo>
                <a:cubicBezTo>
                  <a:pt x="1144" y="168"/>
                  <a:pt x="1744" y="0"/>
                  <a:pt x="2256" y="0"/>
                </a:cubicBezTo>
                <a:cubicBezTo>
                  <a:pt x="2768" y="0"/>
                  <a:pt x="3408" y="152"/>
                  <a:pt x="3840" y="240"/>
                </a:cubicBezTo>
                <a:cubicBezTo>
                  <a:pt x="4272" y="328"/>
                  <a:pt x="4704" y="464"/>
                  <a:pt x="484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066680" y="327636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7672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72000" y="32763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27672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840" y="1255680"/>
            <a:ext cx="420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77.6/T[P+(4810*Es*(RH))/T) 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‡FREE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Refr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Es=Saturation Water vapor pressure (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H=Relativ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=Temperature (Kelv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P=Atmospheric pressure (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5560" y="563868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 is refractivity…similar to n in 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9800" y="480060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redients Temperature, Moisture, an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N = slower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25680" y="1636560"/>
            <a:ext cx="220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K≈[1+(∆N/∆h)/157]^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K=K-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Refr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h=height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600" y="6019920"/>
            <a:ext cx="76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N≈(n-1)*10^6 where n=ratio of speed of propagation to speed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080" y="6391440"/>
            <a:ext cx="458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=(1.0003+P*0.00000418)*6.1115*EXP(22.425*DP/(272.55+DP))  If DP &gt;0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=(1.0007+P*0.00000346)*6.1121*EXP(17.502*DP/(240.9+DP)) If DP &lt;0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9160" y="6477120"/>
            <a:ext cx="30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P=Dewpoint (Deg C)   *Source Honeywell Web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5200" y="3124080"/>
            <a:ext cx="25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igher Index (Slower propagation)  N=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97120" y="2743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wer (Faster propagation) N=2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429000"/>
            <a:ext cx="7696080" cy="838080"/>
          </a:xfrm>
          <a:custGeom>
            <a:avLst/>
            <a:gdLst/>
            <a:ahLst/>
            <a:rect l="l" t="t" r="r" b="b"/>
            <a:pathLst>
              <a:path w="4848" h="528">
                <a:moveTo>
                  <a:pt x="0" y="432"/>
                </a:moveTo>
                <a:cubicBezTo>
                  <a:pt x="196" y="372"/>
                  <a:pt x="392" y="312"/>
                  <a:pt x="768" y="240"/>
                </a:cubicBezTo>
                <a:cubicBezTo>
                  <a:pt x="1144" y="168"/>
                  <a:pt x="1744" y="0"/>
                  <a:pt x="2256" y="0"/>
                </a:cubicBezTo>
                <a:cubicBezTo>
                  <a:pt x="2768" y="0"/>
                  <a:pt x="3408" y="152"/>
                  <a:pt x="3840" y="240"/>
                </a:cubicBezTo>
                <a:cubicBezTo>
                  <a:pt x="4272" y="328"/>
                  <a:pt x="4704" y="464"/>
                  <a:pt x="484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2720" y="358128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wer (Faster propagation) N=3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4419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4400" y="41734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1108-366A-41A6-A542-1806CB0CE3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per Air Sounding (Duct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60600"/>
            <a:ext cx="2187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his o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rovided an o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rong enough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Hear NOAA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Radio out of Ho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New Mexico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 5/8</a:t>
            </a:r>
            <a:r>
              <a:rPr b="1" lang="el-GR" sz="1800" spc="-1" strike="noStrike">
                <a:solidFill>
                  <a:srgbClr val="006699"/>
                </a:solidFill>
                <a:latin typeface="Arial"/>
              </a:rPr>
              <a:t>λ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whip anten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rav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US-75 in 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Soundings are taken at 00Z and 12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6200" y="3962520"/>
            <a:ext cx="12110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w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41200" y="5867280"/>
            <a:ext cx="1563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520" y="3505320"/>
            <a:ext cx="914400" cy="16002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2200" y="3087720"/>
            <a:ext cx="264348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.5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Temperature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5334120"/>
            <a:ext cx="1447920" cy="228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867280" y="5181480"/>
            <a:ext cx="533520" cy="152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876920"/>
            <a:ext cx="2133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Two inversions form a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858000" cy="539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V="1">
            <a:off x="5867280" y="5105160"/>
            <a:ext cx="1905120" cy="75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5714640"/>
            <a:ext cx="335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2960" y="525780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5348-C047-4EF9-97E5-9364B5901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ct thickness vs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25680" y="617220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From http://www.iprimus.ca/~hepburnw/dx/luf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46200" y="1676520"/>
            <a:ext cx="425160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E7CE-7FC6-4032-BB8F-DE4CE11FC4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favorable so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371600"/>
            <a:ext cx="304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ere, we have an inversion, but…No o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ote lack of dewpoint drop at base of inversion lay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ay provide local enhancements to upper bands, but may not be enough for 144M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is profile is typical for cold air intruding at sfc with warm, overrunning conditions aloft.  Good for rain…not for propa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ote: North winds down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63904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F3EA-6E94-4D90-AA48-24A7BFFD63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eb 2, 2003 Op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4792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roduced o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rom Texas to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On 144 - 3456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ote absence of significant weather features along pa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o pressure discontinuities (fro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roviding indication of a stable weather pattern.  Front approaching from NW is typical for evening for ope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92452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991F-2BB7-4ACA-89D9-AC03405D9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nt Scott to Dallas on 10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3860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666880" cy="3886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257800"/>
            <a:ext cx="870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pagation in the morning was very difficult, but signals came up throughout the day. Notice how the profile becomes more “classic”  from 12Z to 18Z to 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666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2231-2287-4A9D-AD19-C9BE97D9DC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face Patte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DCD0-3021-4E6A-89E8-78A44DE10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ing for Ope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V -  Local channels will get interference patterns or a separate set of sync bar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isten for UHF TV video carriers (Ch16-KLRT Little Rock, AR 483.25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ing TV is becoming more difficult with so many digital stations starting service on what used to be clear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4322-3B38-4F3F-8D16-CC561632B0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op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haracterized by radio propagation enabling communications at distances significantly beyond line-of-sight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ly affects 50 MHz and up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used by changes in air refractivity with heigh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milar to light in a fiber opti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403B-721C-4E2C-92DC-89BD75044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ing for Ope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977840"/>
            <a:ext cx="4114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HF Aircraft Navigation Aids </a:t>
            </a:r>
            <a:br>
              <a:rPr sz="2000"/>
            </a:b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(VOR-very high frequency omnidirectional range)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08-117.95 MHz.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irnav.co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50-200W ERP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rizontal Pol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isten for 30Hz 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debands if listening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 USB/LSB (Sounds like a warbling carrier).  Tune up / down 1KHz to hear carri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gnificant co-channel spacing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16556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56FF-4271-46A1-B568-320C86C6C5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8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 Radar Sign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http://www.srh.noaa.gov/radar/mosaic/DS.p19r0/ar.us.conus.shtm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Look for ground clutter extending out 50-100 miles from a site (&gt;+10dBz)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Look at individual sites and note mode of operat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lear Air- most sensitive…will often detect clouds (Scale up to +28dBz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recipitation Mode: More traditional scaling that users are used to seeing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Scale (up to 70dBz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National mosaic is de-cluttered precipitation mode view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dBz scal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&lt;0 normally clouds, mist or light snow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0-40 rai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40-60 Thunderstorm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&gt;60 Potential severe thunderstorm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&gt;70 Nasty hail core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781680" y="2332080"/>
            <a:ext cx="20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f it looks like this in clear air mode, you might as well work on a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723920" y="1981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684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Bz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760" y="6031080"/>
            <a:ext cx="51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exrad (WSR-88D) operates around 3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36040" y="4148280"/>
            <a:ext cx="21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hancement in precip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2720" y="571500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hancement in Clear air 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2209680" cy="1694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324480" y="4800600"/>
            <a:ext cx="23814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F669-D678-4BF8-8914-A40191C64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ar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5480" y="2514600"/>
            <a:ext cx="33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version layer sh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p on Range-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piction on 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63237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*Bat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1D02-1F55-4369-BA6C-A0E612AF88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pburn Tropo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iprimus.ca/~hepburnw/tropo_car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od general indicator of forecasted conditions.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t definitive indicator of when and where an opening will occur—This is not an exact science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ually, when there is a lot of yellow, orange, and red, it is wise to at least check conditions more careful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94360" cy="314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DC89-7114-4470-8B0E-1B162092F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OAA Weather radio 162.4-162.55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srh.noaa.gov/ftproot/msd/nwr/srnwr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dxworld.com/144prop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onitor 144.20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pagation Beac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ntms.org/Beacons.ht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k5rmg.org/beacons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rap.ucar.edu/weather/upper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eather.unisys.com/upper_air/skew/index.htm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xas DPS 155.46, 159.210, 155.44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C547-2CFF-464F-8DEB-8D3A5C5E79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reeman, R.L. </a:t>
            </a:r>
            <a:r>
              <a:rPr b="0" i="1" lang="en-US" sz="1200" spc="-1" strike="noStrike">
                <a:solidFill>
                  <a:srgbClr val="006699"/>
                </a:solidFill>
                <a:latin typeface="Arial"/>
              </a:rPr>
              <a:t>Radio System Design for Telecommunications (1-100 GHz)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John Wiley,1987. ,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ttan, Louis J., </a:t>
            </a:r>
            <a:r>
              <a:rPr b="0" i="1" lang="en-US" sz="1200" spc="-1" strike="noStrike">
                <a:solidFill>
                  <a:srgbClr val="006699"/>
                </a:solidFill>
                <a:latin typeface="Arial"/>
              </a:rPr>
              <a:t>Radar Observation of the Atmosphere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, University of Chicago Press, Chicago, IL., 1973.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Other good reading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reben-Hansen (OZ1RH), “Everyday VHF, UHF, and SHF propagation – 700 km DX anytime using troposcatter” http://www.qsl.net/oz1rh/troposcatter99/troposcatter99.htm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icrowave activity www.ntms.org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2BC5-6C92-4012-A045-553931BF21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Ope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opoScatter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le most all the time.  Contacts made with brute force (so to speak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es signals that would otherwise be wea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minally a single hop off an inversion lay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opospheric Duct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penings within an area such as Texa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ide Area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xas to Florida or Yucat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xas to Illinois or Virgini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280F-5268-4A47-8CFB-9DC7125343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oscatter</a:t>
            </a:r>
            <a:br>
              <a:rPr sz="40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(Not ducting—but still useful and rel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541600"/>
            <a:ext cx="4041720" cy="2641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94400" y="5486400"/>
            <a:ext cx="34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ww.qsl.net/oz1rh/troposcatter99/troposcatter99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65760" y="2535120"/>
            <a:ext cx="3527280" cy="262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89280" y="1639800"/>
            <a:ext cx="618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is mode of propagation is what is primarily used in those awful dead-band conditions during contest weekends.  An abundance of power is how this mode pushes through where as ducting, in the best conditions, allows good propagation with “low” ER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5920" y="5715000"/>
            <a:ext cx="768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This mode is why N5PYK can work W3XO near Kerrville or K5TR in Johnson City any time day</a:t>
            </a:r>
            <a:br>
              <a:rPr sz="1400"/>
            </a:b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 or night from EM13q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Gain antennas plus a little power = 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863A-9D94-4579-8E11-A0FA4BD321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poscatter and Emrg. Com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iable regional communications with modest antenna setu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tmospheric noise (lightning) less influenti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5-20’ high antenna helps tremendousl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5-50W all that is requir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ntennas may often be attic mounted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iable paths include DFW to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ustin, Shreveport, Lawton, Abilene, Bryan, etc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little more antenna gain  or power enables Houston, San Antonio, Oklahoma City, Tulsa and beyo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D619-0004-484D-8825-582B17F48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ing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7600" y="1600200"/>
            <a:ext cx="5140440" cy="3898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11160" y="1792440"/>
            <a:ext cx="250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unch balloons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wice a da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uring spring,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18Z sounding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s not uncommon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 thunderstorm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isk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CBBA-CA1E-422F-B8EF-A6963BEFA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Enhanc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opospheric Ref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resent most evenings in eastern Texa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ccomplished with single hop off inversion layer alof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Often a single inversion layer aloft…sometimes very close to the ground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5800" y="5943600"/>
            <a:ext cx="61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ery useful on microwave on spring and summer evenin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429000"/>
            <a:ext cx="2590560" cy="190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3505320"/>
            <a:ext cx="26668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GHz 2001 Con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yd to WA5JAT-- 10GHz signals peaked at 6 degrees above horizon.  Corresponded exactly with location of inversion aloft that ev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6880" y="5486400"/>
            <a:ext cx="311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electronics.howstuffworks.com/fiber-optic6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2770200"/>
            <a:ext cx="3672000" cy="27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FE08-4126-42BA-8591-028E9C6FE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4342680" y="3657600"/>
            <a:ext cx="129528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=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105520"/>
            <a:ext cx="8153280" cy="9144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s are large areas of consistent, favorab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133360" y="3657600"/>
            <a:ext cx="15228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7280" y="1636560"/>
            <a:ext cx="72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atio of effective radius of radio wave ray vs. radius of earth (6370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657600"/>
            <a:ext cx="3733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25200">
            <a:off x="2288160" y="38160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Optical line of s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04000">
            <a:off x="4194720" y="35053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adio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343400"/>
            <a:ext cx="8153280" cy="16002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ly about a 1.4X distance multiplier on VH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ant for understanding local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8360" y="25146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K=r/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FC94-EEB4-4B0E-A396-DC92D02ADC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6400800"/>
            <a:ext cx="7924680" cy="3808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tic of Profile (Refrac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343400"/>
            <a:ext cx="8153280" cy="16002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105520"/>
            <a:ext cx="8153280" cy="9144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ings are large areas of consistent, favorab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066680" y="4419720"/>
            <a:ext cx="763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924680" y="4419720"/>
            <a:ext cx="763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403812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7696440" cy="838080"/>
          </a:xfrm>
          <a:custGeom>
            <a:avLst/>
            <a:gdLst/>
            <a:ahLst/>
            <a:rect l="l" t="t" r="r" b="b"/>
            <a:pathLst>
              <a:path w="4848" h="528">
                <a:moveTo>
                  <a:pt x="0" y="432"/>
                </a:moveTo>
                <a:cubicBezTo>
                  <a:pt x="196" y="372"/>
                  <a:pt x="392" y="312"/>
                  <a:pt x="768" y="240"/>
                </a:cubicBezTo>
                <a:cubicBezTo>
                  <a:pt x="1144" y="168"/>
                  <a:pt x="1744" y="0"/>
                  <a:pt x="2256" y="0"/>
                </a:cubicBezTo>
                <a:cubicBezTo>
                  <a:pt x="2768" y="0"/>
                  <a:pt x="3408" y="152"/>
                  <a:pt x="3840" y="240"/>
                </a:cubicBezTo>
                <a:cubicBezTo>
                  <a:pt x="4272" y="328"/>
                  <a:pt x="4704" y="464"/>
                  <a:pt x="484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327636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276720"/>
            <a:ext cx="32763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419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840" y="1255680"/>
            <a:ext cx="420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77.6/T[P+(4810*Es*(RH))/T) 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‡FREE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Refr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Es=Saturation Water vapor pressure (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H=Relativ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=Temperature (Kelv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P=Atmospheric pressure (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5560" y="563868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is refractivity…similar to n in 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9800" y="480060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redients Temperature, Moisture, an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N = slower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5680" y="1636560"/>
            <a:ext cx="220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K≈[1+(∆N/∆h)/157]^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K=K-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=Refr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h=height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00" y="6019920"/>
            <a:ext cx="76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≈(n-1)*10^6 where n=ratio of speed of propagation to speed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5160" y="6372360"/>
            <a:ext cx="458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=(1.0003+P*0.00000418)*6.1115*EXP(22.425*DP/(272.55+DP))  If DP &gt;0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=(1.0007+P*0.00000346)*6.1121*EXP(17.502*DP/(240.9+DP)) If DP &lt;0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9160" y="6477120"/>
            <a:ext cx="30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P=Dewpoint (Deg C)   *Source Honeywell Web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5200" y="3124080"/>
            <a:ext cx="25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igher Index (Slower propagation)  N=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97120" y="2743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wer (Faster propagation) N=2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4400" y="41734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37240" y="3011400"/>
            <a:ext cx="2149560" cy="1310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dio waves are “bent” toward area of higher index of refraction (higher N, lower veloc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8817-19D3-415F-8109-AA5D3DC92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06-17T16:49:36Z</dcterms:modified>
  <cp:revision>41</cp:revision>
  <dc:subject/>
  <dc:title>Slide 1</dc:title>
</cp:coreProperties>
</file>