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3414-0AB0-4D11-92F9-5116837BC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B499-FC9E-478D-9C3C-88E417EE3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14AB-8EA3-4B2C-92E8-E62633259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0672-1C63-42BF-B21A-F14287D31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F28C-673F-4BC8-B9AF-2983C2413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1D02-406D-426E-A68A-45DBCE16F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5C00-309D-4053-B02D-107C35180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FF8A-5C24-41BE-9546-17C5DED68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D5D1-ABA2-4094-8636-CE7290E87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09B7-DCCF-4D5F-B6AA-04B7C46F3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407F-1BA6-491D-96AE-2D727E581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CABB-90A1-4312-9A7B-91EEE49F0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4880" y="-360"/>
            <a:ext cx="9262800" cy="6858360"/>
            <a:chOff x="-74880" y="-360"/>
            <a:chExt cx="9262800" cy="6858360"/>
          </a:xfrm>
        </p:grpSpPr>
        <p:sp>
          <p:nvSpPr>
            <p:cNvPr id="1" name=""/>
            <p:cNvSpPr/>
            <p:nvPr/>
          </p:nvSpPr>
          <p:spPr>
            <a:xfrm flipH="1" rot="10800000">
              <a:off x="379800" y="0"/>
              <a:ext cx="221004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" name=""/>
            <p:cNvGraphicFramePr/>
            <p:nvPr/>
          </p:nvGraphicFramePr>
          <p:xfrm>
            <a:off x="-49320" y="1440"/>
            <a:ext cx="9193320" cy="685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49320" y="1440"/>
                      <a:ext cx="919332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"/>
            <p:cNvSpPr/>
            <p:nvPr/>
          </p:nvSpPr>
          <p:spPr>
            <a:xfrm>
              <a:off x="-7488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7896240" y="243000"/>
              <a:ext cx="1291680" cy="1110600"/>
              <a:chOff x="7896240" y="243000"/>
              <a:chExt cx="1291680" cy="1110600"/>
            </a:xfrm>
          </p:grpSpPr>
          <p:sp>
            <p:nvSpPr>
              <p:cNvPr id="6" name=""/>
              <p:cNvSpPr/>
              <p:nvPr/>
            </p:nvSpPr>
            <p:spPr>
              <a:xfrm>
                <a:off x="845928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45856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5856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5820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6000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" name=""/>
              <p:cNvGraphicFramePr/>
              <p:nvPr/>
            </p:nvGraphicFramePr>
            <p:xfrm>
              <a:off x="7896240" y="276120"/>
              <a:ext cx="638280" cy="1067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896240" y="276120"/>
                        <a:ext cx="63828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CA7-6FDE-4A02-B2BD-7A2738ECA6F8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gilent.com/" TargetMode="External"/><Relationship Id="rId2" Type="http://schemas.openxmlformats.org/officeDocument/2006/relationships/hyperlink" Target="http://www.skyworks.com/" TargetMode="External"/><Relationship Id="rId3" Type="http://schemas.openxmlformats.org/officeDocument/2006/relationships/hyperlink" Target="http://www.mdtcorp.com/" TargetMode="External"/><Relationship Id="rId4" Type="http://schemas.openxmlformats.org/officeDocument/2006/relationships/hyperlink" Target="http://www.metelics.com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beam lead diode multipliers for 80 and 120 GH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y Will Jensby, W0EOM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esented at Microwave Updat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C1CF-2466-485F-B532-5B2EA73B8D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ier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180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DD91-1DAA-4359-B0E3-3C88E70F1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Multiplier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W0EOM_MULTI_%232" descr=""/>
          <p:cNvPicPr/>
          <p:nvPr/>
        </p:nvPicPr>
        <p:blipFill>
          <a:blip r:embed="rId1"/>
          <a:stretch/>
        </p:blipFill>
        <p:spPr>
          <a:xfrm>
            <a:off x="1523880" y="1090440"/>
            <a:ext cx="6019920" cy="503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8CDC-53DF-441F-AFB4-96E9FA02C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2GHz G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C532-9051-4ED5-9D28-6103DEC2F7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143000"/>
          <a:ext cx="8229600" cy="4614840"/>
        </p:xfrm>
        <a:graphic>
          <a:graphicData uri="http://schemas.openxmlformats.org/drawingml/2006/table">
            <a:tbl>
              <a:tblPr/>
              <a:tblGrid>
                <a:gridCol w="533520"/>
                <a:gridCol w="1905120"/>
                <a:gridCol w="2498760"/>
                <a:gridCol w="1645920"/>
                <a:gridCol w="164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X Loss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RX Loss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Whis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Hughes/Mo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etall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Whis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Hug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H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pac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V-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83760" y="5791320"/>
            <a:ext cx="48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Drive power was +19dBm @ 40.8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DADE-1E24-4253-9A3E-434F32101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23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omp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iode part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gi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HSCH-9201, &amp; 9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www.agilent.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kyworks Solutions  (Alp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MK2308-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www.skyworks.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icrowave Device 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S8150,  &amp; 8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www.mdtcorp.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etel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GS-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www.metelics.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EB9B-C5AE-4675-9F4E-B08E1BAEA1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W0eom_122ghz_gear_II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48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60440"/>
            <a:ext cx="18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-up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22GHz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F31A-7CD8-46D2-8952-1953621DD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10-16T17:24:21Z</dcterms:modified>
  <cp:revision>32</cp:revision>
  <dc:subject/>
  <dc:title>Slide 1</dc:title>
</cp:coreProperties>
</file>