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F77-7C8F-4DC5-9F71-37B444E1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08B-F0F0-4300-AD55-148B763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ECE-6709-490E-BF7A-7336E5AD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94C-58FB-42D6-8C1C-CF63A98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9DEB-DCEE-4244-9F74-2D2F9735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CAB5-5A6D-4256-B59B-3540B91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37D6-DD1B-46E5-B176-57B9B242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44A-014D-4F8F-8B9B-F75DC08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5F89-ED82-44B5-859D-8EAD68C0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65C8-89E1-4F37-86A5-F053CF4A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96C2-7891-476C-A810-37D818F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0A6-424B-4A80-86B9-ACCC059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3E3-BAB7-4E1D-9154-4B2CCE4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60F5-E08B-4462-B07A-CC56F5E3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9B7-B2BD-42DB-854F-F06D705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A3D-91C2-4C19-9102-28C1B7D3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0C21-92D3-42A2-BB9F-CF62F196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03B-D1F1-4C4E-BBF6-58867C3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078-9C1E-4172-8559-D40215DF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A72-9EB1-4106-852B-BF56F1E3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A52-8E6F-4340-A0C4-458F771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E1A-D1FB-45F3-B23C-69508D3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1F8-8477-4217-B0B6-3ABC8BF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182-50B9-433C-A7F2-F14ECF1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978-BECB-4FAD-9B01-501E9577D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C224-8A5D-4492-8C0D-31CB92967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CROWAVE CONTESTING </a:t>
            </a:r>
            <a:r>
              <a:rPr b="1" lang="en-US" sz="4400" spc="-1" strike="noStrike">
                <a:solidFill>
                  <a:srgbClr val="ffff00"/>
                </a:solidFill>
                <a:latin typeface="Matisse ITC"/>
              </a:rPr>
              <a:t>Pirate Sty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atisse ITC"/>
              </a:rPr>
              <a:t>K8GP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 Spruce Kno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crowave Update - October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03/1296 OPERATING POSI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34320" y="5335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TS2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I 9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37920" y="304920"/>
            <a:ext cx="4876920" cy="68580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761760"/>
            <a:ext cx="3124080" cy="22860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WAVE 500 W 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514600"/>
            <a:ext cx="2743200" cy="30492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V@60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886200"/>
            <a:ext cx="4114800" cy="114300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632448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96 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X72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57600" y="5486040"/>
            <a:ext cx="3124080" cy="106668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304+ OPERATING POS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304+ DETAI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304 – DB6NT xvtr – DB6NT driver – DL2AM 135 w amp – 7/8” Heliax – M/M DB6NT preamp – 6’ d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456 – DB6NT xvtr – DL2AM 135 w amp – 7/8” Heliax – M/M DB6NT preamp – 6’d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760 – M/M DB6NT xvtr – DB6NT preamp – DB6NT 35 w amp – 4’ d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G – M/M DB6NT xvtr – DB6NT preamp – DB6NT driver – DL2AM 35 w amp – 4’ dis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W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3886200" cy="53352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6248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8V@880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6477120"/>
            <a:ext cx="3733920" cy="7596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029200"/>
            <a:ext cx="3200400" cy="60948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4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657600"/>
            <a:ext cx="3504960" cy="76212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CROWAVE CHALLEN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Frequency am I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ctly What Direction is that St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ough Power that you can be He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05320" y="228600"/>
            <a:ext cx="198108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DB6NT xv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762120"/>
            <a:ext cx="0" cy="53316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66880" y="1295280"/>
            <a:ext cx="1905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95280"/>
            <a:ext cx="18288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057400"/>
            <a:ext cx="1828800" cy="3808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PED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743200"/>
            <a:ext cx="1904760" cy="5335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5 watt 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447920"/>
            <a:ext cx="0" cy="6094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520" y="3048120"/>
            <a:ext cx="762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21337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666880" y="1294920"/>
            <a:ext cx="0" cy="76212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066680"/>
            <a:ext cx="1066680" cy="38124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pre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048120"/>
            <a:ext cx="9907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838080"/>
            <a:ext cx="0" cy="2057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057400"/>
            <a:ext cx="114300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400800" y="2286000"/>
            <a:ext cx="5335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95280"/>
            <a:ext cx="38088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581280"/>
            <a:ext cx="2057400" cy="304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DB6NT xv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495680"/>
            <a:ext cx="1905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962520"/>
            <a:ext cx="0" cy="45720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5181480"/>
            <a:ext cx="1524240" cy="304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DB6NT 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5181480"/>
            <a:ext cx="1676520" cy="304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DB6NT am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5943600"/>
            <a:ext cx="2133360" cy="3808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568"/>
                </a:solidFill>
                <a:latin typeface="Times New Roman"/>
              </a:rPr>
              <a:t>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838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6095880"/>
            <a:ext cx="762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6095880"/>
            <a:ext cx="7621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4572000"/>
            <a:ext cx="0" cy="53352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562720"/>
            <a:ext cx="0" cy="4572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419112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638680"/>
            <a:ext cx="0" cy="9144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648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IT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ar High Population Ce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8GP TOWER MOU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54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-MAN TOWER INSTAL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903/1296 ANTENN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CROWAVE DIS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ON EL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S8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I 2M INTERNAL/EXTERNAL XV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AMP SEQUENCER/BAND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ME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2 ORION ROT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23:26:15Z</dcterms:created>
  <dc:creator>Gene Zimmerman</dc:creator>
  <dc:description/>
  <dc:language>en-US</dc:language>
  <cp:lastModifiedBy>Joseph Jurecka</cp:lastModifiedBy>
  <dcterms:modified xsi:type="dcterms:W3CDTF">2004-10-16T17:18:47Z</dcterms:modified>
  <cp:revision>4</cp:revision>
  <dc:subject/>
  <dc:title>MICROWAVE CONTESTING Pirate Style</dc:title>
</cp:coreProperties>
</file>