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DD5-66F7-4834-B1D5-8C798ED2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5B16-F800-4899-8B78-30DB0BA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C20-9BF6-4D67-BED4-AC396576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9D1-9428-4B2F-A9D3-7204E76F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AD4-624F-42A5-88C5-1FA664C1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F66-5BBC-4937-B62E-FDE6385C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9C3-DA84-4A15-A02F-E655A04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A14-D2C2-43A5-B847-4E4CF14E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4920" y="228600"/>
            <a:ext cx="6248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71B-9FC0-4419-8048-F5032AB5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5CF-3128-4D2E-B5ED-9F00ED8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0C4-01E0-4AA4-AA84-A0374DD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FA7-DBE9-46C9-8242-F99BF2C5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5IU, October 16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3" marL="13716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3" marL="13716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2GPS   </a:t>
            </a:r>
            <a:fld id="{869022BC-D539-4074-8265-DDF8AB2955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428840"/>
            <a:ext cx="9132840" cy="74520"/>
          </a:xfrm>
          <a:prstGeom prst="rect">
            <a:avLst/>
          </a:prstGeom>
          <a:gradFill rotWithShape="0">
            <a:gsLst>
              <a:gs pos="0">
                <a:srgbClr val="005f5f"/>
              </a:gs>
              <a:gs pos="50000">
                <a:srgbClr val="00c0c0"/>
              </a:gs>
              <a:gs pos="100000">
                <a:srgbClr val="00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8c198c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00ff"/>
              </a:buClr>
              <a:buSzPct val="6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6531120"/>
            <a:ext cx="64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37BA-64EE-48F3-87E7-3B9D5F78681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27080" y="152280"/>
            <a:ext cx="890640" cy="10670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067600" y="152280"/>
            <a:ext cx="8827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URRENT AND FUTURE MICROWAVE SATELLIT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905120"/>
            <a:ext cx="7010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CURRENT and FUTURE MICROWAVE SATELLITES</a:t>
            </a: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October 2004 Statu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Presen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Keith Pugh, W5I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48769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Microwave Update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Dallas/Fort Worth, TX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Saturday October 16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RF Subsystems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2.4 GHz S-Band Transmitter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952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iter &amp; interface 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 Schultz KE4N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iter draws 38.3 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.0 dBm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4135320"/>
            <a:ext cx="4648320" cy="226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60036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Mode L/S Hardware Updat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33560" y="54860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Schultz KE4NNF designed the exciter and Charlie Suckling G3WDG designed the power amplifier. Lou McFadin W5DID mounted wired the modules. Photo by Stan Wood WA4N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5058000" cy="3751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2892600" cy="304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320" y="47970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band antenn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68.700 MHz 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1.200 MHz dow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by Stan Wood WA4NF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Integrated Flight Computer (IFC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35816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0" tIns="0" bIns="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 proven, low-power &lt; 300 m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Rx and 6 Tx SCC (data)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B EDAC, 16 MB RAM,16MB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demod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ul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Spacecraft Flight Software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752480"/>
            <a:ext cx="5105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0" tIns="0" bIns="0" anchor="t">
            <a:normAutofit/>
          </a:bodyPr>
          <a:p>
            <a:pPr marL="231840" indent="-231840">
              <a:lnSpc>
                <a:spcPct val="100000"/>
              </a:lnSpc>
              <a:spcBef>
                <a:spcPts val="34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craft Operating System (SC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7160">
              <a:lnSpc>
                <a:spcPct val="100000"/>
              </a:lnSpc>
              <a:spcBef>
                <a:spcPts val="3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Harold Price NK6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34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 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7160">
              <a:lnSpc>
                <a:spcPct val="100000"/>
              </a:lnSpc>
              <a:spcBef>
                <a:spcPts val="3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Diersing N5A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34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And Telemetr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7160">
              <a:lnSpc>
                <a:spcPct val="100000"/>
              </a:lnSpc>
              <a:spcBef>
                <a:spcPts val="3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station Windows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34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 Loader Proto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120" indent="-227160">
              <a:lnSpc>
                <a:spcPct val="100000"/>
              </a:lnSpc>
              <a:spcBef>
                <a:spcPts val="3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station Windows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57800" y="4511520"/>
            <a:ext cx="361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White WD0E’s Integration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5410080"/>
            <a:ext cx="327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keeping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Power Generati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0" bIns="0" anchor="t">
            <a:normAutofit/>
          </a:bodyPr>
          <a:p>
            <a:pPr marL="225360" indent="-22536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high efficiency Solar Pan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le junction MCORE GaAs cells (~27%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0W when not in eclipse (12-14W per sid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3581640" cy="238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5791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Kanawati N4TPY carrying $20,000 worth of solar cells and sooo casually spreading glue all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848720" y="6095880"/>
            <a:ext cx="438120" cy="533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105520" y="34290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280" y="1600200"/>
            <a:ext cx="4572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ous, fail-sa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KHz 89% e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he spacecraft alive at all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ges the battery using only solar power, so will charge a dead ba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Power Distribution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Battery Control Regulator (BCR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48006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the battery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harging or depl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necessary voltages and tele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08520" y="1600200"/>
            <a:ext cx="4030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Power Distribution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 Batteri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set of six NiC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Ah each, nomi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VD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57135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Attitude Control (Experimental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magnetic attitude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permanent magnetic r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 and polarity can be adju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54100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's possible to turn the satellite upside dow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M voice repeater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5.920 MHz uplink with 67 Hz PL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5.300 MHz downli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comes on only when it hears a 67 Hz PL for one second and stays on for up to ten seconds after the tone disapp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power is 1 Watt may be as high as 6 Wat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URRENT AND FUTURE MICROWAVE SATELLITE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835280"/>
            <a:ext cx="70102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CURRENT MICROWAVE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AO-51 – “Ech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UO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FUTURE MICROWAVE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SSETI Express – AMSAT-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PHASE 3-E (Express) – AMSAT-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EAGLE – AMSAT-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MSAT’s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</a:rPr>
              <a:t>Our Vision is to deploy high earth orbit satellite systems that offer daily coverage by 2009 and continuous coverage by 2012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all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5.860 up, 435.150 down at 9,600 b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will be set to one Wat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nd forward bulletin board system (BBS) using PACSAT Protocol Su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downlink will also contain tele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orbit data will be available for downlo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roadcast periodic APRS status mess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Operation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ers'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s (U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mode may be in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d a week or more in adv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is digital; 1268.700 up at 9,600 baud and 2401.200 MHz down at 38,400 bau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common modes include L/S FM voice and L/S Data with 9,600 baud up and 38,400 or 76,800 baud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Status Update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Launch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7608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10080" y="548640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epr LV (SS-18) launch from Baikonur Cosmodrome in Kazakhstan, Dec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1523880"/>
            <a:ext cx="3657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took pla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8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5627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AprizeStar satellites by SpaceQuest ready for launch. These are very similar to AO-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Integration of MicroSats to Space Head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71600" y="1638360"/>
            <a:ext cx="639936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8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Space Head Loading into Silo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20760" y="1600200"/>
            <a:ext cx="6399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44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Dnepr Launch from Silo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19320" y="1677960"/>
            <a:ext cx="6399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08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Volunteer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Kingery KE4AZN for on-site support of integration testing, including the loan of his satellite station, and for developing command and telemetry ground stati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aceQuest team, especially Mark Kanawati N4TPY and Dr. Dino Lorenzini KC4YMG who are also AMSAT members and volunte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White WD0E for his technical contributions, leadership skills and for the many hundreds of hours he has inv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old Price NK6K, for his donation of the Spacecraft Operating System (SCOS) kernel and file system and for his on-site integration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Diersing N5AHD, for his timely work on the boot lo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Hansen WB6YMH, for his efforts on the ground station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Schultz KE4NNF, Charlie Suckling G3WDG,  Lou McFadin W5DID and Stan Wood WA4NFY for their work on the S-band transmitter and L/S band antenna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MSAT project management team for their help and assista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 Clark W3IWI, Rick Hambly W2GPS and Dick Daniels W4PU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Bern W2LNX, for his assistance with the ground station hard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60020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cial recognition is due to the following for their contributions and support during the integration phase of the Echo proje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SSETI Express – AMSAT-UK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1835280"/>
            <a:ext cx="7010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Short Fuse” project in conjunction with European Space Agency (ESA) for Education Out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Launch in late 2004 or early 2005 on Ari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Low Earth Or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Original Purpose – Support Student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U Band command up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S Band data down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When Experiments are complete – turn over for use as an Amateur Radio Mode U/S tran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Hardware Design – Common with other satel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S Band PA common with AO-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PHASE 3-E (Express) – AMSAT-DL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835280"/>
            <a:ext cx="7010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Arial"/>
              </a:rPr>
              <a:t>AMSAT-DL initiative to fill gap left by failure of AO-40 in Feb.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High earth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Phase 3-A/B Spac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Maximum use of existing design from AO-40 and other satell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Launch in late 2005 or early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Probable Ariane launch – others und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Uplinks on V, U, L, &amp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Downlinks on U, S, X, &amp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b61"/>
                </a:solidFill>
                <a:latin typeface="Arial"/>
              </a:rPr>
              <a:t>Other experiments under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b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What’s Next? (from AMSAT-NA)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867120" cy="3189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2938320" cy="3264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6400800" cy="3274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24120" y="5181480"/>
            <a:ext cx="2590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62Cu M ~100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Eliptical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120 Watt power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66880" y="1676520"/>
            <a:ext cx="2476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agle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 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now 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51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76520"/>
            <a:ext cx="39621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AO-E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July 2004 Status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Present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Robin Haighton VE3F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b61"/>
                </a:solidFill>
                <a:latin typeface="Arial"/>
              </a:rPr>
              <a:t>Richard M. Hambly, W2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6483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19</a:t>
            </a:r>
            <a:r>
              <a:rPr b="1" i="1" lang="en-US" sz="2800" spc="-1" strike="noStrike" baseline="30000">
                <a:solidFill>
                  <a:srgbClr val="3333ff"/>
                </a:solidFill>
                <a:latin typeface="Comic Sans MS"/>
              </a:rPr>
              <a:t>th</a:t>
            </a: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 AMSAT-UK Colloquium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University of Surre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Comic Sans MS"/>
              </a:rPr>
              <a:t>Saturday July 31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974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Eagle Implementati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81080"/>
            <a:ext cx="891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676520"/>
            <a:ext cx="71629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eam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Team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use of “SDR”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“C-C Rider” concept developed by Tom Clark, W3IWI, as presented at 2003 and 2004 AMSAT-NA Symposi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Raising –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Phase 3-E” and two “Eagles” will fulfill AMSAT’s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981080"/>
            <a:ext cx="891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1676520"/>
            <a:ext cx="71629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0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  100 Kg or less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2.0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600 mm x 600 mm x 45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3.0 Stab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pin stabi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4.0 Or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H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5.0 Attitud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Magnetorquers and nutation dam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.Earth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Su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Stabilization to required attitude within 72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6.0 Therm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Battery Temperature -15 C to +15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Electronics  Temperature -25 to + 40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7.0 Power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2 Fixed &amp; 4 deployable solar panels with omni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Fault tolerant BCR and battery system that fails in operational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Buss Voltage 10 to 14 Volts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8.0 Pro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` The simplest system  to provide right orbit &amp; is acceptable to launch agency – Initial estimate to provide 60 delta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The propulsion system sho0uld be mo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9.0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Aluminum Honeycomb panels forming core structure supporting internal modules and integrated separation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Separation interface is located on the –Z side, and is launcher 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consider the possibility of side mou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0.0 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 IHU-3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 CAN-Do Information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1.0 Anten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1 High Gain on +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1.1  U-Band (435 MHz), L-Band (1.2 GHz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Band (2.4 GHz), C-Band (5.6 G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2 Onmi Antennas on –Z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in all attitudes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(145 MHz), U. L. &amp;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3 Onmi Antennas +Z,  U, L,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67652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2.0  Payl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2.1 Transm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1 V-Band 20KHz Bandwidth – SDR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2  S-Band –two of them – Redund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2.1 100KHz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2.2  either Tx can be driven by SDR or an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3  C-Band wide band digital including tele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.4  All Tx to be capable of being operat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2.0 Payload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2.2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2.1 U-Band – 100  KHz 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2.2 L-Band -  100  KHz 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2.3 C-Band -  wideband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2.3 GPS – 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2.4 CEDEX – SS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5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me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arrow FOV on + Z ax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FOV on –Z axis, cameras to survive all beta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Eagle Requirement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yloads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2.6 Telemetry Bea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6.1 to be active on all transmitters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2.7 Command up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on both U and L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3.0 Magnetic enviro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1 The satellite is to be as magnetically clea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Technical Overview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1528920"/>
            <a:ext cx="5562720" cy="52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7680" y="205740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Communications Block Diagram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6248520"/>
            <a:ext cx="1981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od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57200" y="22093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09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32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7242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5105520"/>
            <a:ext cx="198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Band Multi-Mode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048120"/>
            <a:ext cx="60984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F 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066680" y="36572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6576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305920" y="29714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924320" y="5105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924320" y="29718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4680" y="3581280"/>
            <a:ext cx="6858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HF 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5840" y="1523880"/>
            <a:ext cx="6856560" cy="4605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6095880"/>
            <a:ext cx="2210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Demod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64771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81280" y="6248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63244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63244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6477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76920" y="6248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5715000"/>
            <a:ext cx="137160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62485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400800" y="6019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6324480" y="52578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MSAT OSCAR-E (“Echo”)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began December 8,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White WD0E and Mike Kingery KE4AZN arrived at SpaceQuest in Fairfax 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in Jan/Feb AMSAT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4998600"/>
            <a:ext cx="48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r Dick Daniels W4PUJ watching over Integration Team Leader Jim White WD0E at SpaceQuest on 18-Dec-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RF Subsystems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Receiver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iniature VHF FM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40 mW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40 gm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eceiver has 2-channel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1dbm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db SIN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5105160" cy="4719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27840" y="1959120"/>
            <a:ext cx="316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HF PreAmp/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952520" y="2362320"/>
            <a:ext cx="381240" cy="609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120" y="3863880"/>
            <a:ext cx="2436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face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8200" y="3178080"/>
            <a:ext cx="3222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VHF Rece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568600"/>
            <a:ext cx="3342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-Way Power Spl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3920" y="2971800"/>
            <a:ext cx="76212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90960" y="3657600"/>
            <a:ext cx="152280" cy="1143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426708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RF Subsystems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Transmitters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UHF FM transmitters that can be operated simultaneous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6 watts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agile in 2.5KHz steps, tunable over about 20 M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791320" cy="4930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5790960" y="2514600"/>
            <a:ext cx="152280" cy="4572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20600" y="1909800"/>
            <a:ext cx="41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HF Hybrid Comb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11680" y="343368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62720" y="3962520"/>
            <a:ext cx="167616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619760" y="4038480"/>
            <a:ext cx="15228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AO-E RF Subsystems</a:t>
            </a:r>
            <a:br>
              <a:rPr sz="2800"/>
            </a:br>
            <a:r>
              <a:rPr b="0" lang="en-US" sz="2800" spc="-1" strike="noStrike">
                <a:solidFill>
                  <a:srgbClr val="006b61"/>
                </a:solidFill>
                <a:latin typeface="Arial"/>
              </a:rPr>
              <a:t>Multi-band Receiver</a:t>
            </a:r>
            <a:endParaRPr b="0" lang="en-US" sz="2800" spc="-1" strike="noStrike">
              <a:solidFill>
                <a:srgbClr val="006b6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-mode, 10m, 2m, 70cm and 23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limited by broadband ante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791320" cy="4930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5715000" y="2971440"/>
            <a:ext cx="76320" cy="10666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09320" y="4167360"/>
            <a:ext cx="417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 Mode Recei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under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HF Hybrid Combi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17:41:07Z</dcterms:created>
  <dc:creator>Richard M. Hambly</dc:creator>
  <dc:description/>
  <dc:language>en-US</dc:language>
  <cp:lastModifiedBy>Joseph Jurecka</cp:lastModifiedBy>
  <cp:lastPrinted>1996-04-25T23:02:22Z</cp:lastPrinted>
  <dcterms:modified xsi:type="dcterms:W3CDTF">2004-10-16T17:28:20Z</dcterms:modified>
  <cp:revision>237</cp:revision>
  <dc:subject/>
  <dc:title>PowerPoint Presentation</dc:title>
</cp:coreProperties>
</file>