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EC976-891B-4FE2-BD25-39020F683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EB264-9A5A-4FF7-A614-917C6B129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3E7E4-F482-4FE6-9531-EAB11D477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7132F-75C3-4C9A-A984-2BFA4AE4C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764F4-DA8B-4C86-A570-094986B7A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2AB73-D0F9-4535-8C3A-E06DA80C3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3240F-7F76-447B-B324-0F2C2F039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CE1E5-00CC-45EE-80AF-0C1E36CA9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6976C-9497-4FBD-9896-FAE19F654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7258D-694A-413B-A3DF-2A55D10FA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D2DEF-AD1D-4CA4-B577-02A888E6C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CC814-FF2E-46CC-AEFF-0D00F5169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6D07E-927C-41F8-B52F-9CA7BBAB9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897A6-1100-4987-A143-86F71E555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C6E17-21AB-4CBF-A099-7072BDEDF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04B55-7A7E-4E51-8857-6C2C14895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06677-8EF0-4980-8BB8-61539044B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9E137-394E-4105-84BD-3356012EE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E9C6F-B6A9-4E9B-8CF6-8429CC0DF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C9F5E-BB8C-4E60-BE3C-91EFEE421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371EC-7FD1-4A29-93C1-59F547C72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7B810-12CC-49AE-8E1A-582407117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B9A8C-8385-4B2D-B7D9-B3EF189A3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4FA25-9472-4BD8-9D88-E3D501C23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36EA-9710-4C64-92EE-C06D1D75FA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4B41-00F9-4FC3-8CE3-57401D77AA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ea typeface="Times New Roman"/>
              </a:rPr>
              <a:t>Study of the Bands </a:t>
            </a:r>
            <a:br>
              <a:rPr sz="4400"/>
            </a:br>
            <a:r>
              <a:rPr b="1" lang="en-GB" sz="4400" spc="-1" strike="noStrike">
                <a:solidFill>
                  <a:srgbClr val="ffcc66"/>
                </a:solidFill>
                <a:latin typeface="Arial"/>
                <a:ea typeface="Times New Roman"/>
              </a:rPr>
              <a:t>420 MHz – 24.25 GHz</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89" name="PlaceHolder 2"/>
          <p:cNvSpPr>
            <a:spLocks noGrp="1"/>
          </p:cNvSpPr>
          <p:nvPr>
            <p:ph type="subTitle"/>
          </p:nvPr>
        </p:nvSpPr>
        <p:spPr>
          <a:xfrm>
            <a:off x="914400" y="33523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Regulatory Issues and Allocation Stat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2395-2400 MHz</a:t>
            </a:r>
            <a:endParaRPr b="0" lang="en-US" sz="4400" spc="-1" strike="noStrike">
              <a:solidFill>
                <a:srgbClr val="ffcc66"/>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ateur Primary, no Secondary Alloc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FCC sharing propos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1400" spc="-1" strike="noStrike">
                <a:solidFill>
                  <a:srgbClr val="ffffff"/>
                </a:solidFill>
                <a:latin typeface="Times New Roman"/>
              </a:rPr>
              <a:t>no amateur activit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noise floor increase from Part 15 Wi-Fi and Part 18 devices in 2400-2450 MH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Amateur Satellite Alloc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verters avail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2400-2450 MHz</a:t>
            </a:r>
            <a:endParaRPr b="0" lang="en-US" sz="4400" spc="-1" strike="noStrike">
              <a:solidFill>
                <a:srgbClr val="ffcc66"/>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400-2417 MHz Amateur Primary, rest Secondar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tellite Operation Limited to 2400-2402 MH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location Secondary at 2417-2450 MHz (military services on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02.11(b) principally us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3300-3500 MHz (9 cm band)</a:t>
            </a:r>
            <a:endParaRPr b="0" lang="en-US" sz="4400" spc="-1" strike="noStrike">
              <a:solidFill>
                <a:srgbClr val="ffcc66"/>
              </a:solidFill>
              <a:latin typeface="Arial"/>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location service primary; airborne search and surveillance and radar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didate band for Fixed Wireless Acces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ailable only in Regions 2 and 3.</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acons and weak signal, one CA repeater.</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tellite allocation at 3400-3410 MHz.</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d Plan only for beacons at 3456.3-3456.4 MH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5650-5725 MHz (5 cm band)</a:t>
            </a:r>
            <a:endParaRPr b="0" lang="en-US" sz="4400" spc="-1" strike="noStrike">
              <a:solidFill>
                <a:srgbClr val="ffcc66"/>
              </a:solidFill>
              <a:latin typeface="Arial"/>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ment radiolocation primar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650-5670 MHz Amateur Satellite primary, all 3 regions (Uplinks on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ailable for U-NII applications (802.11)</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Amateur Terrestrial Oper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5725-5925 MHz (5 cm band)</a:t>
            </a:r>
            <a:endParaRPr b="0" lang="en-US" sz="4400" spc="-1" strike="noStrike">
              <a:solidFill>
                <a:srgbClr val="ffcc66"/>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lligent Transportation Systems (DSRC) from 5850-5925 MHz.</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I from 5725-5825 MHz.</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ise floor increase predicted at 5760 MHz due to high-power Part 15 opera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to 5825-5830 MHz for weak-signal?</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al Government Radiolocation at 5825-5850 MHz.</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ateur-Satellite Downlink at 5830-5850 MHz</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10.0-10.5 GHz (3 cm band)</a:t>
            </a:r>
            <a:endParaRPr b="0" lang="en-US" sz="4400" spc="-1" strike="noStrike">
              <a:solidFill>
                <a:srgbClr val="ffcc66"/>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olocation primary (Military radar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Heaviest used microwave band above 2450 MHz in the United States and Europe</a:t>
            </a:r>
            <a:r>
              <a:rPr b="0" lang="en-US" sz="2800" spc="-1" strike="noStrike">
                <a:solidFill>
                  <a:srgbClr val="ffffff"/>
                </a:solidFill>
                <a:latin typeface="Times New Roman"/>
              </a:rPr>
              <a:t> by Amateur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10.15-10.30 GHz band (paired with 10.5-10.65 GHz) is a candidate band for fixed wireless acces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Amateur Satellite activi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domestic regulatory proposals affecting this ban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ea typeface="Times New Roman"/>
              </a:rPr>
              <a:t>24-24.25 GHz (1.2 cm Band)</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Amateur Service primary at 24.00-24.05 GHz in all 3 regions; Secondary above that.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Earth Exploration-satellite service (EESS) operates active sensors on a secondary basi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High power Part 15 devices with directional antennas permitted above 24.05 GH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roader Issues</a:t>
            </a:r>
            <a:endParaRPr b="0" lang="en-US" sz="4400" spc="-1" strike="noStrike">
              <a:solidFill>
                <a:srgbClr val="ffcc66"/>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ck of use of Microwave band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ltra-wideband (UWB) between </a:t>
            </a:r>
            <a:r>
              <a:rPr b="0" lang="en-GB" sz="3200" spc="-1" strike="noStrike">
                <a:solidFill>
                  <a:srgbClr val="ffffff"/>
                </a:solidFill>
                <a:latin typeface="Times New Roman"/>
                <a:ea typeface="Times New Roman"/>
              </a:rPr>
              <a:t>3.1-10.6 GHz; could interfere with 3-, 5- and 10-GHz amateur bands, from nearby emitters or aggregate effect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TIA unwillingness to protect government allocations vs. FCC open-door polic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
          <p:cNvSpPr/>
          <p:nvPr/>
        </p:nvSpPr>
        <p:spPr>
          <a:xfrm>
            <a:off x="0" y="914400"/>
            <a:ext cx="9144000" cy="3020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following is a brief listing of current regulatory issues affecting the UHF and Microwave Amateur Allocations. Most bands are not directly threatened, given that most are shared with Federal Government, which views the Amateur Service as a compatible sharing partner. However, recent trends toward accommodating high power unlicensed devices are a continuing threat to many microwave bands, as is the increasing commercial value of them to other radio servic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365120" y="4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92" name=""/>
          <p:cNvGrpSpPr/>
          <p:nvPr/>
        </p:nvGrpSpPr>
        <p:grpSpPr>
          <a:xfrm>
            <a:off x="1360440" y="42840"/>
            <a:ext cx="6424560" cy="6772320"/>
            <a:chOff x="1360440" y="42840"/>
            <a:chExt cx="6424560" cy="6772320"/>
          </a:xfrm>
        </p:grpSpPr>
        <p:grpSp>
          <p:nvGrpSpPr>
            <p:cNvPr id="93" name=""/>
            <p:cNvGrpSpPr/>
            <p:nvPr/>
          </p:nvGrpSpPr>
          <p:grpSpPr>
            <a:xfrm>
              <a:off x="1365120" y="47520"/>
              <a:ext cx="6415200" cy="6762600"/>
              <a:chOff x="1365120" y="47520"/>
              <a:chExt cx="6415200" cy="6762600"/>
            </a:xfrm>
          </p:grpSpPr>
          <p:grpSp>
            <p:nvGrpSpPr>
              <p:cNvPr id="94" name=""/>
              <p:cNvGrpSpPr/>
              <p:nvPr/>
            </p:nvGrpSpPr>
            <p:grpSpPr>
              <a:xfrm>
                <a:off x="1365120" y="47520"/>
                <a:ext cx="6415200" cy="639720"/>
                <a:chOff x="1365120" y="47520"/>
                <a:chExt cx="6415200" cy="639720"/>
              </a:xfrm>
            </p:grpSpPr>
            <p:sp>
              <p:nvSpPr>
                <p:cNvPr id="95" name=""/>
                <p:cNvSpPr/>
                <p:nvPr/>
              </p:nvSpPr>
              <p:spPr>
                <a:xfrm>
                  <a:off x="1433520" y="47520"/>
                  <a:ext cx="62784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United States Allocati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
                <p:cNvSpPr/>
                <p:nvPr/>
              </p:nvSpPr>
              <p:spPr>
                <a:xfrm>
                  <a:off x="1365120" y="47520"/>
                  <a:ext cx="641520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7" name=""/>
              <p:cNvGrpSpPr/>
              <p:nvPr/>
            </p:nvGrpSpPr>
            <p:grpSpPr>
              <a:xfrm>
                <a:off x="1365120" y="687240"/>
                <a:ext cx="3206880" cy="639720"/>
                <a:chOff x="1365120" y="687240"/>
                <a:chExt cx="3206880" cy="639720"/>
              </a:xfrm>
            </p:grpSpPr>
            <p:sp>
              <p:nvSpPr>
                <p:cNvPr id="98" name=""/>
                <p:cNvSpPr/>
                <p:nvPr/>
              </p:nvSpPr>
              <p:spPr>
                <a:xfrm>
                  <a:off x="1433520" y="687240"/>
                  <a:ext cx="307008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Amateur Servic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
                <p:cNvSpPr/>
                <p:nvPr/>
              </p:nvSpPr>
              <p:spPr>
                <a:xfrm>
                  <a:off x="1365120" y="687240"/>
                  <a:ext cx="3206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0" name=""/>
              <p:cNvGrpSpPr/>
              <p:nvPr/>
            </p:nvGrpSpPr>
            <p:grpSpPr>
              <a:xfrm>
                <a:off x="4572000" y="687240"/>
                <a:ext cx="3208320" cy="639720"/>
                <a:chOff x="4572000" y="687240"/>
                <a:chExt cx="3208320" cy="639720"/>
              </a:xfrm>
            </p:grpSpPr>
            <p:sp>
              <p:nvSpPr>
                <p:cNvPr id="101" name=""/>
                <p:cNvSpPr/>
                <p:nvPr/>
              </p:nvSpPr>
              <p:spPr>
                <a:xfrm>
                  <a:off x="4640040" y="687240"/>
                  <a:ext cx="307188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Amateur-Satellite Servic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
                <p:cNvSpPr/>
                <p:nvPr/>
              </p:nvSpPr>
              <p:spPr>
                <a:xfrm>
                  <a:off x="4572000" y="687240"/>
                  <a:ext cx="320832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3" name=""/>
              <p:cNvGrpSpPr/>
              <p:nvPr/>
            </p:nvGrpSpPr>
            <p:grpSpPr>
              <a:xfrm>
                <a:off x="1365120" y="1326960"/>
                <a:ext cx="1603440" cy="639720"/>
                <a:chOff x="1365120" y="1326960"/>
                <a:chExt cx="1603440" cy="639720"/>
              </a:xfrm>
            </p:grpSpPr>
            <p:sp>
              <p:nvSpPr>
                <p:cNvPr id="104" name=""/>
                <p:cNvSpPr/>
                <p:nvPr/>
              </p:nvSpPr>
              <p:spPr>
                <a:xfrm>
                  <a:off x="1433520" y="1326960"/>
                  <a:ext cx="14666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Band (MHz)</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
                <p:cNvSpPr/>
                <p:nvPr/>
              </p:nvSpPr>
              <p:spPr>
                <a:xfrm>
                  <a:off x="1365120" y="1326960"/>
                  <a:ext cx="1603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6" name=""/>
              <p:cNvGrpSpPr/>
              <p:nvPr/>
            </p:nvGrpSpPr>
            <p:grpSpPr>
              <a:xfrm>
                <a:off x="2968560" y="1326960"/>
                <a:ext cx="1603440" cy="639720"/>
                <a:chOff x="2968560" y="1326960"/>
                <a:chExt cx="1603440" cy="639720"/>
              </a:xfrm>
            </p:grpSpPr>
            <p:sp>
              <p:nvSpPr>
                <p:cNvPr id="107" name=""/>
                <p:cNvSpPr/>
                <p:nvPr/>
              </p:nvSpPr>
              <p:spPr>
                <a:xfrm>
                  <a:off x="3036600" y="1326960"/>
                  <a:ext cx="1467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Bandwidth (MHz)</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
                <p:cNvSpPr/>
                <p:nvPr/>
              </p:nvSpPr>
              <p:spPr>
                <a:xfrm>
                  <a:off x="2968560" y="1326960"/>
                  <a:ext cx="1603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9" name=""/>
              <p:cNvGrpSpPr/>
              <p:nvPr/>
            </p:nvGrpSpPr>
            <p:grpSpPr>
              <a:xfrm>
                <a:off x="4572000" y="1326960"/>
                <a:ext cx="1603080" cy="639720"/>
                <a:chOff x="4572000" y="1326960"/>
                <a:chExt cx="1603080" cy="639720"/>
              </a:xfrm>
            </p:grpSpPr>
            <p:sp>
              <p:nvSpPr>
                <p:cNvPr id="110" name=""/>
                <p:cNvSpPr/>
                <p:nvPr/>
              </p:nvSpPr>
              <p:spPr>
                <a:xfrm>
                  <a:off x="4640040" y="1326960"/>
                  <a:ext cx="1467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Band (MHz)</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
                <p:cNvSpPr/>
                <p:nvPr/>
              </p:nvSpPr>
              <p:spPr>
                <a:xfrm>
                  <a:off x="4572000" y="1326960"/>
                  <a:ext cx="16030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2" name=""/>
              <p:cNvGrpSpPr/>
              <p:nvPr/>
            </p:nvGrpSpPr>
            <p:grpSpPr>
              <a:xfrm>
                <a:off x="6175080" y="1326960"/>
                <a:ext cx="1605240" cy="639720"/>
                <a:chOff x="6175080" y="1326960"/>
                <a:chExt cx="1605240" cy="639720"/>
              </a:xfrm>
            </p:grpSpPr>
            <p:sp>
              <p:nvSpPr>
                <p:cNvPr id="113" name=""/>
                <p:cNvSpPr/>
                <p:nvPr/>
              </p:nvSpPr>
              <p:spPr>
                <a:xfrm>
                  <a:off x="6243480" y="1326960"/>
                  <a:ext cx="14684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Bandwidth (MHz)</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
                <p:cNvSpPr/>
                <p:nvPr/>
              </p:nvSpPr>
              <p:spPr>
                <a:xfrm>
                  <a:off x="6175080" y="1326960"/>
                  <a:ext cx="16052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5" name=""/>
              <p:cNvGrpSpPr/>
              <p:nvPr/>
            </p:nvGrpSpPr>
            <p:grpSpPr>
              <a:xfrm>
                <a:off x="1365120" y="1966680"/>
                <a:ext cx="1603440" cy="639720"/>
                <a:chOff x="1365120" y="1966680"/>
                <a:chExt cx="1603440" cy="639720"/>
              </a:xfrm>
            </p:grpSpPr>
            <p:sp>
              <p:nvSpPr>
                <p:cNvPr id="116" name=""/>
                <p:cNvSpPr/>
                <p:nvPr/>
              </p:nvSpPr>
              <p:spPr>
                <a:xfrm>
                  <a:off x="1433520" y="1966680"/>
                  <a:ext cx="14666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902-928</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
                <p:cNvSpPr/>
                <p:nvPr/>
              </p:nvSpPr>
              <p:spPr>
                <a:xfrm>
                  <a:off x="1365120" y="1966680"/>
                  <a:ext cx="1603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8" name=""/>
              <p:cNvGrpSpPr/>
              <p:nvPr/>
            </p:nvGrpSpPr>
            <p:grpSpPr>
              <a:xfrm>
                <a:off x="2968560" y="1966680"/>
                <a:ext cx="1603440" cy="639720"/>
                <a:chOff x="2968560" y="1966680"/>
                <a:chExt cx="1603440" cy="639720"/>
              </a:xfrm>
            </p:grpSpPr>
            <p:sp>
              <p:nvSpPr>
                <p:cNvPr id="119" name=""/>
                <p:cNvSpPr/>
                <p:nvPr/>
              </p:nvSpPr>
              <p:spPr>
                <a:xfrm>
                  <a:off x="3036600" y="1966680"/>
                  <a:ext cx="1467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26</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
                <p:cNvSpPr/>
                <p:nvPr/>
              </p:nvSpPr>
              <p:spPr>
                <a:xfrm>
                  <a:off x="2968560" y="1966680"/>
                  <a:ext cx="1603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1" name=""/>
              <p:cNvGrpSpPr/>
              <p:nvPr/>
            </p:nvGrpSpPr>
            <p:grpSpPr>
              <a:xfrm>
                <a:off x="4572000" y="1966680"/>
                <a:ext cx="1603080" cy="639720"/>
                <a:chOff x="4572000" y="1966680"/>
                <a:chExt cx="1603080" cy="639720"/>
              </a:xfrm>
            </p:grpSpPr>
            <p:sp>
              <p:nvSpPr>
                <p:cNvPr id="122" name=""/>
                <p:cNvSpPr/>
                <p:nvPr/>
              </p:nvSpPr>
              <p:spPr>
                <a:xfrm>
                  <a:off x="4640040" y="1966680"/>
                  <a:ext cx="1467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
                <p:cNvSpPr/>
                <p:nvPr/>
              </p:nvSpPr>
              <p:spPr>
                <a:xfrm>
                  <a:off x="4572000" y="1966680"/>
                  <a:ext cx="16030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4" name=""/>
              <p:cNvGrpSpPr/>
              <p:nvPr/>
            </p:nvGrpSpPr>
            <p:grpSpPr>
              <a:xfrm>
                <a:off x="6175080" y="1966680"/>
                <a:ext cx="1605240" cy="639720"/>
                <a:chOff x="6175080" y="1966680"/>
                <a:chExt cx="1605240" cy="639720"/>
              </a:xfrm>
            </p:grpSpPr>
            <p:sp>
              <p:nvSpPr>
                <p:cNvPr id="125" name=""/>
                <p:cNvSpPr/>
                <p:nvPr/>
              </p:nvSpPr>
              <p:spPr>
                <a:xfrm>
                  <a:off x="6243480" y="1966680"/>
                  <a:ext cx="14684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
                <p:cNvSpPr/>
                <p:nvPr/>
              </p:nvSpPr>
              <p:spPr>
                <a:xfrm>
                  <a:off x="6175080" y="1966680"/>
                  <a:ext cx="16052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7" name=""/>
              <p:cNvGrpSpPr/>
              <p:nvPr/>
            </p:nvGrpSpPr>
            <p:grpSpPr>
              <a:xfrm>
                <a:off x="1365120" y="2606400"/>
                <a:ext cx="1603440" cy="640080"/>
                <a:chOff x="1365120" y="2606400"/>
                <a:chExt cx="1603440" cy="640080"/>
              </a:xfrm>
            </p:grpSpPr>
            <p:sp>
              <p:nvSpPr>
                <p:cNvPr id="128" name=""/>
                <p:cNvSpPr/>
                <p:nvPr/>
              </p:nvSpPr>
              <p:spPr>
                <a:xfrm>
                  <a:off x="1433520" y="2606400"/>
                  <a:ext cx="146664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1240-13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
                <p:cNvSpPr/>
                <p:nvPr/>
              </p:nvSpPr>
              <p:spPr>
                <a:xfrm>
                  <a:off x="1365120" y="2606400"/>
                  <a:ext cx="160344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0" name=""/>
              <p:cNvGrpSpPr/>
              <p:nvPr/>
            </p:nvGrpSpPr>
            <p:grpSpPr>
              <a:xfrm>
                <a:off x="2968560" y="2606400"/>
                <a:ext cx="1603440" cy="640080"/>
                <a:chOff x="2968560" y="2606400"/>
                <a:chExt cx="1603440" cy="640080"/>
              </a:xfrm>
            </p:grpSpPr>
            <p:sp>
              <p:nvSpPr>
                <p:cNvPr id="131" name=""/>
                <p:cNvSpPr/>
                <p:nvPr/>
              </p:nvSpPr>
              <p:spPr>
                <a:xfrm>
                  <a:off x="3036600" y="2606400"/>
                  <a:ext cx="146700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6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
                <p:cNvSpPr/>
                <p:nvPr/>
              </p:nvSpPr>
              <p:spPr>
                <a:xfrm>
                  <a:off x="2968560" y="2606400"/>
                  <a:ext cx="160344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3" name=""/>
              <p:cNvGrpSpPr/>
              <p:nvPr/>
            </p:nvGrpSpPr>
            <p:grpSpPr>
              <a:xfrm>
                <a:off x="4572000" y="2606400"/>
                <a:ext cx="1603080" cy="640080"/>
                <a:chOff x="4572000" y="2606400"/>
                <a:chExt cx="1603080" cy="640080"/>
              </a:xfrm>
            </p:grpSpPr>
            <p:sp>
              <p:nvSpPr>
                <p:cNvPr id="134" name=""/>
                <p:cNvSpPr/>
                <p:nvPr/>
              </p:nvSpPr>
              <p:spPr>
                <a:xfrm>
                  <a:off x="4640040" y="2606400"/>
                  <a:ext cx="146700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1260-1270 </a:t>
                  </a:r>
                  <a:r>
                    <a:rPr b="0" lang="en-GB" sz="1000" spc="-1" strike="noStrike">
                      <a:solidFill>
                        <a:srgbClr val="ffffff"/>
                      </a:solidFill>
                      <a:latin typeface="Wingdings"/>
                      <a:ea typeface="Wingdings"/>
                    </a:rPr>
                    <a: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5" name=""/>
                <p:cNvSpPr/>
                <p:nvPr/>
              </p:nvSpPr>
              <p:spPr>
                <a:xfrm>
                  <a:off x="4572000" y="2606400"/>
                  <a:ext cx="160308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6" name=""/>
              <p:cNvGrpSpPr/>
              <p:nvPr/>
            </p:nvGrpSpPr>
            <p:grpSpPr>
              <a:xfrm>
                <a:off x="6175080" y="2606400"/>
                <a:ext cx="1605240" cy="640080"/>
                <a:chOff x="6175080" y="2606400"/>
                <a:chExt cx="1605240" cy="640080"/>
              </a:xfrm>
            </p:grpSpPr>
            <p:sp>
              <p:nvSpPr>
                <p:cNvPr id="137" name=""/>
                <p:cNvSpPr/>
                <p:nvPr/>
              </p:nvSpPr>
              <p:spPr>
                <a:xfrm>
                  <a:off x="6243480" y="2606400"/>
                  <a:ext cx="146844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1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8" name=""/>
                <p:cNvSpPr/>
                <p:nvPr/>
              </p:nvSpPr>
              <p:spPr>
                <a:xfrm>
                  <a:off x="6175080" y="2606400"/>
                  <a:ext cx="160524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1365120" y="3246480"/>
                <a:ext cx="1603440" cy="822240"/>
                <a:chOff x="1365120" y="3246480"/>
                <a:chExt cx="1603440" cy="822240"/>
              </a:xfrm>
            </p:grpSpPr>
            <p:sp>
              <p:nvSpPr>
                <p:cNvPr id="140" name=""/>
                <p:cNvSpPr/>
                <p:nvPr/>
              </p:nvSpPr>
              <p:spPr>
                <a:xfrm>
                  <a:off x="1433520" y="3246480"/>
                  <a:ext cx="146664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2300-231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2390-245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 name=""/>
                <p:cNvSpPr/>
                <p:nvPr/>
              </p:nvSpPr>
              <p:spPr>
                <a:xfrm>
                  <a:off x="1365120" y="3246480"/>
                  <a:ext cx="160344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2968560" y="3246480"/>
                <a:ext cx="1603440" cy="822240"/>
                <a:chOff x="2968560" y="3246480"/>
                <a:chExt cx="1603440" cy="822240"/>
              </a:xfrm>
            </p:grpSpPr>
            <p:sp>
              <p:nvSpPr>
                <p:cNvPr id="143" name=""/>
                <p:cNvSpPr/>
                <p:nvPr/>
              </p:nvSpPr>
              <p:spPr>
                <a:xfrm>
                  <a:off x="3036600" y="3246480"/>
                  <a:ext cx="1467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1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6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 name=""/>
                <p:cNvSpPr/>
                <p:nvPr/>
              </p:nvSpPr>
              <p:spPr>
                <a:xfrm>
                  <a:off x="2968560" y="3246480"/>
                  <a:ext cx="160344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4572000" y="3246480"/>
                <a:ext cx="1603080" cy="822240"/>
                <a:chOff x="4572000" y="3246480"/>
                <a:chExt cx="1603080" cy="822240"/>
              </a:xfrm>
            </p:grpSpPr>
            <p:sp>
              <p:nvSpPr>
                <p:cNvPr id="146" name=""/>
                <p:cNvSpPr/>
                <p:nvPr/>
              </p:nvSpPr>
              <p:spPr>
                <a:xfrm>
                  <a:off x="4640040" y="3246480"/>
                  <a:ext cx="1467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2400-2450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7" name=""/>
                <p:cNvSpPr/>
                <p:nvPr/>
              </p:nvSpPr>
              <p:spPr>
                <a:xfrm>
                  <a:off x="4572000" y="3246480"/>
                  <a:ext cx="160308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6175080" y="3246480"/>
                <a:ext cx="1605240" cy="822240"/>
                <a:chOff x="6175080" y="3246480"/>
                <a:chExt cx="1605240" cy="822240"/>
              </a:xfrm>
            </p:grpSpPr>
            <p:sp>
              <p:nvSpPr>
                <p:cNvPr id="149" name=""/>
                <p:cNvSpPr/>
                <p:nvPr/>
              </p:nvSpPr>
              <p:spPr>
                <a:xfrm>
                  <a:off x="6243480" y="3246480"/>
                  <a:ext cx="146844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5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0" name=""/>
                <p:cNvSpPr/>
                <p:nvPr/>
              </p:nvSpPr>
              <p:spPr>
                <a:xfrm>
                  <a:off x="6175080" y="3246480"/>
                  <a:ext cx="160524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1" name=""/>
              <p:cNvGrpSpPr/>
              <p:nvPr/>
            </p:nvGrpSpPr>
            <p:grpSpPr>
              <a:xfrm>
                <a:off x="1365120" y="4068720"/>
                <a:ext cx="1603440" cy="639720"/>
                <a:chOff x="1365120" y="4068720"/>
                <a:chExt cx="1603440" cy="639720"/>
              </a:xfrm>
            </p:grpSpPr>
            <p:sp>
              <p:nvSpPr>
                <p:cNvPr id="152" name=""/>
                <p:cNvSpPr/>
                <p:nvPr/>
              </p:nvSpPr>
              <p:spPr>
                <a:xfrm>
                  <a:off x="1433520" y="4068720"/>
                  <a:ext cx="14666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3300-35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
                <p:cNvSpPr/>
                <p:nvPr/>
              </p:nvSpPr>
              <p:spPr>
                <a:xfrm>
                  <a:off x="1365120" y="4068720"/>
                  <a:ext cx="1603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4" name=""/>
              <p:cNvGrpSpPr/>
              <p:nvPr/>
            </p:nvGrpSpPr>
            <p:grpSpPr>
              <a:xfrm>
                <a:off x="2968560" y="4068720"/>
                <a:ext cx="1603440" cy="639720"/>
                <a:chOff x="2968560" y="4068720"/>
                <a:chExt cx="1603440" cy="639720"/>
              </a:xfrm>
            </p:grpSpPr>
            <p:sp>
              <p:nvSpPr>
                <p:cNvPr id="155" name=""/>
                <p:cNvSpPr/>
                <p:nvPr/>
              </p:nvSpPr>
              <p:spPr>
                <a:xfrm>
                  <a:off x="3036600" y="4068720"/>
                  <a:ext cx="1467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2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
                <p:cNvSpPr/>
                <p:nvPr/>
              </p:nvSpPr>
              <p:spPr>
                <a:xfrm>
                  <a:off x="2968560" y="4068720"/>
                  <a:ext cx="1603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7" name=""/>
              <p:cNvGrpSpPr/>
              <p:nvPr/>
            </p:nvGrpSpPr>
            <p:grpSpPr>
              <a:xfrm>
                <a:off x="4572000" y="4068720"/>
                <a:ext cx="1603080" cy="639720"/>
                <a:chOff x="4572000" y="4068720"/>
                <a:chExt cx="1603080" cy="639720"/>
              </a:xfrm>
            </p:grpSpPr>
            <p:sp>
              <p:nvSpPr>
                <p:cNvPr id="158" name=""/>
                <p:cNvSpPr/>
                <p:nvPr/>
              </p:nvSpPr>
              <p:spPr>
                <a:xfrm>
                  <a:off x="4640040" y="4068720"/>
                  <a:ext cx="1467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3400-341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
                <p:cNvSpPr/>
                <p:nvPr/>
              </p:nvSpPr>
              <p:spPr>
                <a:xfrm>
                  <a:off x="4572000" y="4068720"/>
                  <a:ext cx="16030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6175080" y="4068720"/>
                <a:ext cx="1605240" cy="639720"/>
                <a:chOff x="6175080" y="4068720"/>
                <a:chExt cx="1605240" cy="639720"/>
              </a:xfrm>
            </p:grpSpPr>
            <p:sp>
              <p:nvSpPr>
                <p:cNvPr id="161" name=""/>
                <p:cNvSpPr/>
                <p:nvPr/>
              </p:nvSpPr>
              <p:spPr>
                <a:xfrm>
                  <a:off x="6243480" y="4068720"/>
                  <a:ext cx="14684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1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
                <p:cNvSpPr/>
                <p:nvPr/>
              </p:nvSpPr>
              <p:spPr>
                <a:xfrm>
                  <a:off x="6175080" y="4068720"/>
                  <a:ext cx="16052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1365120" y="4708440"/>
                <a:ext cx="1603440" cy="822240"/>
                <a:chOff x="1365120" y="4708440"/>
                <a:chExt cx="1603440" cy="822240"/>
              </a:xfrm>
            </p:grpSpPr>
            <p:sp>
              <p:nvSpPr>
                <p:cNvPr id="164" name=""/>
                <p:cNvSpPr/>
                <p:nvPr/>
              </p:nvSpPr>
              <p:spPr>
                <a:xfrm>
                  <a:off x="1433520" y="4708440"/>
                  <a:ext cx="146664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5650-5925</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
                <p:cNvSpPr/>
                <p:nvPr/>
              </p:nvSpPr>
              <p:spPr>
                <a:xfrm>
                  <a:off x="1365120" y="4708440"/>
                  <a:ext cx="160344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2968560" y="4708440"/>
                <a:ext cx="1603440" cy="822240"/>
                <a:chOff x="2968560" y="4708440"/>
                <a:chExt cx="1603440" cy="822240"/>
              </a:xfrm>
            </p:grpSpPr>
            <p:sp>
              <p:nvSpPr>
                <p:cNvPr id="167" name=""/>
                <p:cNvSpPr/>
                <p:nvPr/>
              </p:nvSpPr>
              <p:spPr>
                <a:xfrm>
                  <a:off x="3036600" y="4708440"/>
                  <a:ext cx="1467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275</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
                <p:cNvSpPr/>
                <p:nvPr/>
              </p:nvSpPr>
              <p:spPr>
                <a:xfrm>
                  <a:off x="2968560" y="4708440"/>
                  <a:ext cx="160344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4572000" y="4708440"/>
                <a:ext cx="1603080" cy="822240"/>
                <a:chOff x="4572000" y="4708440"/>
                <a:chExt cx="1603080" cy="822240"/>
              </a:xfrm>
            </p:grpSpPr>
            <p:sp>
              <p:nvSpPr>
                <p:cNvPr id="170" name=""/>
                <p:cNvSpPr/>
                <p:nvPr/>
              </p:nvSpPr>
              <p:spPr>
                <a:xfrm>
                  <a:off x="4640040" y="4708440"/>
                  <a:ext cx="1467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5650-5670 </a:t>
                  </a:r>
                  <a:r>
                    <a:rPr b="0" lang="en-GB" sz="1000" spc="-1" strike="noStrike">
                      <a:solidFill>
                        <a:srgbClr val="ffffff"/>
                      </a:solidFill>
                      <a:latin typeface="Wingdings"/>
                      <a:ea typeface="Wingdings"/>
                    </a:rPr>
                    <a: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5830-5850 </a:t>
                  </a:r>
                  <a:r>
                    <a:rPr b="0" lang="en-GB" sz="1000" spc="-1" strike="noStrike">
                      <a:solidFill>
                        <a:srgbClr val="ffffff"/>
                      </a:solidFill>
                      <a:latin typeface="Wingdings"/>
                      <a:ea typeface="Wingdings"/>
                    </a:rPr>
                    <a: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71" name=""/>
                <p:cNvSpPr/>
                <p:nvPr/>
              </p:nvSpPr>
              <p:spPr>
                <a:xfrm>
                  <a:off x="4572000" y="4708440"/>
                  <a:ext cx="160308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2" name=""/>
              <p:cNvGrpSpPr/>
              <p:nvPr/>
            </p:nvGrpSpPr>
            <p:grpSpPr>
              <a:xfrm>
                <a:off x="6175080" y="4708440"/>
                <a:ext cx="1605240" cy="822240"/>
                <a:chOff x="6175080" y="4708440"/>
                <a:chExt cx="1605240" cy="822240"/>
              </a:xfrm>
            </p:grpSpPr>
            <p:sp>
              <p:nvSpPr>
                <p:cNvPr id="173" name=""/>
                <p:cNvSpPr/>
                <p:nvPr/>
              </p:nvSpPr>
              <p:spPr>
                <a:xfrm>
                  <a:off x="6243480" y="4708440"/>
                  <a:ext cx="146844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2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2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
                <p:cNvSpPr/>
                <p:nvPr/>
              </p:nvSpPr>
              <p:spPr>
                <a:xfrm>
                  <a:off x="6175080" y="4708440"/>
                  <a:ext cx="160524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5" name=""/>
              <p:cNvGrpSpPr/>
              <p:nvPr/>
            </p:nvGrpSpPr>
            <p:grpSpPr>
              <a:xfrm>
                <a:off x="1365120" y="5530680"/>
                <a:ext cx="1603440" cy="639720"/>
                <a:chOff x="1365120" y="5530680"/>
                <a:chExt cx="1603440" cy="639720"/>
              </a:xfrm>
            </p:grpSpPr>
            <p:sp>
              <p:nvSpPr>
                <p:cNvPr id="176" name=""/>
                <p:cNvSpPr/>
                <p:nvPr/>
              </p:nvSpPr>
              <p:spPr>
                <a:xfrm>
                  <a:off x="1433520" y="5530680"/>
                  <a:ext cx="14666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10000-105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p:cNvSpPr/>
                <p:nvPr/>
              </p:nvSpPr>
              <p:spPr>
                <a:xfrm>
                  <a:off x="1365120" y="5530680"/>
                  <a:ext cx="1603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8" name=""/>
              <p:cNvGrpSpPr/>
              <p:nvPr/>
            </p:nvGrpSpPr>
            <p:grpSpPr>
              <a:xfrm>
                <a:off x="2968560" y="5530680"/>
                <a:ext cx="1603440" cy="639720"/>
                <a:chOff x="2968560" y="5530680"/>
                <a:chExt cx="1603440" cy="639720"/>
              </a:xfrm>
            </p:grpSpPr>
            <p:sp>
              <p:nvSpPr>
                <p:cNvPr id="179" name=""/>
                <p:cNvSpPr/>
                <p:nvPr/>
              </p:nvSpPr>
              <p:spPr>
                <a:xfrm>
                  <a:off x="3036600" y="5530680"/>
                  <a:ext cx="1467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5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
                <p:cNvSpPr/>
                <p:nvPr/>
              </p:nvSpPr>
              <p:spPr>
                <a:xfrm>
                  <a:off x="2968560" y="5530680"/>
                  <a:ext cx="1603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4572000" y="5530680"/>
                <a:ext cx="1603080" cy="639720"/>
                <a:chOff x="4572000" y="5530680"/>
                <a:chExt cx="1603080" cy="639720"/>
              </a:xfrm>
            </p:grpSpPr>
            <p:sp>
              <p:nvSpPr>
                <p:cNvPr id="182" name=""/>
                <p:cNvSpPr/>
                <p:nvPr/>
              </p:nvSpPr>
              <p:spPr>
                <a:xfrm>
                  <a:off x="4640040" y="5530680"/>
                  <a:ext cx="1467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10450-105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
                <p:cNvSpPr/>
                <p:nvPr/>
              </p:nvSpPr>
              <p:spPr>
                <a:xfrm>
                  <a:off x="4572000" y="5530680"/>
                  <a:ext cx="16030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4" name=""/>
              <p:cNvGrpSpPr/>
              <p:nvPr/>
            </p:nvGrpSpPr>
            <p:grpSpPr>
              <a:xfrm>
                <a:off x="6175080" y="5530680"/>
                <a:ext cx="1605240" cy="639720"/>
                <a:chOff x="6175080" y="5530680"/>
                <a:chExt cx="1605240" cy="639720"/>
              </a:xfrm>
            </p:grpSpPr>
            <p:sp>
              <p:nvSpPr>
                <p:cNvPr id="185" name=""/>
                <p:cNvSpPr/>
                <p:nvPr/>
              </p:nvSpPr>
              <p:spPr>
                <a:xfrm>
                  <a:off x="6243480" y="5530680"/>
                  <a:ext cx="14684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5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
                <p:cNvSpPr/>
                <p:nvPr/>
              </p:nvSpPr>
              <p:spPr>
                <a:xfrm>
                  <a:off x="6175080" y="5530680"/>
                  <a:ext cx="16052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7" name=""/>
              <p:cNvGrpSpPr/>
              <p:nvPr/>
            </p:nvGrpSpPr>
            <p:grpSpPr>
              <a:xfrm>
                <a:off x="1365120" y="6170400"/>
                <a:ext cx="1603440" cy="639720"/>
                <a:chOff x="1365120" y="6170400"/>
                <a:chExt cx="1603440" cy="639720"/>
              </a:xfrm>
            </p:grpSpPr>
            <p:sp>
              <p:nvSpPr>
                <p:cNvPr id="188" name=""/>
                <p:cNvSpPr/>
                <p:nvPr/>
              </p:nvSpPr>
              <p:spPr>
                <a:xfrm>
                  <a:off x="1433520" y="6170400"/>
                  <a:ext cx="14666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24000-2425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
                <p:cNvSpPr/>
                <p:nvPr/>
              </p:nvSpPr>
              <p:spPr>
                <a:xfrm>
                  <a:off x="1365120" y="6170400"/>
                  <a:ext cx="1603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 name=""/>
              <p:cNvGrpSpPr/>
              <p:nvPr/>
            </p:nvGrpSpPr>
            <p:grpSpPr>
              <a:xfrm>
                <a:off x="2968560" y="6170400"/>
                <a:ext cx="1603440" cy="639720"/>
                <a:chOff x="2968560" y="6170400"/>
                <a:chExt cx="1603440" cy="639720"/>
              </a:xfrm>
            </p:grpSpPr>
            <p:sp>
              <p:nvSpPr>
                <p:cNvPr id="191" name=""/>
                <p:cNvSpPr/>
                <p:nvPr/>
              </p:nvSpPr>
              <p:spPr>
                <a:xfrm>
                  <a:off x="3036600" y="6170400"/>
                  <a:ext cx="1467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25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
                <p:cNvSpPr/>
                <p:nvPr/>
              </p:nvSpPr>
              <p:spPr>
                <a:xfrm>
                  <a:off x="2968560" y="6170400"/>
                  <a:ext cx="1603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 name=""/>
              <p:cNvGrpSpPr/>
              <p:nvPr/>
            </p:nvGrpSpPr>
            <p:grpSpPr>
              <a:xfrm>
                <a:off x="4572000" y="6170400"/>
                <a:ext cx="1603080" cy="639720"/>
                <a:chOff x="4572000" y="6170400"/>
                <a:chExt cx="1603080" cy="639720"/>
              </a:xfrm>
            </p:grpSpPr>
            <p:sp>
              <p:nvSpPr>
                <p:cNvPr id="194" name=""/>
                <p:cNvSpPr/>
                <p:nvPr/>
              </p:nvSpPr>
              <p:spPr>
                <a:xfrm>
                  <a:off x="4640040" y="6170400"/>
                  <a:ext cx="1467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24000-2405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
                <p:cNvSpPr/>
                <p:nvPr/>
              </p:nvSpPr>
              <p:spPr>
                <a:xfrm>
                  <a:off x="4572000" y="6170400"/>
                  <a:ext cx="16030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6" name=""/>
              <p:cNvGrpSpPr/>
              <p:nvPr/>
            </p:nvGrpSpPr>
            <p:grpSpPr>
              <a:xfrm>
                <a:off x="6175080" y="6170400"/>
                <a:ext cx="1605240" cy="639720"/>
                <a:chOff x="6175080" y="6170400"/>
                <a:chExt cx="1605240" cy="639720"/>
              </a:xfrm>
            </p:grpSpPr>
            <p:sp>
              <p:nvSpPr>
                <p:cNvPr id="197" name=""/>
                <p:cNvSpPr/>
                <p:nvPr/>
              </p:nvSpPr>
              <p:spPr>
                <a:xfrm>
                  <a:off x="6243480" y="6170400"/>
                  <a:ext cx="14684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5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
                <p:cNvSpPr/>
                <p:nvPr/>
              </p:nvSpPr>
              <p:spPr>
                <a:xfrm>
                  <a:off x="6175080" y="6170400"/>
                  <a:ext cx="16052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99" name=""/>
            <p:cNvSpPr/>
            <p:nvPr/>
          </p:nvSpPr>
          <p:spPr>
            <a:xfrm>
              <a:off x="1360440" y="42840"/>
              <a:ext cx="6424560" cy="67723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200" name=""/>
          <p:cNvSpPr/>
          <p:nvPr/>
        </p:nvSpPr>
        <p:spPr>
          <a:xfrm>
            <a:off x="1365120" y="681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420-450 MHz</a:t>
            </a:r>
            <a:endParaRPr b="0" lang="en-US" sz="4400" spc="-1" strike="noStrike">
              <a:solidFill>
                <a:srgbClr val="ffcc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20-430 MHz Unavailable Above Line 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33.92 MHz RFID Tag Systems Authorize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9 MHz Wind Profiler Radars Moved from 406 to 449 MHz, Sites TB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ment Radars Primary, Amateur Secondary in Entire 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ea typeface="Times New Roman"/>
              </a:rPr>
              <a:t>902-928 MHz (33 cm Band)</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phan Band</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tchen Sink Band</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ion 2 Only</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Satellite Alloca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ttle Off-the-Shelf Amateur Equipmen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ttle Commercial Service Competi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ward Migration of Part 15 Devi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66"/>
                </a:solidFill>
                <a:latin typeface="Arial"/>
                <a:ea typeface="Times New Roman"/>
              </a:rPr>
              <a:t>1240-1300 MHz (23 cm Band)</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ily a Radar (aeronautical radionavigation) band</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erous voice and television repeaters including crossband ATV</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ak Signal work limited to 1296 MHz</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ellite Uplink at 1260-1270 MHz</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quate and Improving Amateur Equipment Availability</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tar System development in this Band</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lileo commercial downlink risk at 1215-1300 MHz</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a:ea typeface="Times New Roman"/>
              </a:rPr>
              <a:t>2300-2305 MHz (Part of 13 cm Band)</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ther U.S. Users and No Primary Servi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 of FCC Spectrum Reserv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satellite alloca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most exclusive weak signal work at 2304 MHz</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sible renewal of effort by Microtrax, etc. to obtain primary alloca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equate transverter and accessory availabili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sible trade with Flight Test Telemetry for Upgrade to Primary with no Secondary Us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ea typeface="Times New Roman"/>
              </a:rPr>
              <a:t>2305-2310 MHz (Part of 13 cm Band)</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known current amateur activ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satellite alloc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scellaneous Wireless Communications Service is Primary (Auctioned) by marke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ateur operation substantially compromised by Commercial preclus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urrent regulatory activ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2390-2395 MHz</a:t>
            </a:r>
            <a:endParaRPr b="0" lang="en-US" sz="44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ateur Primary, no Secondary Alloc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CC Proposal in Docket 00-258 for Federal Government Relocation and Flight Test Telemetr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tibility/Coordination Issu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1T20:44:25Z</dcterms:created>
  <dc:creator>Christopher D. Imlay</dc:creator>
  <dc:description/>
  <dc:language>en-US</dc:language>
  <cp:lastModifiedBy>axwar</cp:lastModifiedBy>
  <dcterms:modified xsi:type="dcterms:W3CDTF">2004-10-13T21:29:17Z</dcterms:modified>
  <cp:revision>33</cp:revision>
  <dc:subject/>
  <dc:title>Study of the Bands  902 MHz – 24.25 GHz </dc:title>
</cp:coreProperties>
</file>