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jpeg" ContentType="image/jpeg"/>
  <Override PartName="/ppt/media/image9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8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8B3-A906-424C-B6DD-8160FB23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9CE-82EA-4890-A66A-CAEC3882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8A6-5641-45C3-A8BB-6CB7E39F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509-80ED-479E-A87C-AB89FB8B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1875-C59A-4B4B-B7F5-04631B61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6F2A-A027-472A-9CCA-D1C4A386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4712-F92E-4CBC-AFDF-E2537B07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FEC7-B157-4DC7-A4EB-9A8A26AB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D4AA-DA25-40D6-A612-067005D2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C21B-8DA8-463C-AC8F-5E128E3A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648B-9EC9-4B25-B2B2-11C48BEE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E30-5CA9-4A9F-886F-A0DC4A4F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5210-E733-45B5-9696-56D724DB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03E2-8CE2-4CFC-8777-5488F890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D929-1DB7-44DE-BF35-A08FEA50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6165-14F1-4FD8-9726-64E02B2F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59A1-D2F0-4693-9A3D-52CFF115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DD9-4CC8-499C-B86B-6070E27E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93A-C5DE-49AD-968A-9FEE3E28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3A2-B0FF-4D20-8DA9-5920E9BF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CFE-C4E9-444D-AD21-3075E137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60D-FD89-4F2C-982C-2F3BDD82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403-466E-4592-949E-63D086FA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54B-B70E-4E75-B120-DC3F6CAA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05E8-B1D5-4882-A067-455D565A6E4E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EEB5-FEFC-418D-8459-0EBD98766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0644-83DD-414E-9CF5-1278FC7EDE8A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1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2486-9794-4CB0-9397-0475F4589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mgef.org/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Millimeter-Wave LO References &amp; Phase Noise Considerations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d at Microwave Update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an Justin, WA1Z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ime &amp; Frequency Domai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help with measurements in the time domain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llan Varia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ovides a common manif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variance is measure of how far a given value is away from the expected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llan Varia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lways given for a specific time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CW applications, 1-second is a good numb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MHz oscillator, Allan Variance 1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1sec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remain within 0.0001Hz of center frequency for 1-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CE1-49AE-4102-A780-49BFD7DB65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F5151-1C1E-4675-B506-82075A1342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an Variance Examp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ning MC859X4-034W  10MHz OC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1 se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87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0 se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 se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.0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1 sec:   2.87Hz @ 100G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0 sec:  0.438Hz @ 100G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 sec:   0.608Hz @ 100G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3DC-CD5A-466A-B2A7-BC6FEA7A76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9B49D-1B6F-41AE-B440-46A2EE2DEE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requency Refere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ystal Oscil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old-time favo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day’s best for near phase no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… from $5 to $15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ic 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bidium, cheap... about $300,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sium, the cost of a nice car… about $70k, n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-MASER, the cost of a new house…. about $300k, n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PS disciplined Crystal Oscillator (i.e.: HP Z-38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cheap…..about $300,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s Cesium accuracy and OK crystal stability (mayb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1AE-B907-446C-BA33-04A7E03BFF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07ACD-D6CA-4225-B5C8-7E3F49506EB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requency Refere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ystal Oscil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 noise primarily depends on crystal 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e device NF impacts far noise  &amp;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licker F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-cut much better than AT-cut, better S/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frequency OCXO better than VHF OCXO even after phase noise scaling by 20Log(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’t just heat the crystal….here’s w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F98-17D3-4A95-9E4C-A0491CBCE6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85D74-4AC6-4702-95BB-D7EBFD2180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requency Refere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blem is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-cut crystals are designed to operate at 25degs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crystal is heated it will operate on a steeper point of the temperature cu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an make the long-term stability wors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3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E65-B634-42CE-A8EC-59BF963F29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EBAB8-08E9-42F4-9A04-5148AE8768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requency Refere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ic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bidium is not the simple answer for mm-waves with narrow RX bandwidths….their choice of crystal oscillators is rather poor…..bad news for WSJT, PSK31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sium and H-MASER could be used…..but costly and they too count on their internal crystal oscillators 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no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PS 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rate short-term stability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no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mited by the choice of internal crystal oscillator as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some are better than others……l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577-9C54-4B61-95FB-801ABE8C3C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D3A1A-797C-4BFC-908C-0A76EA54E6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requency Refere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41920" y="563868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w.leapsecond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A22-7AD8-41D5-9F50-3B3288B8F9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7E0C1-23BA-49D6-BE1E-B90D4EB468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Frequency Reference Comparis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19320" y="1568520"/>
          <a:ext cx="6516720" cy="127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68520"/>
                    <a:ext cx="651672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6320" y="3618000"/>
          <a:ext cx="8991360" cy="1474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618000"/>
                    <a:ext cx="8991360" cy="14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129040" y="2743200"/>
            <a:ext cx="47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lan Variance of Atomic 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04400" y="51814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hase Noise of Various References @ 10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33600" y="198108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 --- 3Hz @ 100G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CE8-ABAC-4D5A-8BC0-7F9226B8A07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A2D31-4869-4E8D-B039-C1DD96531D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ethods of Frequency Generat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 multi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, needs filtering, 1/f noise, follows 20Log(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locked lo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pful if value of N is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ember loop BW limi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cy West is good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frequency at-a-time solution, need good filt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take advantage of good near and far noise of OC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 in concept, relies Direct Multi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EDE-AA14-48E9-A897-720087007D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382FD-2863-422F-91DC-6D2E8C149E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rect Multiplier Examp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4856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4BD-332C-43C5-893E-CFCEA54332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824F3-D5C5-44A5-95B2-4BCBBEDAD2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m-Wave LO &amp; Nois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jects covered in this talk will b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phase noi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s of noise (ie: near &amp; f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care about phase noi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O’s frequency accuracy v.s. s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domain v.s. frequency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cy references (crystal, atomic, G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of frequency control/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of a 241GHz low noise LO and what’s possible when using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B82-FF0C-4EA6-AD4D-93C4CF5C96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7387E-F1F2-4C01-8525-4C9317E666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LL Example/Resul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58000" cy="42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B4C-D1B6-4EAA-AFCC-5522CFC5C56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CD1D4-581D-4630-A1F7-5AF7510A41C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rect Synthesizer Examp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19320" y="1333440"/>
            <a:ext cx="686268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2F3-08F0-45D0-8CC1-09E30A4CFA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29E0F-1E5E-4B16-A660-865F9EAB7C0B}" type="datetime5">
              <a:rPr lang="en-US"/>
              <a:t>Jul 31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41GHz Examp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st ‘segmented’ RF band… 241 to 250G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’s possible when you set your mind to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ted VUCC #1 for the 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example uses DM, DS, and PLL frequency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grids and several DX records, but not enough for VU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800-4F29-4CFA-AD5E-A51D357DD1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8E8E3-256F-43BC-B653-92CB9B3343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41GHz Examp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all about SN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Signal…..went for No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dB for every times ten bandwidth re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hting 0.3 to 1dB/km atmospheric losses…..WX depen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ed 20 more “km of signal”…..that was about 13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ear has about 30Hz BW…..so tried Spect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ed to get under 2Hz BW for desired SN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ew that more signal is always helpful, therefore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med for 0.1Hz BW or about 4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1-second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er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319-F81A-454E-87A2-66CA0F8D28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E8AAF-C661-49DF-9B68-CAAF548862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Resulting LO Cha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19320" y="1305000"/>
            <a:ext cx="6705360" cy="47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AFB-8697-499A-A628-3EA856262F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B20EB-6F12-46D9-975E-67849736687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arious Oscillato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3429000" cy="2604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819520" y="4038480"/>
            <a:ext cx="3429000" cy="2603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066680" y="1219320"/>
            <a:ext cx="3429000" cy="26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511-D448-4493-B3E5-892AEE31424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C2B58-2AC4-41F7-B7C1-B1F8A0DDA8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enzel OCX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3047760" cy="2282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181480" y="12193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181480" y="36576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557-BD0D-44DB-BBC9-878074CD3BD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F2C88-56A0-460B-A4A6-4578AF9E9F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udio Samp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7GHz with free-running 5th OT crys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 the mode jump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5GHz with 5th OT, but frequency locked to 10MHz OC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 the drift. It’s a poor 10MHz OCX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5GHz with Rubi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 the short-term drift. This won’t work for narrow BW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5GHz with lab grade 10MHz OCXO and Direct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too b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049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04920" y="4952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7E8-70D6-4B1A-B0CA-28B8F84956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6B952-E055-480A-8937-C082FC2A5F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5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8912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0386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0775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41GHz S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7D0-417B-4092-A800-23D8352A90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9F8B4-2024-4465-8C58-D815631D69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ose-up of 241GHz Dis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E93-206D-4948-96FB-62C7F7B3A4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454B0-40CA-4024-B812-64799F5271D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Phase Nois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noise is ‘random’ noise energy near an RF carrier such as a local oscillator signal. Phase noise is measured in dBc/Hz at a given frequency off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the carrier frequency is increased through the LO chain, the phase noise is scaled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Log(n)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ere n = ratio of frequenc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a 10MHz signal with phase noise of -105dBc/Hz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KHz would be ‘the same’ as a 1150MHz signal with          -63.8dBc/Hz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KHz phase noise if measured at 1150MH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amateur radio purposes, phase noise can be classified as either “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DBE-B20B-41B7-A82B-5E76D20370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34EB5-3A45-4E48-B77C-707F61131982}" type="datetime5">
              <a:rPr lang="en-US"/>
              <a:t>Jul 31, 20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4WWQ having fu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BA0-F5A0-45BD-B707-58D223331D7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51A01-2BB4-4E04-BF2A-C24F10A3172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t’s also about the WX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new friend……the Skew-T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surface dew point isn’t the whole 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4419720" cy="3489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EDC-88D6-470A-AF72-07E55801C2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6F27F-13A6-4F26-81CF-446FE23D36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Pat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B88-B075-4295-9897-635C892D8DA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C2EC0-3FB4-493B-8E50-669041E65B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Reverse Pat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D53-5467-46D8-9938-F9EA1A5B6AC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286DD-EEC0-4258-B459-49AF724235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QS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05720" cy="50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27B-B952-4557-96EE-FB62AD94B46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A9820-AE41-4932-AC89-9104CC8395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Thank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 Diodes, In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les Wenzel of Wenzel Assoc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m Van Baak of Leapsecond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 Overstreet, K4AJ for PL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e Lascell, W4WWQ for playing Polar Bear and ro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ny more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info at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www.mgef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now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0B3-99A2-42A0-AA56-DC5FDCA8FB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6F73C-06C7-44E7-B7D6-5ADCDC72BC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Results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2F3-7D16-4306-ACF7-11036C61D0F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0F9DD-C34D-4312-9903-B9268C8EEFD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Phase Nois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e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hase noise affects how the signal sounds to the operator. i.e.: raspy, dirty, aurora li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hase noise limits the dynamic range of the receiver and also includes the broadband noise that a transmitter cre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is presentation, only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White P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ise is considere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i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others can be considered a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e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i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038480" cy="278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F76-78F3-4995-A9CE-A94718D01F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87D51-F6C3-417B-B1A9-9F09B202263E}" type="datetime5">
              <a:rPr lang="en-US"/>
              <a:t>Jul 31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y care about Phase Nois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noise limits dynamic range and impacts others on crowded b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bands above 10GHz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noise can impact DX, whil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oise is less importa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noise limits narrow-band modulation techniques.   i.e.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SJT, PSK31, QRS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56040" y="1600200"/>
            <a:ext cx="3622680" cy="45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A59-ACFA-45C3-9C7D-21A56A600A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1C1F4-2971-44AB-BE55-4D8D2A3ADD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requency Accuracy &amp; Stabil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abi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two different metri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 measure of precision.  Think long-term.   How far away from 10.0000000000…  MHz are yo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ool used to measur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 frequency cou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long as the signal is predicted to be within the IF pass-band of a receiver it’s likel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ccur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ough for the Q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…..you could just tune for the signal. Once it’s found, problem solv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265-C03E-4230-8F32-6C8FC04BA0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CD314-7C8F-456D-9682-22E3E5C23B8E}" type="datetime5">
              <a:rPr lang="en-US"/>
              <a:t>Jul 31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requency Accuracy &amp; Stabil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b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 measure of steadiness.  Think short-term.  How close to 10 MHz can you maintain from moment-to-mom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ool used to measur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b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an be a phase noise test system.  But you’ll need to do some math to convert from the frequency domain to the time dom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b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termines what a signal sounds lik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4AE-3123-439A-9E1E-91DA6BEDB6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ED4E1-954D-402B-8DA0-60D4DAEAAA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requency Accuracy &amp; Stabil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5120" y="4267080"/>
            <a:ext cx="5343480" cy="1714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00200" y="965160"/>
            <a:ext cx="6019920" cy="29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F1C-94DA-4F47-B27B-90B96CD465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A685D-0B70-4849-8E61-F1136861A5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ime &amp; Frequency Domai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all oscillator specs are given in both time and frequency domai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rier Transform allows us to switch between the two domai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cky for most of us the software has been writte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k spectrum analyzer for frequenc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k oscilloscope for time. But you’ll likely never see the stability err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measure the phase noise and count on Mr. Fourier’s hel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wave Update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CFD-DACD-424D-905A-76F2292F52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7959D-5780-4BE7-A2E5-DDF17BB9D6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0:23:55Z</dcterms:created>
  <dc:creator>WA1ZMS</dc:creator>
  <dc:description/>
  <dc:language>en-US</dc:language>
  <cp:lastModifiedBy>Joseph Jurecka</cp:lastModifiedBy>
  <cp:lastPrinted>2004-10-12T16:31:59Z</cp:lastPrinted>
  <dcterms:modified xsi:type="dcterms:W3CDTF">2004-10-16T17:23:33Z</dcterms:modified>
  <cp:revision>77</cp:revision>
  <dc:subject/>
  <dc:title>MUD_2004</dc:title>
</cp:coreProperties>
</file>