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2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0.png" ContentType="image/png"/>
  <Override PartName="/ppt/media/image5.wmf" ContentType="image/x-wm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ADD12-9CD9-4261-A5AC-41E849706F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222D2-3B09-4310-A52D-28A0ADE101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AE900-8B50-48F7-81D5-F58B53DDE4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0DDE0-6EA7-4352-A5B2-06151C01A2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E329C-409B-49E0-B6B9-2A8F12620E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78D0F-3B8E-4650-BAA1-3BF45801E4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D73D1-4A1C-4BAB-A6F6-8FF8E7F9CE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46F6B-9A4C-4ECE-B0A8-1869A8F89C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295280" y="22824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03497-5970-443E-8F44-025A1CC611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AAA2C-D9D1-4145-B8B2-604EAACA4E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A9DD3-F1AD-4FF2-BC24-571DBE1855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663DE-6D36-48B3-8210-E163982E78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4880" y="-360"/>
            <a:ext cx="9262800" cy="6858360"/>
            <a:chOff x="-74880" y="-360"/>
            <a:chExt cx="9262800" cy="6858360"/>
          </a:xfrm>
        </p:grpSpPr>
        <p:sp>
          <p:nvSpPr>
            <p:cNvPr id="1" name=""/>
            <p:cNvSpPr/>
            <p:nvPr/>
          </p:nvSpPr>
          <p:spPr>
            <a:xfrm flipH="1" rot="10800000">
              <a:off x="379800" y="0"/>
              <a:ext cx="2210040" cy="60948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" name=""/>
            <p:cNvGraphicFramePr/>
            <p:nvPr/>
          </p:nvGraphicFramePr>
          <p:xfrm>
            <a:off x="-49320" y="1440"/>
            <a:ext cx="9193320" cy="6856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-49320" y="1440"/>
                      <a:ext cx="9193320" cy="685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" name=""/>
            <p:cNvSpPr/>
            <p:nvPr/>
          </p:nvSpPr>
          <p:spPr>
            <a:xfrm>
              <a:off x="-74880" y="378000"/>
              <a:ext cx="517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W5H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7896240" y="243000"/>
              <a:ext cx="1291680" cy="1110600"/>
              <a:chOff x="7896240" y="243000"/>
              <a:chExt cx="1291680" cy="1110600"/>
            </a:xfrm>
          </p:grpSpPr>
          <p:sp>
            <p:nvSpPr>
              <p:cNvPr id="6" name=""/>
              <p:cNvSpPr/>
              <p:nvPr/>
            </p:nvSpPr>
            <p:spPr>
              <a:xfrm>
                <a:off x="8459280" y="243000"/>
                <a:ext cx="4611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or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458560" y="441360"/>
                <a:ext cx="494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ex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458560" y="928800"/>
                <a:ext cx="729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icrowav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458200" y="1122480"/>
                <a:ext cx="5587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ociety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460000" y="642960"/>
                <a:ext cx="61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NT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1" name=""/>
              <p:cNvGraphicFramePr/>
              <p:nvPr/>
            </p:nvGraphicFramePr>
            <p:xfrm>
              <a:off x="7896240" y="276120"/>
              <a:ext cx="638280" cy="106704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2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7896240" y="276120"/>
                        <a:ext cx="638280" cy="1067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1"/>
          </p:nvPr>
        </p:nvSpPr>
        <p:spPr>
          <a:xfrm>
            <a:off x="45684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079F-B0A2-408B-90BE-2B3C56282D31}" type="slidenum">
              <a:rPr b="1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eriences with CT1DMK Reflock 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Wes Atchis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WA5TKU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10/16/2004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FD2E0-07E9-4289-9AA1-F93F81B3729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s with CT1DMK Reflock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Experience with Universal Program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laced Adjustable P/S on VTune Input to FW Sour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haracterize VTune Frequency Respons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t Frequency of Oscillator with VTune @ Center of Range ~2.5 Vol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heck Oscillator Frequency for Lock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BF5C0-F18D-4321-B784-D3D94029BA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s with CT1DMK Reflock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requency West Brick Mod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981080" y="2133720"/>
          <a:ext cx="6400800" cy="410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133720"/>
                    <a:ext cx="6400800" cy="41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A2ED4-FA2C-4832-A2CF-A724582BFA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s with CT1DMK Reflock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requency West Brick Modification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6E367-D4E4-4763-99F2-34DD38CBF1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s with CT1DMK Reflock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Drive Level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10 MHz Reference - ~ 4.3 V pk-pk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ot 50 ohm inpu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olid Trace Groun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CEC2E-DFBE-4B65-8100-06590555D6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s with CT1DMK Reflock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04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VCXO Output - 93.6 MHz - ~ 3.6 V pk-pk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ot 50 ohm inpu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olid Trace Groun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733920" y="1752480"/>
            <a:ext cx="5105160" cy="382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E4650-FB50-4774-BE74-004C519D8D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s with CT1DMK Reflock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7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VTune - 1 Volt/Div - 5 ms/Div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Level &amp; Frequency Vary with Lock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olid Trace Groun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124080" y="1600200"/>
            <a:ext cx="5562720" cy="417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FE04D-877A-4592-841E-53941EDCEC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s with CT1DMK Reflock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38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10 MHz Reference Oscillator Phase Nois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-117 dBC/Hz @ 10 KHz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G&amp;G Cinox Oscillato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Foam Box to Reduce Temperature Drif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819520" y="1946160"/>
            <a:ext cx="6248160" cy="336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D83F9-FDB1-4EBF-A1A3-08E69D16AE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s with CT1DMK Reflock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12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requency West Source LO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93.6 MHz Oscillator Locked to 10 MHz Refere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-118 dBC/Hz @ 10 KHz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86200" y="1752480"/>
            <a:ext cx="4800600" cy="38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2D51A-3761-43CD-83DC-8B10E99FE6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s with CT1DMK Reflock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6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requency West Source NOT Locked to 10 MHz Refere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leaner 5616 MHz Signal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-113.8 dBC/Hz @ 10 KHz Phase Nois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666880" y="1981080"/>
            <a:ext cx="6477120" cy="348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0B9E8-DCAA-4D95-97B2-D642F4A754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s with CT1DMK Reflock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requency West Source Locked to 10 MHz Refere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-111 dBC/Hz @ 10 KHz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5616 MHz Wid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ue to 2 VCOs Locked with Different PLLs?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52720" y="1828800"/>
            <a:ext cx="619128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7AEC6-8D5C-40D1-8FC8-E011BD1AB4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s with CT1DMK Reflock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209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T1DMK Reflock Board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90920" y="1652760"/>
            <a:ext cx="6400800" cy="43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8DF4F-3936-4167-8282-A926908809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s with CT1DMK Reflock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9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requency West Brick DMK Locked to Z3801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-110.8 dBC/Hz @ 10 KHz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o Differe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FD8C8-C5A3-417C-9B59-F50BDE49B8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s with CT1DMK Reflock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requency West Brick DMK Locked to Shera Ref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-110.7 dBC/Hz @ 10 KHz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Little Differe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952720" y="1981080"/>
            <a:ext cx="6191280" cy="333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5D2D0-D74B-4C9A-B7C7-30F2D8DFA2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s with CT1DMK Reflock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9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requency West Brick Unmodified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- 103 dBC/Hz @ 10 KHz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952720" y="1828800"/>
            <a:ext cx="619128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A9FB8-E8BB-45E5-A06C-A09AD59395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s with CT1DMK Reflock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dditional Work on Loop Filter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derstand What Level of Phase Noise is Adequate?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n Air Testi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Lock Frequency Stab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able Basic Oscillator Requir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5BFAF-8AF3-4C22-A697-4735DCF20A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s with CT1DMK Reflock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-27101880"/>
            <a:ext cx="4572000" cy="261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 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 a 50-150MHz VCXO to a 10MHz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K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C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K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K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K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2 J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2 J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2 J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K1 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E1 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R 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E2/CK2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DI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S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K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DO 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M3064ATQ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FP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K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K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2 J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2 J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8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496E9-79B0-44EC-A9B0-58111C18C3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s with CT1DMK Reflock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9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umper Setting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stall Jumper for ‘0”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J4 - LSB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J6 – MSB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Tune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Up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w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XO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6019560" cy="387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6EE8F-23FA-46DB-80B0-49E507C12E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s with CT1DMK Reflock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Universal Version Jumper Tabl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006699"/>
                </a:solidFill>
                <a:latin typeface="Arial"/>
              </a:rPr>
              <a:t>J6 J5 J4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-- conf=000 locks to the nearest 10KHz multipl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-- conf=001 locks to the nearest 100KHz multipl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-- conf=010 locks to the nearest 2.5KHz multipl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-- conf=011 locks to the nearest 25KHz multipl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-- conf=100 locks to the nearest 3.3333...KHz multipl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-- conf=101 Locks to the nearest 33.33333...KHz multipl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-- conf=110 locks to the nearest 5KHz multipl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-- conf=111 locks to the nearest 50KHz multipl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7FA63-75C2-491A-9427-CF8BDED801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s with CT1DMK Reflock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Problems Found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gramming Cab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older Shor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oltage Regulator @ Current Limi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commend Lower Input Voltage – 10 Vol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A5VJB 2</a:t>
            </a:r>
            <a:r>
              <a:rPr b="0" lang="en-US" sz="2400" spc="-1" strike="noStrike" baseline="30000">
                <a:solidFill>
                  <a:srgbClr val="006699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Rev Board with Holes for 7805 Tab Package (TO-220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2D4EA-B221-41DF-B24E-18EFFEFD0F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s with CT1DMK Reflock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Problems Found cont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rounding of Ref Lock Board &amp; Frequency West Sour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heck Level &amp; Jitter of Reference Oscillator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ok @ Input of FPGA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hanged Resistors and Caps on 74F04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ade C3 &amp; C4 same as C5 &amp; C6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ade R6 &amp; R7 same as R8 &amp; R9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51E08-1D19-46C8-BBFC-D993485594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s with CT1DMK Reflock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Problems Found cont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heck Level &amp; Jitter of VCXO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ok @ Input to FPGA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heck Level &amp; Jitter of VTun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dded 27K Resistor in Series with 10 uf Capacitor to Ground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duced Jitter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dditional Work on Loop Filter Need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894BE-2D5C-4867-80B2-6F7C4BB5EA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s with CT1DMK Reflock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Problems Found cont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scillator Needs to be Stable Stand Alon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ange of VTune Must be Matched with Tune Range of Oscillator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CC486-E959-4073-915E-35C82B8796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16:19:55Z</dcterms:created>
  <dc:creator>Joseph Jurecka</dc:creator>
  <dc:description/>
  <dc:language>en-US</dc:language>
  <cp:lastModifiedBy>Joseph Jurecka</cp:lastModifiedBy>
  <dcterms:modified xsi:type="dcterms:W3CDTF">2004-10-16T17:19:52Z</dcterms:modified>
  <cp:revision>41</cp:revision>
  <dc:subject/>
  <dc:title>Slide 1</dc:title>
</cp:coreProperties>
</file>