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542000" y="63244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p 16 Oct 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77000" y="152280"/>
            <a:ext cx="1467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3pgp.org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4218120" cy="585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10080" y="152388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Terrestrial LASER Commun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and Lunar Laser R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5334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Perryman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5W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.perryman@lm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11840" y="304920"/>
            <a:ext cx="51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Radar Rang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5240" y="646200"/>
            <a:ext cx="1440" cy="48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2520" y="54752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5040" y="6172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360360" y="28033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Sig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523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8120" y="1143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28800" y="762120"/>
            <a:ext cx="0" cy="7617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33960" y="3214440"/>
            <a:ext cx="23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Antenna / Optics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762120"/>
            <a:ext cx="83808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037520" y="3925440"/>
            <a:ext cx="24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ospheric Scatter, Turb, 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44640" y="53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1400" y="5715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8520" y="5297400"/>
            <a:ext cx="622440" cy="35568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0" y="112"/>
                </a:moveTo>
                <a:cubicBezTo>
                  <a:pt x="16" y="96"/>
                  <a:pt x="32" y="80"/>
                  <a:pt x="48" y="64"/>
                </a:cubicBezTo>
                <a:cubicBezTo>
                  <a:pt x="64" y="48"/>
                  <a:pt x="80" y="24"/>
                  <a:pt x="96" y="16"/>
                </a:cubicBezTo>
                <a:cubicBezTo>
                  <a:pt x="112" y="8"/>
                  <a:pt x="128" y="0"/>
                  <a:pt x="144" y="16"/>
                </a:cubicBezTo>
                <a:cubicBezTo>
                  <a:pt x="160" y="32"/>
                  <a:pt x="184" y="80"/>
                  <a:pt x="192" y="112"/>
                </a:cubicBezTo>
                <a:cubicBezTo>
                  <a:pt x="200" y="144"/>
                  <a:pt x="184" y="192"/>
                  <a:pt x="192" y="208"/>
                </a:cubicBezTo>
                <a:cubicBezTo>
                  <a:pt x="200" y="224"/>
                  <a:pt x="224" y="224"/>
                  <a:pt x="240" y="208"/>
                </a:cubicBezTo>
                <a:cubicBezTo>
                  <a:pt x="256" y="192"/>
                  <a:pt x="264" y="128"/>
                  <a:pt x="288" y="112"/>
                </a:cubicBezTo>
                <a:cubicBezTo>
                  <a:pt x="312" y="96"/>
                  <a:pt x="376" y="112"/>
                  <a:pt x="384" y="112"/>
                </a:cubicBezTo>
                <a:cubicBezTo>
                  <a:pt x="392" y="112"/>
                  <a:pt x="344" y="112"/>
                  <a:pt x="33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78360" y="5475240"/>
            <a:ext cx="1050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2640" y="5715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5k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905120"/>
            <a:ext cx="1981440" cy="9144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5909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 ‘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4040" y="29322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396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819520"/>
            <a:ext cx="0" cy="5331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1523880"/>
            <a:ext cx="218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ic Target OverFill Loss, Refl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352680"/>
            <a:ext cx="1981080" cy="838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 ‘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5120" y="43038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504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4191120"/>
            <a:ext cx="83808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467480" y="4724280"/>
            <a:ext cx="0" cy="6098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161760" y="1918080"/>
            <a:ext cx="277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ive Antenna , Optics Gain  Polarization Mis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740560" y="2225880"/>
            <a:ext cx="25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ospheric Scatter, Turb,  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8600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334120"/>
            <a:ext cx="622440" cy="355320"/>
          </a:xfrm>
          <a:custGeom>
            <a:avLst/>
            <a:gdLst/>
            <a:ahLst/>
            <a:rect l="l" t="t" r="r" b="b"/>
            <a:pathLst>
              <a:path w="392" h="224">
                <a:moveTo>
                  <a:pt x="0" y="112"/>
                </a:moveTo>
                <a:cubicBezTo>
                  <a:pt x="16" y="96"/>
                  <a:pt x="32" y="80"/>
                  <a:pt x="48" y="64"/>
                </a:cubicBezTo>
                <a:cubicBezTo>
                  <a:pt x="64" y="48"/>
                  <a:pt x="80" y="24"/>
                  <a:pt x="96" y="16"/>
                </a:cubicBezTo>
                <a:cubicBezTo>
                  <a:pt x="112" y="8"/>
                  <a:pt x="128" y="0"/>
                  <a:pt x="144" y="16"/>
                </a:cubicBezTo>
                <a:cubicBezTo>
                  <a:pt x="160" y="32"/>
                  <a:pt x="184" y="80"/>
                  <a:pt x="192" y="112"/>
                </a:cubicBezTo>
                <a:cubicBezTo>
                  <a:pt x="200" y="144"/>
                  <a:pt x="184" y="192"/>
                  <a:pt x="192" y="208"/>
                </a:cubicBezTo>
                <a:cubicBezTo>
                  <a:pt x="200" y="224"/>
                  <a:pt x="224" y="224"/>
                  <a:pt x="240" y="208"/>
                </a:cubicBezTo>
                <a:cubicBezTo>
                  <a:pt x="256" y="192"/>
                  <a:pt x="264" y="128"/>
                  <a:pt x="288" y="112"/>
                </a:cubicBezTo>
                <a:cubicBezTo>
                  <a:pt x="312" y="96"/>
                  <a:pt x="376" y="112"/>
                  <a:pt x="384" y="112"/>
                </a:cubicBezTo>
                <a:cubicBezTo>
                  <a:pt x="392" y="112"/>
                  <a:pt x="344" y="112"/>
                  <a:pt x="33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080" y="5715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5k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486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2000" y="5715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 m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5600" y="4800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228560" y="4384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83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4520" y="685800"/>
            <a:ext cx="68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Happens if You Jus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me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752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rplus Laser ( HamCom, Dayton or ??) Nd:YAG 100 mj per pulse Q-swi, 20 hz, Peak power density is 100s of kw / cm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6120" y="247824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ig Telescope : 18 to 20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5400" y="2935440"/>
            <a:ext cx="69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 a State-of-the-Art Rcvr Chip for Detection : 200 nw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733920"/>
            <a:ext cx="740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sh it up and see what happ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ing stability is probably not near good enough to get enough power on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optically damage the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thru the Radar Range Equation for Lasers shows a large negative S/N b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  what are the other “side issu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720" y="12952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quire the Equip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746080" y="45720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Issues and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3960" y="1219320"/>
            <a:ext cx="57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 Hazards : The Eye i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sitive Recei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 possible even to invisibl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 to Cornea or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ge to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59092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minal Eye Hazard Di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(EHD) What is the closest distance for intra-beam Viewing that is considered saf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53320" y="3352680"/>
            <a:ext cx="695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Wavelength, Power Level, Pulsed or CW (Laser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Visual Aids for the Eyes? (i.e., Binocu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5040" y="563868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ny Accidents / Injuries  around Lasers are not Optical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ri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800600"/>
            <a:ext cx="72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merican National Standards Institute  (ANSI Z136) : The Standard for Eye Safety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ye Hazards by Laser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xempt: Normally the Eye Hazard Distance is 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I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Normal Eye Avoidance Response (&lt;0.25 sec) will prevent damage, extended direct viewing can exceed Maximum Permitted Exposure (MPE)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staring or powered optics is risk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llla – Controlled: Eye avoidance may save your eye, but not guaranteed: powered optics and extended exposure is very ri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II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ntrolled: Eye avoidance is not good enough for direct or Specular reflections =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anent damage i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I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ntrolled: Direct, Specular, or Diffuse reflections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dangerous: permanent eye damage, fi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(&gt; 2 W/cm^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8000" y="60199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NSI Standard Z-136.1-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Caution"/>
          <p:cNvPicPr/>
          <p:nvPr/>
        </p:nvPicPr>
        <p:blipFill>
          <a:blip r:embed="rId1"/>
          <a:stretch/>
        </p:blipFill>
        <p:spPr>
          <a:xfrm>
            <a:off x="6553080" y="1752480"/>
            <a:ext cx="1219320" cy="889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Caution"/>
          <p:cNvPicPr/>
          <p:nvPr/>
        </p:nvPicPr>
        <p:blipFill>
          <a:blip r:embed="rId2"/>
          <a:stretch/>
        </p:blipFill>
        <p:spPr>
          <a:xfrm>
            <a:off x="6553080" y="2819520"/>
            <a:ext cx="1219320" cy="102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Danger"/>
          <p:cNvPicPr/>
          <p:nvPr/>
        </p:nvPicPr>
        <p:blipFill>
          <a:blip r:embed="rId3"/>
          <a:stretch/>
        </p:blipFill>
        <p:spPr>
          <a:xfrm>
            <a:off x="6553080" y="39625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Danger"/>
          <p:cNvPicPr/>
          <p:nvPr/>
        </p:nvPicPr>
        <p:blipFill>
          <a:blip r:embed="rId4"/>
          <a:stretch/>
        </p:blipFill>
        <p:spPr>
          <a:xfrm>
            <a:off x="6553080" y="5029200"/>
            <a:ext cx="129564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Technical Specifica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Laser Class ?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isible and near visible : 400 nm to 1100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ne: power output less than 0.4 µW for CW la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wo: (400 - 700 nm) and have power outputs between 0.4 µW and 1 mW for CW la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hre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a: Power outputs for Continuous Wave (CW) lasers operating in the visible range are between 1 - 5 mW. Blink will probably save you, but power optics is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b: 5 - 500 mW for CW la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Four: &gt; 500 mw and most pulsed la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40800" y="6094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Issues and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60020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The FCC  say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bove 300 Ghz   BUT:  Outdoor Laser “Displays” are governed by more that one agenc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8240" y="2209680"/>
            <a:ext cx="70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verning Agencies for Un-terminated Beams (Laser Light Show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01400" y="2514600"/>
            <a:ext cx="656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 FDA: Center For Devices and Radiological Health (CDR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 Occupational Safety and Health Administration (OS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exas Bureau of Radiation Control or your state’s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F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11034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al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7280" y="396252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is the Risk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 Injury, and or Money change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what is a Laser based accident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 Ne: 0.1 to  1 milliwatt 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ilitary Rangefinder at Dayton (EHD k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5 Kv times a pf / 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ath of a Design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tom Line: Risks can be Comparable to the large EME stations: but Very different 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16640" cy="4811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8320" y="4572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May 2004 Dayton Hamvention – Surplus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1880" y="304920"/>
            <a:ext cx="7576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ton 2004 – Litton Military Target Designator / Range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mj / pulse, 1.06 um, 20 hz : EHD &gt;1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3080" y="581040"/>
            <a:ext cx="640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Do We Go From 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re No Amateur Laser Comms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600200"/>
            <a:ext cx="7864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you are having Ideas about Laser EME or are interested in setting new optical wavelength distance rec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cal difficulty of Brute Force Laser EME is very great: Getting a bright enough source to do the problem, and pointing and tracking are currently the domain of government and University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y government and legal requirements should all be considered:  Federal, State,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fety issues must all be considered: (i.e., What is the Eye Hazard Distanc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What is the Best Plan for Laser Technological Advancement for the Amateur Radio Commun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093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82520" y="60948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371600"/>
            <a:ext cx="778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llenge will be to blend the Extreme Bandwidth with Nov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Enco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omain, Polarization, Frequency Domain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Big Advanc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Allow Signific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: Regenerative D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eak and Average Power can be Low within Saf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rier Frequency of 474 Thz will Allow Huge (ie.,300 Ghz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band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terrestrial : Who knows where this will 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ill be the first to have a 144Mhz, 432M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10 Ghz  Laser Plus Rf IF Cont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0840" y="798480"/>
            <a:ext cx="73310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Perryman:  WA5W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icensed: WN5WCP in 1968   15m 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interest:  HF, VHF, UHF, 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aser experience: 1970 : HeNe open frame,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Systems I have kn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 Glass Modelocked 6 ps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ts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YAG 10 ns Military Target Designator / Rang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00 mj to 1 j per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y – Q- Switched, multi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on Gas cw ; 10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 w to 11 kw 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home brew: 10 ns, kw 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: Glass Eyesafe range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4100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d by: Texas Inst, VARO, General Dynamics Land Systems, Lockheed Martin MMFC: building sights, sensors, and fire control on military platforms since 1988: C-130, Abrams M1, F15, F16, JSF, A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79640" y="68580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al Versions of R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72440" y="1981080"/>
            <a:ext cx="685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detector (photodiode, avalan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Mixer : Non Linear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c Osc, 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PO, or 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7080" y="152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7280" y="1523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609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Optical Heterodyne Dete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1676520"/>
            <a:ext cx="533160" cy="21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4480" y="3886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286000"/>
            <a:ext cx="1447560" cy="9144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7160" y="23623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11430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4343400"/>
            <a:ext cx="13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– Local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19720" y="22096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3600" y="24382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514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191120"/>
            <a:ext cx="12956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13560" y="43038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t 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/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743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520" y="373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3618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2514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+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 -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560" y="38862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5040" y="3757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69640" y="2666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9640" y="3200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912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79120" y="32004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828800"/>
            <a:ext cx="2133720" cy="1752480"/>
          </a:xfrm>
          <a:prstGeom prst="rect">
            <a:avLst/>
          </a:prstGeom>
          <a:solidFill>
            <a:srgbClr val="cc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3200040" y="1218960"/>
            <a:ext cx="1752480" cy="297180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3280" y="17524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5909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ff00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286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82520" y="45720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5812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ommen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That all Contests and Records from now on ONLY consider Class I las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ontest Entries and Claimed Records Must Have Complete CDRH, FAA, State, and Local Compl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ommen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o Encourage Technology Awareness in the Amateur Community, Give Bigger Incentives in the Contests and Records for Laser Beyond Direct Detection and Simple On-Off Modulation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7800" y="60948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 and Web Lin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2880" y="160020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3PGP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3pgp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4320" y="205740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9JIM : www.qsl.net/wb9ajz/laser/las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3960" y="457200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ederal Regs: http://www.fda.gov/cdrh/comp/epr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1800" y="40384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ate of Texas Regs:  http://www.tdh.state.tx.us/radiation/laser.ht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4320" y="297180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cDonald Observatory: http://www.csr.utexas.edu/mlrs/d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4680" y="259092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LR and LLR: http://cddisa.gsfc.nasa.gov/slr_summa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4290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ttp://geophysics.ou.edu/solid_earth/readings/apollo_laser_rang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3960" y="5105520"/>
            <a:ext cx="56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powertechnology.com/TECHLIB/SAFETY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9560" y="56386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laserfaq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 : Units of Optica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r Power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wer : KiloWatts , MegaWa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Sensitivity : NanoWa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ar : Milliradian, Microradi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(360 degrees/ 2*pi radians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 degrees / ra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.057 degrees / milli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.000057 degrees / microra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or Arcsec = (360 * 60 *60 arc sec / 2*pi rad * 10^6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 arcsec = 1 u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Width : Nan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00760" y="3049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Terrestrial LASE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 and Lunar Laser R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80120" y="213372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troduction: History an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8320" y="25909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st of Current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2280" y="30481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unar Laser Ranging Fundamental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9400" y="35053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afety Issues and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82280" y="449568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clusion an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495288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ferences and Web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867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 Familiarity with Laser Terminology and Conce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ough Numbers to Provo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40384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Do We Go From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5000" y="60948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7724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0000" y="609480"/>
            <a:ext cx="54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: History an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1828800"/>
          <a:ext cx="7010280" cy="2873520"/>
        </p:xfrm>
        <a:graphic>
          <a:graphicData uri="http://schemas.openxmlformats.org/drawingml/2006/table">
            <a:tbl>
              <a:tblPr/>
              <a:tblGrid>
                <a:gridCol w="998280"/>
                <a:gridCol w="1381320"/>
                <a:gridCol w="1103400"/>
                <a:gridCol w="1303200"/>
                <a:gridCol w="665280"/>
                <a:gridCol w="617400"/>
                <a:gridCol w="941400"/>
              </a:tblGrid>
              <a:tr h="113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(pul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 (de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19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 La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5E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:YAG 2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J @ 15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Donald Observ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:YAG 2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J @ 1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065600" y="1727280"/>
            <a:ext cx="34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ar Laser Ranging (LL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0120" y="5334120"/>
            <a:ext cx="39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ellite Laser Ranging (SLR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040" y="60948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Targets: Lunar and Satellite Refl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2133720" cy="20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828800"/>
            <a:ext cx="3429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llo Retro Reflectors: 11, 14, 15 (1969, 19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akh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962520"/>
            <a:ext cx="314028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y Earth Orbiting Satellites with Retro Refl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S 35,3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St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anass 68,7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AJIS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GEOS 1,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eteor 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S-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West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S -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TALON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27432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840" y="68580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al Retro Reflectors : Corner 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7000" y="51814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to 300 Fused Silica Cubes: 3.8 cm in 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639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5335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Ideas for Lunar Laser R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6880" y="1295280"/>
            <a:ext cx="651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Pulsed is better than CW  (Q-Switched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Q-Switched Nd:YAG 20 nsec pulse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urad (0.006 deg) divergence (Full angle beam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36232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ing and Tra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Needs to be as good or better than the Divergence of Laser ( 0.0006 deg or 10u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lescope stability ~ 0.4 arc sec = 2 u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arget is 0.003 u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6520" y="441972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and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ic Bending, Turbulence (“seeing” varies by 1000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3657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unch and Reco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g Optics with Very Stable Mount ( Diameter 24 inches or more) : Internal Fire, Optically Induced Dam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41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id State Detectors continue to improve (10’s of nw sensitivity currently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78880" y="6094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ospheric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1:53:17Z</dcterms:created>
  <dc:creator>gpp</dc:creator>
  <dc:description/>
  <dc:language>en-US</dc:language>
  <cp:lastModifiedBy>Joseph Jurecka</cp:lastModifiedBy>
  <dcterms:modified xsi:type="dcterms:W3CDTF">2004-10-16T17:32:38Z</dcterms:modified>
  <cp:revision>117</cp:revision>
  <dc:subject/>
  <dc:title>Slide 1</dc:title>
</cp:coreProperties>
</file>