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3F4B6-6F25-45FC-A240-F8651AAF6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AEB6-8829-4222-85B1-4BE024770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B391D-27BE-46B9-B2B0-881F22690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8BA39-A87F-4828-8C20-8271C614CD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76E88-60B5-48CF-954A-583D3D03A5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6663D-A155-4263-8756-C240D662E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F814-E5BF-40D7-87D6-A3C3ACE52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12892-9538-4F0B-82B1-54682DD6D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95280" y="22824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6DDFD-259A-43BF-813D-0563A45B9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2B426-0123-488B-95C7-FF33D42CD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B15F4-15AB-4420-BC75-8A183B6DE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7FA39-5157-4043-95D9-E5A82557B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10800000">
            <a:off x="379800" y="0"/>
            <a:ext cx="2210040" cy="60948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-49320" y="1440"/>
          <a:ext cx="919332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9320" y="1440"/>
                    <a:ext cx="919332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-46080" y="5867280"/>
            <a:ext cx="9191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74880" y="37800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5H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896240" y="243000"/>
            <a:ext cx="1291680" cy="1110600"/>
            <a:chOff x="7896240" y="243000"/>
            <a:chExt cx="1291680" cy="1110600"/>
          </a:xfrm>
        </p:grpSpPr>
        <p:sp>
          <p:nvSpPr>
            <p:cNvPr id="6" name=""/>
            <p:cNvSpPr/>
            <p:nvPr/>
          </p:nvSpPr>
          <p:spPr>
            <a:xfrm>
              <a:off x="8459280" y="243000"/>
              <a:ext cx="46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rt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458560" y="441360"/>
              <a:ext cx="494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x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58560" y="928800"/>
              <a:ext cx="72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crowa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58200" y="1122480"/>
              <a:ext cx="55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ociet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60000" y="642960"/>
              <a:ext cx="61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T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" name=""/>
            <p:cNvGraphicFramePr/>
            <p:nvPr/>
          </p:nvGraphicFramePr>
          <p:xfrm>
            <a:off x="7896240" y="276120"/>
            <a:ext cx="638280" cy="1067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896240" y="276120"/>
                      <a:ext cx="63828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4568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92A5-4087-4969-8E28-43F7B10A4560}" type="slidenum">
              <a:rPr b="1" i="1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411480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0968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HASE NOISE 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886200"/>
            <a:ext cx="8305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ave Robinson, WW2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crowave Update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WM 5112Mhz SOU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429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WM 1152MHz + x9 m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429680" cy="4000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5715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roblem with unit? Produced signal around 850MHz on one occa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I prototype (xtal osc+mul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429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LCOM 1152MHz SYN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429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Phase Noi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hase noise is ‘random’ noise energy near an RF carrier such as a local oscillator signal. Phase noise is measured in dBc/Hz at a given frequency offse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 the carrier frequency is increased through the LO chain, the phase noise is scaled by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Log(n), where n = ratio of frequencie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or example, a 10MHz signal with phase noise of -105dBc/Hz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@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1KHz would be ‘the same’ as a 1150MHz signal with          -63.8dBc/Hz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@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1KHz phase noise if measured at 1150MHz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or amateur radio purposes, phase noise can be classified as either “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Near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” or “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Far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(From wa1zms presentation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5FX SYNTH 1136M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429680" cy="4000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14400" y="548640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1.83 dBC/Hz at 10kH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5FX SYNTH + DOUB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7913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4479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.83+ 20 LOG (2) = -91.83+6= -85.83DBC/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5FX SYNTH + DOUB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429680" cy="4000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38080" y="57913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1371600"/>
            <a:ext cx="678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91.83+ 20 LOG (2) = -91.83+6= -85.83DBC/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5FX+ X9 MULTIPL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91.83+ 20 LOG (9) = -91.83+19.08= -72.8dBC/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5FX+ X9 MULTIPL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429680" cy="4000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" y="12952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91.83+ 20 LOG (9) = -91.83+19.08= -72.8dBC/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MENTS M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10MHz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11MHz-1GHz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1GHz+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ots more oscillators to be measured as time allows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Better measurement techniques needed to measure phase noise below 1GHz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 THAN 1G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53341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Y SIMILAR RESULTS: MEASURING ANALYSERS CHARACTERISTICS, MASKING OSCILLATOR PHASE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631880"/>
          <a:ext cx="7543800" cy="335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31880"/>
                    <a:ext cx="754380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FECT OF CRYSTAL DRIV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04920" y="2595600"/>
          <a:ext cx="8610480" cy="168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5600"/>
                    <a:ext cx="861048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16MHz Brick locked to GPS with Shera GPS lock box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411480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42932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616MHz Brick DMK locked to GPS via Z3801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429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16 MHz Brick (DMK disab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429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QUENCY WEST BRICK 10224M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429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lcom Texas Synth” multiplied to 10224M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429680" cy="4000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52480" y="57913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e higher reference level (-30dBc/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5:00:58Z</dcterms:created>
  <dc:creator>David Robinson</dc:creator>
  <dc:description/>
  <dc:language>en-US</dc:language>
  <cp:lastModifiedBy>Joseph Jurecka</cp:lastModifiedBy>
  <dcterms:modified xsi:type="dcterms:W3CDTF">2004-10-21T18:39:56Z</dcterms:modified>
  <cp:revision>82</cp:revision>
  <dc:subject/>
  <dc:title>Slide 1</dc:title>
</cp:coreProperties>
</file>