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CCC01-68B0-47DA-9073-44F4E0417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68714-E634-4C92-897C-1CE32A88A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EE77E-A6C4-4683-A006-AAB5481F5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B6937-6770-4598-9435-6A6868E012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307AD-E358-4BEC-8A57-F738E04A02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FA168-DDC6-4A32-B53D-21E9BD00F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3892C-9CBA-4723-A91E-A54199C6B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ADB65-4CAB-4E70-9810-3AFA1F80B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95280" y="22824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68C7B-CEF8-4778-B9B7-3DAAF13F0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DBDEB-8598-4D86-A753-5153BEE63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62571-C538-4026-B071-72925A032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0819E-3669-43F3-A3C5-54A0715F9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rot="10800000">
            <a:off x="379800" y="0"/>
            <a:ext cx="2210040" cy="60948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-49320" y="1440"/>
          <a:ext cx="9193320" cy="685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9320" y="1440"/>
                    <a:ext cx="919332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-46080" y="5867280"/>
            <a:ext cx="9191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74880" y="378000"/>
            <a:ext cx="51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5H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896240" y="243000"/>
            <a:ext cx="1291680" cy="1110600"/>
            <a:chOff x="7896240" y="243000"/>
            <a:chExt cx="1291680" cy="1110600"/>
          </a:xfrm>
        </p:grpSpPr>
        <p:sp>
          <p:nvSpPr>
            <p:cNvPr id="6" name=""/>
            <p:cNvSpPr/>
            <p:nvPr/>
          </p:nvSpPr>
          <p:spPr>
            <a:xfrm>
              <a:off x="8459280" y="243000"/>
              <a:ext cx="46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rt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458560" y="441360"/>
              <a:ext cx="494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x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58560" y="928800"/>
              <a:ext cx="72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crowa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58200" y="1122480"/>
              <a:ext cx="558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ociet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60000" y="642960"/>
              <a:ext cx="61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T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" name=""/>
            <p:cNvGraphicFramePr/>
            <p:nvPr/>
          </p:nvGraphicFramePr>
          <p:xfrm>
            <a:off x="7896240" y="276120"/>
            <a:ext cx="638280" cy="1067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896240" y="276120"/>
                      <a:ext cx="63828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4568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F8BE-4672-4A85-8EE3-21A1B1C1877C}" type="slidenum">
              <a:rPr b="1" i="1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roaxis.com/~boblark/dsp10.htm" TargetMode="External"/><Relationship Id="rId2" Type="http://schemas.openxmlformats.org/officeDocument/2006/relationships/hyperlink" Target="http://www.fidalgo.net/~wa7gxd/kdsp10.html" TargetMode="External"/><Relationship Id="rId3" Type="http://schemas.openxmlformats.org/officeDocument/2006/relationships/hyperlink" Target="http://www.tapr.org/tapr/html/Fdsp10.html" TargetMode="External"/><Relationship Id="rId4" Type="http://schemas.openxmlformats.org/officeDocument/2006/relationships/hyperlink" Target="http://www.aa1yn.com/dsp-10/index.html" TargetMode="External"/><Relationship Id="rId5" Type="http://schemas.openxmlformats.org/officeDocument/2006/relationships/hyperlink" Target="http://users.easystreet.com/rhayward/dsp10/pll_tuneup.html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411480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0968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W7PUA DSP10 144MHz Transceiver as a Microwave I.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886200"/>
            <a:ext cx="8305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ave Robinson, WW2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crowave Update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P-10 with 30W 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5HN 144M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62940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5HN 902M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93432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5HN 1296M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47920" y="1390680"/>
            <a:ext cx="701028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LD” NT5NT 10G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70572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”  NT5NT 10G bea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368.000000MHz GPS R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8001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elop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z-Lite board discontinued, replacement is now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$242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(originally $99!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yle Johnson KK7P developed replacement DSP board (“DSPX”, supplied built) and interface board to DSP10 (“KDSP10”, kit) total cost $139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SPX has lower power consumption and more powerful DSP. Look for future development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P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1108080"/>
            <a:ext cx="72154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ngineer easier switching between internal/external 10MHz reference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xternal Transverter to enable 435MHz operation (5/10/24/47G IF) with LO locked to GPS (Currently use Microwave modules MMT434/144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WSJT Interfac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iginal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sign by Bob Larkin W7PUA published in Sep-Nov 1999 Q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vers 144 to 148MHz USB/LSB/FM/Other mod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uter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ontrolled</a:t>
            </a:r>
            <a:r>
              <a:rPr b="0" i="1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ough RS232 por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n be locked to external 10MHz refer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7PUA DSP-10 web site:-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roaxis.com/~boblark/dsp10.htm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KK7P DSPX:-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dalgo.net/~wa7gxd/kdsp10.htm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APR SITE:-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tapr.org/tapr/html/Fdsp10.html</a:t>
            </a: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"/>
              </a:rPr>
              <a:t>     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struction pictures:-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aa1yn.com/dsp-10/index.htm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KA7EXM Alignment procedures/software:-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users.easystreet.com/rhayward/dsp10/pll_tuneup.htm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Coverage from 144 to 148 MHz, USB, LSB, CW, and FM operation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1 Hz frequency control (except FM)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Full integration of UHF/Microwave transverters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I-F and audio is defined in software (SDR) to allow additions and improvements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Low-power 20+ milliwatt with an add-on 8-Watt amplifier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Eight audio filters including One audio filter custom tailored from the screen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LMS noise-reduction and auto-notch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Two selectable I-F bandwidths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Fully defineable spectral analysis, Spectral Waterfall display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Screen saves built in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Timed (Beacon) transmit and receive control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Precise EME (Moonbounce) Doppler correction of frequency for all modes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Real-time Moon and Sun tracking in Az, El and distance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Complete CW sending from the PC keyboard.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S-meter that is accurate from -140 to -25 dBm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Provision for frequency control to a fraction of a Hertz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Highly accurate Sun (and Moon) noise measurements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uter </a:t>
            </a:r>
            <a:r>
              <a:rPr b="0" i="1" lang="en-US" sz="2800" spc="-1" strike="noStrike">
                <a:solidFill>
                  <a:srgbClr val="006699"/>
                </a:solidFill>
                <a:latin typeface="Arial"/>
              </a:rPr>
              <a:t>controls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SP-10, it doesn’t do much proces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s is different from the other commercial designs where the computer does the number crunching, requiring a 600MHz+ machin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 successfully use a 75MHz ThinkPa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OS currently required (Don’t use DOS window under another OS, others working this issu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411480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2296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construction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 2001: Bought all compon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n 5 2004: sent to work in NC for 2 weeks, decided could use all that spare evening time to stuff PCB rather than watching HBO!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n 21-24 2004: Return and finish construc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n 25: DSP-10 QRV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y 5: Added 30W Amplifi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ished DSP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48648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Z-LITE DSP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40080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ernal 30W 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4572000" cy="5410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791320" y="3352680"/>
            <a:ext cx="304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Mitsubishi RA30H1317 Power module (30W out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5:00:58Z</dcterms:created>
  <dc:creator>David Robinson</dc:creator>
  <dc:description/>
  <dc:language>en-US</dc:language>
  <cp:lastModifiedBy>Joseph Jurecka</cp:lastModifiedBy>
  <dcterms:modified xsi:type="dcterms:W3CDTF">2004-10-21T18:39:08Z</dcterms:modified>
  <cp:revision>70</cp:revision>
  <dc:subject/>
  <dc:title>Slide 1</dc:title>
</cp:coreProperties>
</file>