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NTMS Projects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0" name=""/>
          <p:cNvSpPr/>
          <p:nvPr/>
        </p:nvSpPr>
        <p:spPr>
          <a:xfrm>
            <a:off x="1219320" y="2133720"/>
            <a:ext cx="7467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 Shack Rotator Mod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 GHz Transve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5562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vity tuning adjustment: turning screw CCW lowers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cavity resonant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457200"/>
            <a:ext cx="29718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36232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vity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895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estyle Script"/>
              </a:rPr>
              <a:t>To be continued</a:t>
            </a:r>
            <a:endParaRPr b="0" lang="en-US" sz="3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5PGH Direction Sensor for Radio Shack Rot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934320" cy="4064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5334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er N5PGH and Terry W5ETG work on the patien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791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ars de-greased and laid out on the workb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5PGH taps a hole in the gear driv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60199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oke Test: Running the motor from stop to stop and greasing the g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er greases the gears while Vaden look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With a 12 GHz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ttl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243864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88 Ghz B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2209680"/>
            <a:ext cx="2438640" cy="7621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 = 23.76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4419720"/>
            <a:ext cx="2209680" cy="9144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2 MHz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267080"/>
            <a:ext cx="1219320" cy="11430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5909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29718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4876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4800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4495680"/>
            <a:ext cx="1905120" cy="60984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.192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5562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brick should produce 11.88 GHz output with a 99 MHz reference input. Cavity frequency is 1.485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32:09Z</dcterms:created>
  <dc:creator>Bob Kmak</dc:creator>
  <dc:description/>
  <dc:language>en-US</dc:language>
  <cp:lastModifiedBy>Joseph Jurecka</cp:lastModifiedBy>
  <dcterms:modified xsi:type="dcterms:W3CDTF">2004-03-08T16:05:11Z</dcterms:modified>
  <cp:revision>24</cp:revision>
  <dc:subject/>
  <dc:title>NTMS Projects  </dc:title>
</cp:coreProperties>
</file>