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2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FA551-D7FD-4BC8-8AB6-D28A0CBD9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E16C-B890-42BC-9B86-9244E5EE22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68D6E-62C6-4DBE-9357-5EF6C2B65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D76C1-AA89-4DE5-A946-69580C067F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DE704-4237-40E1-9791-DCE275BDE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3B44-663B-42E5-B40F-686075AB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1A3D4-E6B4-431C-8864-5F47C3DA7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1829-2E8F-4439-B1B8-AF339973A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B66D5-7DE5-49DD-9CE5-5F190F39A2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C9C3-3980-45F3-97CA-89F153EDB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FA9EE-33E2-42BA-963B-848C0DD5C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1160-E309-43B8-90BB-A052F17276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 rot="10800000">
            <a:off x="379800" y="0"/>
            <a:ext cx="2210040" cy="60948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-49320" y="1440"/>
          <a:ext cx="9193320" cy="685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9320" y="1440"/>
                    <a:ext cx="919332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-57240" y="5867280"/>
            <a:ext cx="92012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429000" y="6324480"/>
            <a:ext cx="30481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4880" y="378000"/>
            <a:ext cx="517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W5H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896240" y="243000"/>
            <a:ext cx="1291680" cy="1110600"/>
            <a:chOff x="7896240" y="243000"/>
            <a:chExt cx="1291680" cy="1110600"/>
          </a:xfrm>
        </p:grpSpPr>
        <p:sp>
          <p:nvSpPr>
            <p:cNvPr id="7" name=""/>
            <p:cNvSpPr/>
            <p:nvPr/>
          </p:nvSpPr>
          <p:spPr>
            <a:xfrm>
              <a:off x="8459280" y="243000"/>
              <a:ext cx="4611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rt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58560" y="441360"/>
              <a:ext cx="494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Texa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58560" y="928800"/>
              <a:ext cx="729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crowav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58200" y="1122480"/>
              <a:ext cx="558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et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60000" y="642960"/>
              <a:ext cx="61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NTM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2" name=""/>
            <p:cNvGraphicFramePr/>
            <p:nvPr/>
          </p:nvGraphicFramePr>
          <p:xfrm>
            <a:off x="7896240" y="276120"/>
            <a:ext cx="638280" cy="1067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7896240" y="276120"/>
                      <a:ext cx="638280" cy="106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1"/>
          </p:nvPr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BankGothic Lt BT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333399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5981-9743-4DFA-BEA9-90247B162ECA}" type="slidenum">
              <a:rPr b="1" i="1" lang="en-US" sz="1400" spc="-1" strike="noStrike">
                <a:solidFill>
                  <a:srgbClr val="333399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control of Microwave S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5280" y="31795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There’s nothing that can’t be don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with Velcro and microprocess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ephen Hicks — N5AC, AFA4SH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µControl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idely available and inexpensiv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asy to interfac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ften have on-board serial, display drivers, etc for advanced project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n be programmed in assembler (yuk), C or BASIC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on µControll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IC made by Microchip probably #1 in sa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es in LOTS of different sizes, shapes, configur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rget across the board, but many sold into commercial embedded applic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ASIC stamp by Parallax sold gobs als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arget is generally educational market and hobbyists, but commercial path exists als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bbit, Freescale (formerly Motorola), Fairchild, Zilog, etc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find I have to defend using BASIC on a regular basi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 first programmed a computer at age 12 in BASI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 wrote my first 6502 assembler program (a contest callsign deduper) at age 14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 have been a software engineer for many years and I am comfortable writing in over a dozen programming languages including several assemblers 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 why BASIC??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Language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o uses BASIC anymore anyway?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SP[x], the most common web language on the Internet is a derivative of BASI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HP, Perl, and many other web and scripting languages are derivatives of BASIC’s dynamic typing and simple cod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ASIC hides a lot of the complexities of programming like memory allocation and type cast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g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TIME TO MARKET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ase of development and debugg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ater readability of co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ayman” more likely to be able to read and understand your cod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arge enhancements and modifications, even in the field, are eas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mability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 January 06 VHF SS, I had a control system on a BASIC stamp</a:t>
            </a:r>
            <a:r>
              <a:rPr b="0" lang="en-US" sz="2800" spc="-1" strike="noStrike" baseline="30000">
                <a:solidFill>
                  <a:srgbClr val="006699"/>
                </a:solidFill>
                <a:latin typeface="Arial"/>
              </a:rPr>
              <a:t>®</a:t>
            </a: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 connected to a LCD displa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isplay failed and I lost positive control of my entire µW syste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 reprogrammed the controller to take inputs on the serial port from my laptop in about 20 minut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KLY, NOT POSSIBLE IN ASSEMB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do you give u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ASIC is somewhat less “deliberate” since things are done for you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You might find that variables you send out a serial port aren’t in the format you wan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You may lose interrupt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Not terribly important for out applic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olling is a good alternativ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ASIC often requires more memo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ey, we’re not writing a database app here … memory is plentiful toda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the en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hich platform and language you use will be a matter of personal comfort and inter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you are new to programming and microcontrollers, I recommend the BASIC Stamp</a:t>
            </a:r>
            <a:r>
              <a:rPr b="0" lang="en-US" sz="2800" spc="-1" strike="noStrike" baseline="30000">
                <a:solidFill>
                  <a:srgbClr val="006699"/>
                </a:solidFill>
                <a:latin typeface="Arial"/>
              </a:rPr>
              <a:t>®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you need flexibility and are willing to pay for it with development time or you are going to release something commercially and need low cost/part, get a PI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you need the ultimate in power and flexibility and are willing to pay for it with $$ and time, get a Freescale process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tamp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at you ne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BASIC Stamp Module such as a BS2p, BS2p40 or development boar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ower suppl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mputer with a serial port (or USB-serial adapter) [some BASIC Stamp boards use USB]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6120" y="4078440"/>
            <a:ext cx="2860560" cy="24224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Stamp compari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79400" y="1739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ASIC Stamp 2 has a PIC 16C57 with EEPROM, oscillator, serial interface, etc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$49 in quantity o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47760" y="1778040"/>
          <a:ext cx="4031640" cy="4449240"/>
        </p:xfrm>
        <a:graphic>
          <a:graphicData uri="http://schemas.openxmlformats.org/drawingml/2006/table">
            <a:tbl>
              <a:tblPr/>
              <a:tblGrid>
                <a:gridCol w="1915560"/>
                <a:gridCol w="2116080"/>
              </a:tblGrid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or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gram Execution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4,000 instructions/s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M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Bytes (6 I/O, 26 Vari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EPROM (Program)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K Bytes, ~500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7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/O P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 +2 Dedicated S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ltag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- 15 v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rrent Draw at 5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mA Run / 50 µA Sl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BASIC Comm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2"x0.6"x0.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47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at’s there to control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How control is achiev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mon control method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trol hardware tradeoff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sky’s the limit – novel applica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ypical practical applica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495680" y="4273560"/>
            <a:ext cx="4056120" cy="21477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 Stamp compari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79400" y="1739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ASIC Stamp 2p40 has a UBICOM SX48 with EEPROM, oscillator, serial interface, etc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$79 in quantity on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47760" y="1508040"/>
          <a:ext cx="4037760" cy="4525920"/>
        </p:xfrm>
        <a:graphic>
          <a:graphicData uri="http://schemas.openxmlformats.org/drawingml/2006/table">
            <a:tbl>
              <a:tblPr/>
              <a:tblGrid>
                <a:gridCol w="1919880"/>
                <a:gridCol w="2117880"/>
              </a:tblGrid>
              <a:tr h="34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cessor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 MHz Turb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gram Execution Spe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12,000 instructions/se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AM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Bytes (12 I/O, 26 Variab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cratch Pad 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8 By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EPROM (Program)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x 2K Bytes, ~4,000 instru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/O P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 +2 Dedicated Ser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oltage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 - 12 v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urrent Draw at 5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 mA Run / 350 µA Sle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BASIC Comman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"x0.6"x0.4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velopment Boa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airly self explanator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asics are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ower the par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vide serial connector to progra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vide breadboarding area for experimen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itional components, input/output devi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ange from $25-$25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ard of Education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1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r BS2 only, $65 qty on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at it ha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mall breadboard are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gulat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river for servos (for turning 24GHz horns?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rial connector for programm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454720" y="1778040"/>
            <a:ext cx="325764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S2p24/40 Demo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53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$89 quantity one [not incl stamp]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readboard area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upports BS2p24, BS2p4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n board 5v regulator, serial connector, switch, pot, et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031080" y="1739880"/>
            <a:ext cx="2577960" cy="42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Development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421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$149 quantity on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hat it ha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ads of switch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5-digit 7-seg LED display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peak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ocket for any BASIC stam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6 blue LE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arge breadboard are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tc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838840" y="1700280"/>
            <a:ext cx="2666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Stamp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3760" y="1316160"/>
            <a:ext cx="73152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14600" y="1539720"/>
            <a:ext cx="5008320" cy="21574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with the BASIC Stam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Keying a transverte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2520" y="3521160"/>
            <a:ext cx="822960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To key the trans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  <a:ea typeface="Arial"/>
              </a:rPr>
              <a:t>HIGH PI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To unkey the transmi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ourier New"/>
                <a:ea typeface="Arial"/>
              </a:rPr>
              <a:t>LOW PIN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It’s that simp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put with BASIC Sta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Arial"/>
              </a:rPr>
              <a:t>Connect input to input pin (iPTT)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iPTT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PIN 4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input pin #4 for PTT request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lastTXstate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CON $07A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last transmit stat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lastTXstate, 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get the PTT state the last time her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IF iPTT = x THEN RETURN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no need to do anything (same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PUT lastTXstate, iPTT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save our tx state for next tim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IF iPTT = 1 THEN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no key down (float high)?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OSUB sequenceOff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no PTT, make sure we aren’t TXing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ELSE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we're key down, so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OSUB sequenceOn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Transmit !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nn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fter you type your program in the development environment, just press “play”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Your code is downloaded into the EEPROM on board the BASIC Stamp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Your program is execut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essing the reset button will restart your program and run it agai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14640" y="2776680"/>
            <a:ext cx="295200" cy="2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ing inside bound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imited memory: 26 bytes of RAM, program in blocks of 2048 bytes, 128 bytes of EEPROM scratchpa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806480" y="3181320"/>
            <a:ext cx="553104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there to contro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Radios – most modern have serial inpu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Retrieve operational data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ter operational parameters such as frequenc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ransverters – all have a PTT line to control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es – switching of one IF rig to multiple transverte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equencing – switching in-line preamps, amplifiers at different times in a QS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ower supplies – for efficiency, protection, etc. may want to enable and disable various suppli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ystem transmit – may want to lock-out transmit in unsafe situ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oundarie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 learn to keep only important things in RA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earn to use several “scratch” RAM  locations over and ove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ad EEPROM data into RAM for manipul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ore back in EEPROM lat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grams that grow over 2K (tokenized) have to be segmented across program memor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-------------------------------------------------------------------------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sequence transverter/transmitter operatio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-------------------------------------------------------------------------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quenceOn: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curBandPTT, 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get the pin # for current band’s PTT lin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IF x &lt;&gt; 0 THEN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if we're using a transverter, let's key it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OUTH = 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transmit on this transverter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PAUSE 50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let the transverter key down (10ms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ENDIF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HIGH oPTT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key the IF rig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427640"/>
            <a:ext cx="8229600" cy="16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OUTH sets all outputs to value x … in this case it is just the bit for the single PTT line .. For example x=4 for bit #2, x=8 for bit #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ing radio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3174480"/>
            <a:ext cx="822960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SEROUT Radio1Out, Radio1Baud, [$00,$00,$00,$00,$03]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SERIN Radio1In, Radio1Baud, 500, NoRadioData, [STR rdata\5]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IF (rdata(0) &gt; $99) OR (rdata(2) &gt; $99) OR (rdata(3) &gt; $99) OR (rdata(4) &gt; $99) THEN GOTO NoRadioData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freq(0) = (rdata(3) &amp; $0F) + ((rdata(3) &amp; $F0)&gt;&gt;4 * 10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freq(1) = (rdata(2) &amp; $0F) + ((rdata(2) &amp; $F0)&gt;&gt;4 * 10) + ((rdata(1) &amp; $0F)*100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freq(2) = (rdata(1) &amp; $F0)&gt;&gt;4 + ((rdata(0) &amp; $0F) * 10) + ((rdata(0) &amp; $F0)&gt;&gt;4 * 100)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freq(3) = 0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00"/>
                </a:solidFill>
                <a:latin typeface="Courier New"/>
              </a:rPr>
              <a:t>DEBUG "[RADI] ",DEC freq(3),DEC3 freq(2), ".", DEC3 freq(1), ".", DEC2 freq(0) ,CR</a:t>
            </a: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469880"/>
            <a:ext cx="822960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This is for a Yaesu, but most radios will be similar … you could even have different code for each radi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tting Radio Frequ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3720" y="1508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-------------------------------------------------------------------------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SetFrequency - Set Radio Freq after band change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-------------------------------------------------------------------------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tFrequency: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curFreq,y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get our current band (1=6m, etc)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y,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get last freq from last time this band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ROUT Radio1Out, Radio1Baud, [x]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y+1,x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ROUT Radio1Out, Radio1Baud, [x]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y+2,x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ROUT Radio1Out, Radio1Baud, [x]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y+3,x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SEROUT Radio1Out, Radio1Baud, [x, $01]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Set freq on radio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GET y+4,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Get last antenna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PUT CurBandAnt, x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' Store antenna locally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thing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You can read and set mode of the radio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ould increase delays for FM or even prevent FM opera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You could limit the transmit time on FM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You could put up a button on a display labeled “DASHES” when in CW and then when it is pressed, you could ground the keyer dash input of the radio…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You could measure the temp of your PA and light a warning light if it is hot … or disable transmit … or bypass the PA!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You could scan beacon frequencies, read the S-meter of the radio and send an email when the beacon appears or is above a specified S-meter reading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Thing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urn a TIB on and off to regulate power to the IF ri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lectrically “move” a single keyer between multiple radio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witch a single microphone between band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witch antenna configura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e sky is the limit 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Hardest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s you can see, getting inputs and outputs and manipulating everything is fairly eas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User interface is harder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Generally separate from the actual control logic boar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ASIC stamp 2P40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N2222 to control all PTTs and relay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28V impulse for relay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rial to radio &amp; displa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B25 to all PTTs, relay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few kLOC of PBASI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494320" y="1432080"/>
            <a:ext cx="3316320" cy="48718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687920" y="1892160"/>
            <a:ext cx="238104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9720" y="3006720"/>
            <a:ext cx="215100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32440" y="3583080"/>
            <a:ext cx="2496960" cy="1382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416560" y="4849920"/>
            <a:ext cx="154080" cy="38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er Interface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and-alone displa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uter terminal progra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uter display program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CD displa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Your IF radio (!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thers …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y thoughts on 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don’t like big in the mobi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like LCD display – they look clean and are small and lightweigh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 am beginning to think I might like the computer best of al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’m indecisive at best … I think I’m going to try each one once before making a decision!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sics of contr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asic types of contro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utput Binary: switching something on or o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TT line of a transver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a PA on or off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a transfer rela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utput Data: control of a device such as a radio with frequency inform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put Binary: sense microphone PTT press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put Data: read S-meter or mode in radio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CD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lf contained and convenien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n be used for both input and output and can be very flexib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till working to keep RF out of i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therwise this is one of my favorit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6872" t="0" r="6547" b="0"/>
          <a:stretch/>
        </p:blipFill>
        <p:spPr>
          <a:xfrm>
            <a:off x="5302080" y="2008080"/>
            <a:ext cx="33800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uch Scree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2406" t="17619" r="5578" b="0"/>
          <a:stretch/>
        </p:blipFill>
        <p:spPr>
          <a:xfrm>
            <a:off x="577800" y="1355760"/>
            <a:ext cx="756612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uch Scree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and switch with touch of a “button”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members last frequency used on each ba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ws actual TX/RX frequenc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trols TIB, Transverters, PTT of radi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ne touch to go to calling frequency on ba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BIG for mobile use and harder to keep running in an auto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Displ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bably the most flexible of al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quires some programming skills on the PC as well as the µ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y next project is to integrate control system with the P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’ll probably use two RS-232 ports at the same time – one for control via a logger and one for status display to code that I writ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’m working on a generalized PCB for use as a µW controll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dea is to make a board that takes a couple of different microcontrollers and has jumpers for configurable input/ou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se are my thought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 couple of 28v control circuits for relay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p to three serial ports with connector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ost I/O pins as either input or output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rivers for output pi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erhaps space to use relays in addition to transistor drivers if so desired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6381360"/>
            <a:ext cx="40766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Copyright © 2006 – Stephen Hicks, N5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BankGothic Lt BT"/>
                <a:ea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1480" y="212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036880" y="1725480"/>
            <a:ext cx="5568840" cy="3969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ften handled with a relay or a bipolar transisto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2520" y="540216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  <a:ea typeface="Arial"/>
              </a:rPr>
              <a:t>Oh, and you generally need a transistor to switch the rel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nary Output Compar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11280" y="175428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2N22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rel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0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0" lang="en-US" sz="28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00 mA n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unlimi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T</a:t>
                      </a:r>
                      <a:r>
                        <a:rPr b="0" lang="en-US" sz="2800" spc="-1" strike="noStrike" baseline="-25000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S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25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5-10ms ty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Opera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bill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100,000 ty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808080"/>
                          </a:solidFill>
                          <a:latin typeface="Arial"/>
                          <a:ea typeface="Arial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6-40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6699"/>
                          </a:solidFill>
                          <a:latin typeface="Arial"/>
                          <a:ea typeface="Arial"/>
                        </a:rPr>
                        <a:t>$0.50-1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ol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7800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Just relay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imple and effectiv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gramming” often achieved with wiring or jumpers (DEMI / W5LUA sequencer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TL/CMOS logic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umbersome, rarely implemented, difficult to adjust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µContoll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grammed with assembler, BASIC, C languag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tegrated with station, perhaps (work with logger)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grammed in any number of languages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ation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DR software to relay board, for exampl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quen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Input signals, generally a PTT, cause a cascade of timed relays to enable and disable preamps, power amplifiers and the lik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rresponding “unwind” on release of PT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Generally, need one sequencer per ban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Only offers one sequence as wired (variability achieved off-line with wiring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mple and reliabl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er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Generally achieved via parallel port on computer, but IEEE-488 and serial also op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 number of logging programs have been adapted to use this metho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Limited to 8 or so outputs without logic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quires a computer, obviousl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rogramming require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16:46:15Z</dcterms:created>
  <dc:creator>Stephen Hicks</dc:creator>
  <dc:description/>
  <dc:language>en-US</dc:language>
  <cp:lastModifiedBy>Stephen M Hicks</cp:lastModifiedBy>
  <dcterms:modified xsi:type="dcterms:W3CDTF">2006-03-04T16:30:06Z</dcterms:modified>
  <cp:revision>89</cp:revision>
  <dc:subject/>
  <dc:title>Myths of Microwaves</dc:title>
</cp:coreProperties>
</file>