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8D48-74B6-4D53-822E-89B07C80F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BBD4-AACD-414A-BCF4-0A51AF4BA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5026-E7F2-48B4-A18C-B1ABA64FD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FE24-199A-4105-9ABD-9FD5DE4EF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30DE-999E-4AB0-95FE-26746BEAD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F005-DCE8-4F6E-B776-ABBE445B9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87AB-E4C6-4E60-92F2-8DCF0FD7C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5CCD-19AE-424B-AA8B-CDC059AD7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2CBC-D3D1-4229-A6BE-88362F263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6DB8-25CB-45DB-868E-EB67C3329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47BB-DA07-4EA6-85D1-CC5D116C7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03DF-8AFB-4974-9B82-7CBDB6242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4880" y="-360"/>
            <a:ext cx="9262800" cy="6858360"/>
            <a:chOff x="-74880" y="-360"/>
            <a:chExt cx="9262800" cy="6858360"/>
          </a:xfrm>
        </p:grpSpPr>
        <p:sp>
          <p:nvSpPr>
            <p:cNvPr id="1" name=""/>
            <p:cNvSpPr/>
            <p:nvPr/>
          </p:nvSpPr>
          <p:spPr>
            <a:xfrm flipH="1" rot="10800000">
              <a:off x="379800" y="0"/>
              <a:ext cx="221004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" name=""/>
            <p:cNvGraphicFramePr/>
            <p:nvPr/>
          </p:nvGraphicFramePr>
          <p:xfrm>
            <a:off x="-49320" y="1440"/>
            <a:ext cx="9193320" cy="685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49320" y="1440"/>
                      <a:ext cx="919332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"/>
            <p:cNvSpPr/>
            <p:nvPr/>
          </p:nvSpPr>
          <p:spPr>
            <a:xfrm>
              <a:off x="-7488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7896240" y="243000"/>
              <a:ext cx="1291680" cy="1110600"/>
              <a:chOff x="7896240" y="243000"/>
              <a:chExt cx="1291680" cy="1110600"/>
            </a:xfrm>
          </p:grpSpPr>
          <p:sp>
            <p:nvSpPr>
              <p:cNvPr id="6" name=""/>
              <p:cNvSpPr/>
              <p:nvPr/>
            </p:nvSpPr>
            <p:spPr>
              <a:xfrm>
                <a:off x="845928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45856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5856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5820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6000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" name=""/>
              <p:cNvGraphicFramePr/>
              <p:nvPr/>
            </p:nvGraphicFramePr>
            <p:xfrm>
              <a:off x="7896240" y="276120"/>
              <a:ext cx="638280" cy="1067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896240" y="276120"/>
                        <a:ext cx="63828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F0B8-746E-4736-84D3-DDD7D271ADEF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A32B-8CFB-4F03-A4CF-EB9AF3B2C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7AAE-8D76-4142-B63B-7AE46BCAD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02-10T17:50:39Z</dcterms:modified>
  <cp:revision>28</cp:revision>
  <dc:subject/>
  <dc:title>Slide 1</dc:title>
</cp:coreProperties>
</file>