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efefe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2200" y="533520"/>
            <a:ext cx="1092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72216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t66.com/~shera/setup_notes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eleport.com/~oldaker/10mhz_constructio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The Shera Lockbox revisited”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4419360"/>
            <a:ext cx="748512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ave Robinson WW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tput Buff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047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output SMT buffer published in Weinheim Proceedings 2000 by DC8ES. Also provides a TTL 10 or 5 or 1MHz output. Needs 12 and 5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ilt one on 1/8” DS PCB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en the buffer was connected to oscillator Box lost loc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solutions were tried over many days: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T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 Amp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ing buffer circuit from a batt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 Resolve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 again at the Shera notes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rt66.com/~shera/setup_notes.htm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me across a problem that wasn’t exactly like mine but anything was worth a try. The problem described was eventually diagnosed as “The VCXO signal becomes contaminated with a divided-down version of itself” Fix: 10pF across R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ured the problem instantly; now have three 10MHz outputs all around 1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ished Uni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9047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era box has 7 modes, each of which has a different averaging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s (~25m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S (~50m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S (~1h40m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0S (~3h20m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000S (~6h40m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000S (~13h20m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time that the PLL takes to fully recover from a trans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 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63680" y="1905120"/>
            <a:ext cx="6111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 6 (2003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1679400"/>
            <a:ext cx="647712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 6 (2004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96880" y="1905120"/>
            <a:ext cx="5843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iginal Desig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057400"/>
            <a:ext cx="8153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Article published in QST July 1998 37-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incipal of operation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one pulse per second signal available from the GPS receiver is phase compared with the 10 MHz reference by using a gated oscillator and a counter. An error voltage generated by this comparison is used to fine tune the 10MHz reference frequency. The comparison and filtering is done digitally in a PIC microcontroll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rst Mod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Late 1998, written up and presented at Update 1999   http://users3.ev1.net/~g4fre/update99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rly 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otally happy with it:-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cillator needed resetting (dri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 got Very h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one output which was load se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 the HP Z3801 10MHz lockbox started appearing on the surplus market so after getting one of these the Shera was she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7CQ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19047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ing the Internet I came across the W7CQ web site with a writeup of how he interfaced the Shera to an HP10544 Oscilla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ome.teleport.com/~oldaker/10mhz_construction.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502920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6160" y="6019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in Shera re-kindled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scillator Mount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thing obviously needed was to put the Oscillator in a separate thermally Insulated bo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1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ld Configur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e transformer was used providing +28V (for oscillator heater) and all regulators were fed by this some of which were dropping 16 and 23V: Much dissipation, much heat even when mounting the regulators off the board on the chass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New Config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earching Junk Box (and a visit to Tanners) produced 2 transformers which would fit in box. One provided 18V which when bridge rectified provided 28V for the oscillator he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rovided 12V CT which using 2 diodes produced 16V for the 12V and 5V regul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8006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3TGE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9% of all problems are PSU rela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se changes the box was set up aligned and the results were very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needed to add more outpu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tput Buff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output SMT buffer published in Weinheim Proceedings 2000 by DC8ES. Also provides a TTL 10 or 5 or 1MHz output. Needs 12 and 5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uilt one on 1/8” DS PCB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0:58Z</dcterms:created>
  <dc:creator>David Robinson</dc:creator>
  <dc:description/>
  <dc:language>en-US</dc:language>
  <cp:lastModifiedBy>Joseph Jurecka</cp:lastModifiedBy>
  <dcterms:modified xsi:type="dcterms:W3CDTF">2004-02-06T15:35:16Z</dcterms:modified>
  <cp:revision>54</cp:revision>
  <dc:subject/>
  <dc:title>Slide 1</dc:title>
</cp:coreProperties>
</file>