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efefe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2200" y="533520"/>
            <a:ext cx="1092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72216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5HN EM13SJ Beacon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 Ward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5LU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ed to Ham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al Position at 180 f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2960" y="594360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o they work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2600" y="59436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ne 9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1800" y="2373480"/>
            <a:ext cx="7366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4.281 MHz Beacon heard in 13 grids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91, EM02, EM12, EM13, EM14 (OK), EM04, EM22, EM23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24(OK), EM25(OK), EM26 (OK), EM45(AR) and EM75 (T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DX about 800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.071 MHz Beacon heard in 10 grids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43 (AZ), EL09, EM00, EM02, EM12, EM13, EM2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25(OK), FM05(NC) and FM29(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DX about 1200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50 Ft Tower in Desert, Texa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98640" y="3809880"/>
            <a:ext cx="23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re right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180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114800" y="41911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n’t Blink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wntown Desert, Texa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r home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con Cabine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28600" y="2590920"/>
            <a:ext cx="171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.07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o @ 180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4.281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o @ 180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 GHz TV Translator for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erman IS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3680" y="594360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6 and 2 Meter Halo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 going up the Tow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2960" y="594360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son, N5QGH, my help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2960" y="594360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5L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4:19:09Z</dcterms:created>
  <dc:creator>Lilburn Smith</dc:creator>
  <dc:description/>
  <dc:language>en-US</dc:language>
  <cp:lastModifiedBy>Joseph Jurecka</cp:lastModifiedBy>
  <cp:lastPrinted>2001-05-19T03:44:42Z</cp:lastPrinted>
  <dcterms:modified xsi:type="dcterms:W3CDTF">2004-04-01T14:52:15Z</dcterms:modified>
  <cp:revision>86</cp:revision>
  <dc:subject/>
  <dc:title>A Practical Laser Receiver for the ARRL 10GHz and Up Contest </dc:title>
</cp:coreProperties>
</file>