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efefe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162200" y="533520"/>
            <a:ext cx="10922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T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400800" y="685800"/>
            <a:ext cx="722160" cy="97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A 10/24GHz expedition to “East West Texas”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4419360"/>
            <a:ext cx="748512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ave Robinson WW2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03: Resul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GHz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Worked W5LUA 59 SSB EM13PC 125k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Worked AA5C 579 C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Heard NT5NT/B 549 EM12PX 126k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GHz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Worked W5LUA 57 SSB EM13PC 125k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signals either way with AA5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52480" y="411480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442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M03XD</a:t>
            </a:r>
            <a:r>
              <a:rPr b="1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EM13PC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610840" cy="37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02XS: Mineral Wells Airpor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01960" y="1905120"/>
            <a:ext cx="483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M02XS Roadsid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7920" y="17334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02XS: Mineral Wells Airpor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495680" y="419112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066680" y="419112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066680" y="1752480"/>
            <a:ext cx="3168720" cy="2376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48720" y="2438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4800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4872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02XS: Towards W5LUA/AA5C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quipment moun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3657600" cy="4876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02: Resul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GHz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Worked W5LUA 57 SSB EM13PC 130k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iled to work AA5C but heard him 559 C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Heard NT5NT/B 519 EM12PX 127k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GHz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Worked W5LUA 559 CW EM13PC 130k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52480" y="411480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9442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02XS </a:t>
            </a:r>
            <a:r>
              <a:rPr b="1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EM13PC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2157480"/>
            <a:ext cx="830556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ssons Learnt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1905120"/>
            <a:ext cx="70106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take a yagi for talkback. Just because others have made it on a loop does not mean you will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sure when you take the FT817 apart you plug the speaker back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have a kW generator don’t forget you can use amplifiers on talk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a frequency reference/marker oscill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057400"/>
            <a:ext cx="68580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G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: IC402 (435MHz) Demi xverter. Qualcom PA (1W) G3WDG preamp (0.9dB). 18” FSJ1 co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GH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:IC402 (435MHz) Homemade DB6NT mixer. DB6NT preamp (2dB) Packratts PA (2.1W). 16” flexible WR-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0G Transvert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6440" y="1905120"/>
            <a:ext cx="748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4G Transvert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295360"/>
            <a:ext cx="77724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5ZN Dualband 10/24G feed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44800" y="2116080"/>
            <a:ext cx="4605120" cy="3376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57913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Dualband feed means if signal is peaked on 10G it will also be peaked on 24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sh/Moun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M03XD Jacksboro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229000" cy="47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03XD: roadsid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03XD towards W5LUA/AA5C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5:00:58Z</dcterms:created>
  <dc:creator>David Robinson</dc:creator>
  <dc:description/>
  <dc:language>en-US</dc:language>
  <cp:lastModifiedBy>Joseph Jurecka</cp:lastModifiedBy>
  <dcterms:modified xsi:type="dcterms:W3CDTF">2004-02-06T22:38:30Z</dcterms:modified>
  <cp:revision>37</cp:revision>
  <dc:subject/>
  <dc:title>Slide 1</dc:title>
</cp:coreProperties>
</file>