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B10B-844B-4DAF-B23D-F284C7EBF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9AA4-0263-450A-A8B7-CC2D59DCE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1718-13AA-4F6C-9365-077FD72A9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7336-DCA2-4FA9-A12D-A5D1DCA3D0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072E-35A1-42BA-B154-02A428312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9524-6D7A-4B3C-80E0-E93BCF983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906C-C9BB-4604-B498-88C39771B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D341-B301-40E7-AD2A-94502F853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B76B-065C-41A1-BFC4-6530F39BE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A574-6008-4C78-83D2-39B62303C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B8EE-3D9B-4165-9840-7A63243A5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3315-5666-4316-A38E-7982721D8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10800000">
            <a:off x="379800" y="0"/>
            <a:ext cx="221004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-49320" y="1440"/>
          <a:ext cx="91933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9320" y="1440"/>
                    <a:ext cx="9193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-46080" y="5867280"/>
            <a:ext cx="9191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74880" y="37800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5H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896240" y="243000"/>
            <a:ext cx="1291680" cy="1110600"/>
            <a:chOff x="7896240" y="243000"/>
            <a:chExt cx="1291680" cy="1110600"/>
          </a:xfrm>
        </p:grpSpPr>
        <p:sp>
          <p:nvSpPr>
            <p:cNvPr id="6" name=""/>
            <p:cNvSpPr/>
            <p:nvPr/>
          </p:nvSpPr>
          <p:spPr>
            <a:xfrm>
              <a:off x="8459280" y="243000"/>
              <a:ext cx="46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58560" y="441360"/>
              <a:ext cx="49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58560" y="928800"/>
              <a:ext cx="72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wa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1122480"/>
              <a:ext cx="55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0000" y="6429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T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" name=""/>
            <p:cNvGraphicFramePr/>
            <p:nvPr/>
          </p:nvGraphicFramePr>
          <p:xfrm>
            <a:off x="7896240" y="276120"/>
            <a:ext cx="6382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96240" y="276120"/>
                      <a:ext cx="6382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FF91-606F-4C03-844B-9DB5C24C52FC}" type="slidenum">
              <a:rPr b="1" i="1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-87120" y="-360"/>
            <a:ext cx="9273960" cy="6858360"/>
            <a:chOff x="-87120" y="-360"/>
            <a:chExt cx="9273960" cy="6858360"/>
          </a:xfrm>
        </p:grpSpPr>
        <p:sp>
          <p:nvSpPr>
            <p:cNvPr id="54" name=""/>
            <p:cNvSpPr/>
            <p:nvPr/>
          </p:nvSpPr>
          <p:spPr>
            <a:xfrm flipH="1" rot="10800000">
              <a:off x="367560" y="0"/>
              <a:ext cx="221292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-61560" y="1440"/>
            <a:ext cx="9205560" cy="685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61560" y="1440"/>
                      <a:ext cx="920556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-8712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7894440" y="243000"/>
              <a:ext cx="1292400" cy="1110600"/>
              <a:chOff x="7894440" y="243000"/>
              <a:chExt cx="1292400" cy="1110600"/>
            </a:xfrm>
          </p:grpSpPr>
          <p:sp>
            <p:nvSpPr>
              <p:cNvPr id="59" name=""/>
              <p:cNvSpPr/>
              <p:nvPr/>
            </p:nvSpPr>
            <p:spPr>
              <a:xfrm>
                <a:off x="845820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45712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45748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45676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5892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4" name=""/>
              <p:cNvGraphicFramePr/>
              <p:nvPr/>
            </p:nvGraphicFramePr>
            <p:xfrm>
              <a:off x="7894440" y="276120"/>
              <a:ext cx="638640" cy="1067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4440" y="276120"/>
                        <a:ext cx="63864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 to Microwave Propagation for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Joe Jurecka – N5PYK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orth Texas Microwave Societ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13E4-5F96-46EF-96CF-5C97393E82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1600" y="2874960"/>
            <a:ext cx="3352680" cy="1935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724280" y="2976480"/>
            <a:ext cx="3124440" cy="1803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728120" y="2446200"/>
            <a:ext cx="1244520" cy="2811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33200" y="2494080"/>
            <a:ext cx="1241640" cy="2763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33440" y="2341440"/>
            <a:ext cx="6477120" cy="914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4773600"/>
            <a:ext cx="8305560" cy="463680"/>
            <a:chOff x="457200" y="4773600"/>
            <a:chExt cx="8305560" cy="463680"/>
          </a:xfrm>
        </p:grpSpPr>
        <p:sp>
          <p:nvSpPr>
            <p:cNvPr id="209" name=""/>
            <p:cNvSpPr/>
            <p:nvPr/>
          </p:nvSpPr>
          <p:spPr>
            <a:xfrm>
              <a:off x="693720" y="4773600"/>
              <a:ext cx="7837560" cy="447840"/>
            </a:xfrm>
            <a:custGeom>
              <a:avLst/>
              <a:gdLst/>
              <a:ahLst/>
              <a:rect l="l" t="t" r="r" b="b"/>
              <a:pathLst>
                <a:path w="1721" h="384">
                  <a:moveTo>
                    <a:pt x="0" y="383"/>
                  </a:moveTo>
                  <a:lnTo>
                    <a:pt x="12" y="371"/>
                  </a:lnTo>
                  <a:lnTo>
                    <a:pt x="24" y="365"/>
                  </a:lnTo>
                  <a:lnTo>
                    <a:pt x="36" y="353"/>
                  </a:lnTo>
                  <a:lnTo>
                    <a:pt x="48" y="341"/>
                  </a:lnTo>
                  <a:lnTo>
                    <a:pt x="60" y="335"/>
                  </a:lnTo>
                  <a:lnTo>
                    <a:pt x="72" y="323"/>
                  </a:lnTo>
                  <a:lnTo>
                    <a:pt x="84" y="317"/>
                  </a:lnTo>
                  <a:lnTo>
                    <a:pt x="96" y="299"/>
                  </a:lnTo>
                  <a:lnTo>
                    <a:pt x="108" y="293"/>
                  </a:lnTo>
                  <a:lnTo>
                    <a:pt x="120" y="281"/>
                  </a:lnTo>
                  <a:lnTo>
                    <a:pt x="132" y="269"/>
                  </a:lnTo>
                  <a:lnTo>
                    <a:pt x="144" y="263"/>
                  </a:lnTo>
                  <a:lnTo>
                    <a:pt x="156" y="245"/>
                  </a:lnTo>
                  <a:lnTo>
                    <a:pt x="168" y="245"/>
                  </a:lnTo>
                  <a:lnTo>
                    <a:pt x="180" y="239"/>
                  </a:lnTo>
                  <a:lnTo>
                    <a:pt x="192" y="233"/>
                  </a:lnTo>
                  <a:lnTo>
                    <a:pt x="204" y="227"/>
                  </a:lnTo>
                  <a:lnTo>
                    <a:pt x="216" y="221"/>
                  </a:lnTo>
                  <a:lnTo>
                    <a:pt x="228" y="215"/>
                  </a:lnTo>
                  <a:lnTo>
                    <a:pt x="240" y="209"/>
                  </a:lnTo>
                  <a:lnTo>
                    <a:pt x="252" y="197"/>
                  </a:lnTo>
                  <a:lnTo>
                    <a:pt x="264" y="192"/>
                  </a:lnTo>
                  <a:lnTo>
                    <a:pt x="276" y="180"/>
                  </a:lnTo>
                  <a:lnTo>
                    <a:pt x="288" y="168"/>
                  </a:lnTo>
                  <a:lnTo>
                    <a:pt x="300" y="156"/>
                  </a:lnTo>
                  <a:lnTo>
                    <a:pt x="312" y="156"/>
                  </a:lnTo>
                  <a:lnTo>
                    <a:pt x="324" y="144"/>
                  </a:lnTo>
                  <a:lnTo>
                    <a:pt x="336" y="138"/>
                  </a:lnTo>
                  <a:lnTo>
                    <a:pt x="348" y="132"/>
                  </a:lnTo>
                  <a:lnTo>
                    <a:pt x="360" y="126"/>
                  </a:lnTo>
                  <a:lnTo>
                    <a:pt x="372" y="120"/>
                  </a:lnTo>
                  <a:lnTo>
                    <a:pt x="384" y="120"/>
                  </a:lnTo>
                  <a:lnTo>
                    <a:pt x="396" y="114"/>
                  </a:lnTo>
                  <a:lnTo>
                    <a:pt x="408" y="108"/>
                  </a:lnTo>
                  <a:lnTo>
                    <a:pt x="420" y="108"/>
                  </a:lnTo>
                  <a:lnTo>
                    <a:pt x="444" y="102"/>
                  </a:lnTo>
                  <a:lnTo>
                    <a:pt x="456" y="102"/>
                  </a:lnTo>
                  <a:lnTo>
                    <a:pt x="468" y="90"/>
                  </a:lnTo>
                  <a:lnTo>
                    <a:pt x="480" y="90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48" y="72"/>
                  </a:lnTo>
                  <a:lnTo>
                    <a:pt x="560" y="66"/>
                  </a:lnTo>
                  <a:lnTo>
                    <a:pt x="572" y="66"/>
                  </a:lnTo>
                  <a:lnTo>
                    <a:pt x="584" y="54"/>
                  </a:lnTo>
                  <a:lnTo>
                    <a:pt x="596" y="48"/>
                  </a:lnTo>
                  <a:lnTo>
                    <a:pt x="616" y="36"/>
                  </a:lnTo>
                  <a:lnTo>
                    <a:pt x="640" y="30"/>
                  </a:lnTo>
                  <a:lnTo>
                    <a:pt x="652" y="24"/>
                  </a:lnTo>
                  <a:lnTo>
                    <a:pt x="664" y="24"/>
                  </a:lnTo>
                  <a:lnTo>
                    <a:pt x="676" y="18"/>
                  </a:lnTo>
                  <a:lnTo>
                    <a:pt x="688" y="18"/>
                  </a:lnTo>
                  <a:lnTo>
                    <a:pt x="700" y="18"/>
                  </a:lnTo>
                  <a:lnTo>
                    <a:pt x="712" y="18"/>
                  </a:lnTo>
                  <a:lnTo>
                    <a:pt x="724" y="24"/>
                  </a:lnTo>
                  <a:lnTo>
                    <a:pt x="736" y="24"/>
                  </a:lnTo>
                  <a:lnTo>
                    <a:pt x="752" y="30"/>
                  </a:lnTo>
                  <a:lnTo>
                    <a:pt x="764" y="24"/>
                  </a:lnTo>
                  <a:lnTo>
                    <a:pt x="776" y="18"/>
                  </a:lnTo>
                  <a:lnTo>
                    <a:pt x="788" y="12"/>
                  </a:lnTo>
                  <a:lnTo>
                    <a:pt x="804" y="12"/>
                  </a:lnTo>
                  <a:lnTo>
                    <a:pt x="816" y="6"/>
                  </a:lnTo>
                  <a:lnTo>
                    <a:pt x="828" y="6"/>
                  </a:lnTo>
                  <a:lnTo>
                    <a:pt x="840" y="6"/>
                  </a:lnTo>
                  <a:lnTo>
                    <a:pt x="852" y="6"/>
                  </a:lnTo>
                  <a:lnTo>
                    <a:pt x="864" y="6"/>
                  </a:lnTo>
                  <a:lnTo>
                    <a:pt x="876" y="0"/>
                  </a:lnTo>
                  <a:lnTo>
                    <a:pt x="888" y="0"/>
                  </a:lnTo>
                  <a:lnTo>
                    <a:pt x="900" y="0"/>
                  </a:lnTo>
                  <a:lnTo>
                    <a:pt x="912" y="0"/>
                  </a:lnTo>
                  <a:lnTo>
                    <a:pt x="924" y="0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2" y="6"/>
                  </a:lnTo>
                  <a:lnTo>
                    <a:pt x="984" y="6"/>
                  </a:lnTo>
                  <a:lnTo>
                    <a:pt x="996" y="12"/>
                  </a:lnTo>
                  <a:lnTo>
                    <a:pt x="1008" y="18"/>
                  </a:lnTo>
                  <a:lnTo>
                    <a:pt x="1020" y="24"/>
                  </a:lnTo>
                  <a:lnTo>
                    <a:pt x="1032" y="24"/>
                  </a:lnTo>
                  <a:lnTo>
                    <a:pt x="1044" y="24"/>
                  </a:lnTo>
                  <a:lnTo>
                    <a:pt x="1056" y="30"/>
                  </a:lnTo>
                  <a:lnTo>
                    <a:pt x="1068" y="36"/>
                  </a:lnTo>
                  <a:lnTo>
                    <a:pt x="1080" y="42"/>
                  </a:lnTo>
                  <a:lnTo>
                    <a:pt x="1092" y="42"/>
                  </a:lnTo>
                  <a:lnTo>
                    <a:pt x="1104" y="42"/>
                  </a:lnTo>
                  <a:lnTo>
                    <a:pt x="1116" y="42"/>
                  </a:lnTo>
                  <a:lnTo>
                    <a:pt x="1128" y="42"/>
                  </a:lnTo>
                  <a:lnTo>
                    <a:pt x="1140" y="42"/>
                  </a:lnTo>
                  <a:lnTo>
                    <a:pt x="1152" y="42"/>
                  </a:lnTo>
                  <a:lnTo>
                    <a:pt x="1164" y="42"/>
                  </a:lnTo>
                  <a:lnTo>
                    <a:pt x="1176" y="42"/>
                  </a:lnTo>
                  <a:lnTo>
                    <a:pt x="1188" y="54"/>
                  </a:lnTo>
                  <a:lnTo>
                    <a:pt x="1200" y="60"/>
                  </a:lnTo>
                  <a:lnTo>
                    <a:pt x="1212" y="60"/>
                  </a:lnTo>
                  <a:lnTo>
                    <a:pt x="1224" y="66"/>
                  </a:lnTo>
                  <a:lnTo>
                    <a:pt x="1236" y="72"/>
                  </a:lnTo>
                  <a:lnTo>
                    <a:pt x="1248" y="78"/>
                  </a:lnTo>
                  <a:lnTo>
                    <a:pt x="1260" y="78"/>
                  </a:lnTo>
                  <a:lnTo>
                    <a:pt x="1272" y="84"/>
                  </a:lnTo>
                  <a:lnTo>
                    <a:pt x="1284" y="90"/>
                  </a:lnTo>
                  <a:lnTo>
                    <a:pt x="1296" y="96"/>
                  </a:lnTo>
                  <a:lnTo>
                    <a:pt x="1308" y="96"/>
                  </a:lnTo>
                  <a:lnTo>
                    <a:pt x="1320" y="102"/>
                  </a:lnTo>
                  <a:lnTo>
                    <a:pt x="1332" y="108"/>
                  </a:lnTo>
                  <a:lnTo>
                    <a:pt x="1344" y="114"/>
                  </a:lnTo>
                  <a:lnTo>
                    <a:pt x="1356" y="120"/>
                  </a:lnTo>
                  <a:lnTo>
                    <a:pt x="1368" y="120"/>
                  </a:lnTo>
                  <a:lnTo>
                    <a:pt x="1380" y="132"/>
                  </a:lnTo>
                  <a:lnTo>
                    <a:pt x="1392" y="132"/>
                  </a:lnTo>
                  <a:lnTo>
                    <a:pt x="1404" y="144"/>
                  </a:lnTo>
                  <a:lnTo>
                    <a:pt x="1416" y="150"/>
                  </a:lnTo>
                  <a:lnTo>
                    <a:pt x="1428" y="156"/>
                  </a:lnTo>
                  <a:lnTo>
                    <a:pt x="1440" y="162"/>
                  </a:lnTo>
                  <a:lnTo>
                    <a:pt x="1452" y="174"/>
                  </a:lnTo>
                  <a:lnTo>
                    <a:pt x="1464" y="186"/>
                  </a:lnTo>
                  <a:lnTo>
                    <a:pt x="1476" y="186"/>
                  </a:lnTo>
                  <a:lnTo>
                    <a:pt x="1488" y="203"/>
                  </a:lnTo>
                  <a:lnTo>
                    <a:pt x="1500" y="203"/>
                  </a:lnTo>
                  <a:lnTo>
                    <a:pt x="1512" y="215"/>
                  </a:lnTo>
                  <a:lnTo>
                    <a:pt x="1524" y="221"/>
                  </a:lnTo>
                  <a:lnTo>
                    <a:pt x="1536" y="221"/>
                  </a:lnTo>
                  <a:lnTo>
                    <a:pt x="1548" y="233"/>
                  </a:lnTo>
                  <a:lnTo>
                    <a:pt x="1560" y="239"/>
                  </a:lnTo>
                  <a:lnTo>
                    <a:pt x="1572" y="245"/>
                  </a:lnTo>
                  <a:lnTo>
                    <a:pt x="1584" y="257"/>
                  </a:lnTo>
                  <a:lnTo>
                    <a:pt x="1596" y="257"/>
                  </a:lnTo>
                  <a:lnTo>
                    <a:pt x="1608" y="275"/>
                  </a:lnTo>
                  <a:lnTo>
                    <a:pt x="1620" y="281"/>
                  </a:lnTo>
                  <a:lnTo>
                    <a:pt x="1632" y="293"/>
                  </a:lnTo>
                  <a:lnTo>
                    <a:pt x="1644" y="305"/>
                  </a:lnTo>
                  <a:lnTo>
                    <a:pt x="1656" y="311"/>
                  </a:lnTo>
                  <a:lnTo>
                    <a:pt x="1664" y="329"/>
                  </a:lnTo>
                  <a:lnTo>
                    <a:pt x="1676" y="335"/>
                  </a:lnTo>
                  <a:lnTo>
                    <a:pt x="1688" y="347"/>
                  </a:lnTo>
                  <a:lnTo>
                    <a:pt x="1700" y="359"/>
                  </a:lnTo>
                  <a:lnTo>
                    <a:pt x="1708" y="377"/>
                  </a:lnTo>
                  <a:lnTo>
                    <a:pt x="1720" y="383"/>
                  </a:lnTo>
                </a:path>
              </a:pathLst>
            </a:custGeom>
            <a:solidFill>
              <a:srgbClr val="bbe0e3"/>
            </a:solidFill>
            <a:ln cap="rnd"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" y="5237280"/>
              <a:ext cx="830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219320" y="2570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snel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3255840"/>
            <a:ext cx="533520" cy="1524240"/>
          </a:xfrm>
          <a:prstGeom prst="upArrow">
            <a:avLst>
              <a:gd name="adj1" fmla="val 50000"/>
              <a:gd name="adj2" fmla="val 7142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36050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snel Zon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06224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causing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304920"/>
            <a:ext cx="60195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 Reflections / Refractions / Multi-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94AA-1FE1-4553-A078-3814029EFF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880" y="1374840"/>
            <a:ext cx="8534520" cy="5483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02920" y="784080"/>
            <a:ext cx="4519800" cy="549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h 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6CD3-7D7E-4AF7-AD5E-744C9D5084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aused by diffraction by objects in path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ven zones attenuate, odd enhanc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resnel zone radius calcula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ventional practice is to ensure about a 0.6 Fresnel zone clearance along path which provides best compromise to avoid deep nulls.  Don’t put antenna up too high!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snel Z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63640" y="3581280"/>
                <a:ext cx="1701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ee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  <m:r>
                              <m:t xml:space="preserve">d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z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806920" y="3389400"/>
            <a:ext cx="36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=distance to transmitter in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2=distance to receiver in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Frequency in Gigaher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184F-BC6D-4D59-B964-6FA9F8B7B7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629400" y="1752480"/>
            <a:ext cx="2133720" cy="2819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snel 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6095880" cy="4484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17400" y="571500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Vertical line indicates 0.6 Fresnel zone clearance at highest obstacl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s or buildings not modeled in this path, but must be inclu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89880" y="1789200"/>
            <a:ext cx="19969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, 1.5, and 1.75 Fresnel zones depicted on Radiomobile tool.  No surface features are automatically assumed in Radiomobile, but they can be modeled.  See the Yahoo Group entitled Radio_Mobile_Deluxe and check out fil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ile.z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 too high for reliable microwave pa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629400" y="4675320"/>
          <a:ext cx="2305080" cy="1039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4675320"/>
                    <a:ext cx="230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2D1D-0912-442E-BB21-15B5164CDC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n 3 mile paths or less, only FSL need be considere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ecommended that minimum 5dB margin be applied for miscellaneous other loss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tmospheric and moisture attenuation becomes highly evident above 10 GHz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Heavy rain can cause some signal distortion as low as 2 GHz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FE75-590A-4014-87AB-2D13C00BDD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42840" y="0"/>
            <a:ext cx="9186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-49320" y="609480"/>
          <a:ext cx="919332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9320" y="609480"/>
                    <a:ext cx="919332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286000" y="1828800"/>
          <a:ext cx="12603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828800"/>
                    <a:ext cx="1260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in Fade Risks By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76920" y="5867280"/>
            <a:ext cx="198108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 1 = Wo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 7 = B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D250-74E2-4766-9FF0-277BECA0330F}" type="slidenum">
              <a:t>15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h avail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rnett’s emprical fade estima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nded to estimate % of time in a year where fade exceeds a specified depth below free space for a given path and frequen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mf(%)=0.00006 x abf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x 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(-M/10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14400" y="4111560"/>
          <a:ext cx="3575160" cy="17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111560"/>
                    <a:ext cx="357516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4806000" y="3962520"/>
            <a:ext cx="322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North Te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0.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=2.43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4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de margin= 2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31% unavailability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27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07160" y="6400800"/>
            <a:ext cx="15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Freeman pp 64-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F67B-A52F-4797-8C5D-317EFF60D8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ink budgets are a tool to plan RF links.  They are not guarantees of succ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3320" y="4836960"/>
            <a:ext cx="41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(dBm) = 10 * LOG (PWR in 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(mW) =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PWR in dBm/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2666880"/>
          <a:ext cx="8310600" cy="19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3106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6DBF-20A2-4072-B770-842914C0C6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 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reeware by Roger Coude, VE2DB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ly useful for tool RF coverage and path analysi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quick analysis of Fresnel clearanc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s elevation data from shuttle radar topography miss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3886200" cy="278424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800600" y="3276720"/>
            <a:ext cx="3809880" cy="2803320"/>
            <a:chOff x="4800600" y="3276720"/>
            <a:chExt cx="3809880" cy="280332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4800600" y="3276720"/>
              <a:ext cx="380988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4800600" y="3276720"/>
              <a:ext cx="3809880" cy="28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66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747160" y="617220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plus.org/rmw/english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8580-ACD2-4FCD-A9C3-820E1C9069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quency Con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number of channels available is fini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 2.4 and 5.7 GHz, we must compete with part 15 devices.  Even though we have “rights” to the frequencies, it will be difficult to clear the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s amateurs, we must consider using 802.11 on other bands (33cm, 23cm, 13cm, 6cm, 3cm, and up)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e must also remember to respect band plans and not interfere with weak signal operation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re is plenty bandwidth for all…at least for now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2D1E-9127-460F-90B7-FECB9C7EA2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egories of microwave pa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ose who love propagation anomalies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(Weak signal enthusiast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ose who don’t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(data link operator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4105-1A76-4526-9164-05937BA5F5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-609480" y="990720"/>
            <a:ext cx="10134360" cy="6095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28600" y="1600200"/>
            <a:ext cx="883908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CC Part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"……. operators of spread spectrum transmitters are reminded that the operation of Part 15 devices is subject to the conditions that any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received interference, including interference from ISM operations, must be accepted and that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armful interference may not be caused to other radio services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ould the operation of these systems cause harmful interference, the operator of the Part 15 system is required to correct the interference problem,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even if such correction requires the cessation of operation of the Part 15 transmitte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us, the Commission strongly recommends that utilities, cellular stations, public safety services, government agencies and others that employ Part 15 transmission systems to provide critical communication services should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exercise due caution to determine if there are any nearby  radio services that could be affected by their communicatio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02920" y="431640"/>
            <a:ext cx="4519800" cy="549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license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D87D-CD0E-4974-8949-FA54ACAF7D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Freeman, Roger L. Radio System Design for Telecommunications (1-100 GHz), John Wiley and Sons, Inc. 1987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5AD5-D6D8-4DD7-B586-C3ACE412F9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 Le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r simplicity, links use dB and dBm to model performanc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 relative change is measured in d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B=10 LOG (Relative intensity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pecific levels measured in dB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(dB referenced to a milliwatt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657600"/>
            <a:ext cx="2209680" cy="297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th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0 dBm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0dBm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Bm=1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dBm=10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dBm=100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dBm=1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dBm=10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0180-DA68-493C-9331-955FAB958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 Space Path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oss (dB)=36.6+20LOG(Freq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Arial"/>
              </a:rPr>
              <a:t>Mhz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)+20LOG(Dist 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Arial"/>
              </a:rPr>
              <a:t>Miles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eat for calculating if there is nothing in the way (including air) but a worthwhile place to star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029200"/>
            <a:ext cx="3049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5029200"/>
            <a:ext cx="3049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62485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8000" y="55627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les at 2.4GHz = 130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2163-CCB7-451F-BB43-03DA4BE5AC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16200000">
            <a:off x="3733920" y="-1066320"/>
            <a:ext cx="2133360" cy="76197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agation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ormal Propaga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omalous Propaga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09480" y="2209680"/>
            <a:ext cx="304560" cy="1143000"/>
            <a:chOff x="609480" y="2209680"/>
            <a:chExt cx="304560" cy="1143000"/>
          </a:xfrm>
        </p:grpSpPr>
        <p:sp>
          <p:nvSpPr>
            <p:cNvPr id="83" name=""/>
            <p:cNvSpPr/>
            <p:nvPr/>
          </p:nvSpPr>
          <p:spPr>
            <a:xfrm>
              <a:off x="609480" y="2209680"/>
              <a:ext cx="228600" cy="114300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144" y="0"/>
                  </a:moveTo>
                  <a:cubicBezTo>
                    <a:pt x="72" y="108"/>
                    <a:pt x="0" y="216"/>
                    <a:pt x="0" y="336"/>
                  </a:cubicBezTo>
                  <a:cubicBezTo>
                    <a:pt x="0" y="456"/>
                    <a:pt x="120" y="672"/>
                    <a:pt x="144" y="7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274320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8077320" y="2209680"/>
            <a:ext cx="304560" cy="1143000"/>
            <a:chOff x="8077320" y="2209680"/>
            <a:chExt cx="304560" cy="1143000"/>
          </a:xfrm>
        </p:grpSpPr>
        <p:sp>
          <p:nvSpPr>
            <p:cNvPr id="86" name=""/>
            <p:cNvSpPr/>
            <p:nvPr/>
          </p:nvSpPr>
          <p:spPr>
            <a:xfrm flipH="1">
              <a:off x="8152920" y="2209680"/>
              <a:ext cx="228600" cy="114300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144" y="0"/>
                  </a:moveTo>
                  <a:cubicBezTo>
                    <a:pt x="72" y="108"/>
                    <a:pt x="0" y="216"/>
                    <a:pt x="0" y="336"/>
                  </a:cubicBezTo>
                  <a:cubicBezTo>
                    <a:pt x="0" y="456"/>
                    <a:pt x="120" y="672"/>
                    <a:pt x="144" y="7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077320" y="274320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14300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3733560" y="1142640"/>
            <a:ext cx="2133720" cy="76197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09480" y="4419720"/>
            <a:ext cx="304560" cy="1143000"/>
            <a:chOff x="609480" y="4419720"/>
            <a:chExt cx="304560" cy="1143000"/>
          </a:xfrm>
        </p:grpSpPr>
        <p:sp>
          <p:nvSpPr>
            <p:cNvPr id="93" name=""/>
            <p:cNvSpPr/>
            <p:nvPr/>
          </p:nvSpPr>
          <p:spPr>
            <a:xfrm>
              <a:off x="609480" y="4419720"/>
              <a:ext cx="228600" cy="114300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144" y="0"/>
                  </a:moveTo>
                  <a:cubicBezTo>
                    <a:pt x="72" y="108"/>
                    <a:pt x="0" y="216"/>
                    <a:pt x="0" y="336"/>
                  </a:cubicBezTo>
                  <a:cubicBezTo>
                    <a:pt x="0" y="456"/>
                    <a:pt x="120" y="672"/>
                    <a:pt x="144" y="7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480" y="495324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077320" y="4419720"/>
            <a:ext cx="304560" cy="1143000"/>
            <a:chOff x="8077320" y="4419720"/>
            <a:chExt cx="304560" cy="1143000"/>
          </a:xfrm>
        </p:grpSpPr>
        <p:sp>
          <p:nvSpPr>
            <p:cNvPr id="96" name=""/>
            <p:cNvSpPr/>
            <p:nvPr/>
          </p:nvSpPr>
          <p:spPr>
            <a:xfrm flipH="1">
              <a:off x="8152920" y="4419720"/>
              <a:ext cx="228600" cy="114300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144" y="0"/>
                  </a:moveTo>
                  <a:cubicBezTo>
                    <a:pt x="72" y="108"/>
                    <a:pt x="0" y="216"/>
                    <a:pt x="0" y="336"/>
                  </a:cubicBezTo>
                  <a:cubicBezTo>
                    <a:pt x="0" y="456"/>
                    <a:pt x="120" y="672"/>
                    <a:pt x="144" y="7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77320" y="495324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flipV="1">
            <a:off x="99072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514600" y="47242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7242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480060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E163-8FCC-4F15-95EC-6F5ADF785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ospheric Multip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ultipath causes fadin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733560" y="-457200"/>
            <a:ext cx="2133720" cy="76197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9480" y="2819520"/>
            <a:ext cx="304560" cy="1143000"/>
            <a:chOff x="609480" y="2819520"/>
            <a:chExt cx="304560" cy="1143000"/>
          </a:xfrm>
        </p:grpSpPr>
        <p:sp>
          <p:nvSpPr>
            <p:cNvPr id="107" name=""/>
            <p:cNvSpPr/>
            <p:nvPr/>
          </p:nvSpPr>
          <p:spPr>
            <a:xfrm>
              <a:off x="609480" y="2819520"/>
              <a:ext cx="228600" cy="114300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144" y="0"/>
                  </a:moveTo>
                  <a:cubicBezTo>
                    <a:pt x="72" y="108"/>
                    <a:pt x="0" y="216"/>
                    <a:pt x="0" y="336"/>
                  </a:cubicBezTo>
                  <a:cubicBezTo>
                    <a:pt x="0" y="456"/>
                    <a:pt x="120" y="672"/>
                    <a:pt x="144" y="7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335304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077320" y="2819520"/>
            <a:ext cx="304560" cy="1143000"/>
            <a:chOff x="8077320" y="2819520"/>
            <a:chExt cx="304560" cy="1143000"/>
          </a:xfrm>
        </p:grpSpPr>
        <p:sp>
          <p:nvSpPr>
            <p:cNvPr id="110" name=""/>
            <p:cNvSpPr/>
            <p:nvPr/>
          </p:nvSpPr>
          <p:spPr>
            <a:xfrm flipH="1">
              <a:off x="8152920" y="2819520"/>
              <a:ext cx="228600" cy="114300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144" y="0"/>
                  </a:moveTo>
                  <a:cubicBezTo>
                    <a:pt x="72" y="108"/>
                    <a:pt x="0" y="216"/>
                    <a:pt x="0" y="336"/>
                  </a:cubicBezTo>
                  <a:cubicBezTo>
                    <a:pt x="0" y="456"/>
                    <a:pt x="120" y="672"/>
                    <a:pt x="144" y="7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077320" y="335304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990720" y="32763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14600" y="31240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1240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20040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3352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67080" y="327636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3276720"/>
            <a:ext cx="2514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7480" y="4075200"/>
            <a:ext cx="70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mbination of all incoming signals are in pha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ment occurs..if out of phase (e.g. near –180 degrees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uation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rter the wavelength, the more pronounced this may be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882B-6AB8-4D73-9A16-B19CF2D8E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4495680"/>
            <a:ext cx="79246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251400">
            <a:off x="533520" y="4753080"/>
            <a:ext cx="5181480" cy="428400"/>
          </a:xfrm>
          <a:prstGeom prst="parallelogram">
            <a:avLst>
              <a:gd name="adj" fmla="val 302374"/>
            </a:avLst>
          </a:prstGeom>
          <a:gradFill rotWithShape="0">
            <a:gsLst>
              <a:gs pos="0">
                <a:srgbClr val="00c7cc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1120" y="2125800"/>
            <a:ext cx="4672080" cy="922320"/>
          </a:xfrm>
          <a:custGeom>
            <a:avLst/>
            <a:gdLst/>
            <a:ahLst/>
            <a:rect l="l" t="t" r="r" b="b"/>
            <a:pathLst>
              <a:path w="1721" h="377">
                <a:moveTo>
                  <a:pt x="0" y="376"/>
                </a:moveTo>
                <a:lnTo>
                  <a:pt x="12" y="364"/>
                </a:lnTo>
                <a:lnTo>
                  <a:pt x="24" y="358"/>
                </a:lnTo>
                <a:lnTo>
                  <a:pt x="36" y="347"/>
                </a:lnTo>
                <a:lnTo>
                  <a:pt x="48" y="335"/>
                </a:lnTo>
                <a:lnTo>
                  <a:pt x="60" y="329"/>
                </a:lnTo>
                <a:lnTo>
                  <a:pt x="72" y="317"/>
                </a:lnTo>
                <a:lnTo>
                  <a:pt x="84" y="311"/>
                </a:lnTo>
                <a:lnTo>
                  <a:pt x="96" y="294"/>
                </a:lnTo>
                <a:lnTo>
                  <a:pt x="108" y="288"/>
                </a:lnTo>
                <a:lnTo>
                  <a:pt x="120" y="276"/>
                </a:lnTo>
                <a:lnTo>
                  <a:pt x="132" y="264"/>
                </a:lnTo>
                <a:lnTo>
                  <a:pt x="144" y="259"/>
                </a:lnTo>
                <a:lnTo>
                  <a:pt x="156" y="241"/>
                </a:lnTo>
                <a:lnTo>
                  <a:pt x="168" y="241"/>
                </a:lnTo>
                <a:lnTo>
                  <a:pt x="180" y="235"/>
                </a:lnTo>
                <a:lnTo>
                  <a:pt x="192" y="229"/>
                </a:lnTo>
                <a:lnTo>
                  <a:pt x="204" y="223"/>
                </a:lnTo>
                <a:lnTo>
                  <a:pt x="216" y="217"/>
                </a:lnTo>
                <a:lnTo>
                  <a:pt x="228" y="212"/>
                </a:lnTo>
                <a:lnTo>
                  <a:pt x="240" y="206"/>
                </a:lnTo>
                <a:lnTo>
                  <a:pt x="252" y="194"/>
                </a:lnTo>
                <a:lnTo>
                  <a:pt x="264" y="188"/>
                </a:lnTo>
                <a:lnTo>
                  <a:pt x="276" y="176"/>
                </a:lnTo>
                <a:lnTo>
                  <a:pt x="288" y="165"/>
                </a:lnTo>
                <a:lnTo>
                  <a:pt x="300" y="153"/>
                </a:lnTo>
                <a:lnTo>
                  <a:pt x="312" y="153"/>
                </a:lnTo>
                <a:lnTo>
                  <a:pt x="324" y="141"/>
                </a:lnTo>
                <a:lnTo>
                  <a:pt x="336" y="135"/>
                </a:lnTo>
                <a:lnTo>
                  <a:pt x="348" y="129"/>
                </a:lnTo>
                <a:lnTo>
                  <a:pt x="360" y="123"/>
                </a:lnTo>
                <a:lnTo>
                  <a:pt x="372" y="118"/>
                </a:lnTo>
                <a:lnTo>
                  <a:pt x="384" y="118"/>
                </a:lnTo>
                <a:lnTo>
                  <a:pt x="396" y="112"/>
                </a:lnTo>
                <a:lnTo>
                  <a:pt x="408" y="106"/>
                </a:lnTo>
                <a:lnTo>
                  <a:pt x="420" y="106"/>
                </a:lnTo>
                <a:lnTo>
                  <a:pt x="444" y="100"/>
                </a:lnTo>
                <a:lnTo>
                  <a:pt x="456" y="100"/>
                </a:lnTo>
                <a:lnTo>
                  <a:pt x="468" y="88"/>
                </a:lnTo>
                <a:lnTo>
                  <a:pt x="480" y="88"/>
                </a:lnTo>
                <a:lnTo>
                  <a:pt x="492" y="82"/>
                </a:lnTo>
                <a:lnTo>
                  <a:pt x="504" y="82"/>
                </a:lnTo>
                <a:lnTo>
                  <a:pt x="516" y="76"/>
                </a:lnTo>
                <a:lnTo>
                  <a:pt x="548" y="71"/>
                </a:lnTo>
                <a:lnTo>
                  <a:pt x="560" y="65"/>
                </a:lnTo>
                <a:lnTo>
                  <a:pt x="572" y="65"/>
                </a:lnTo>
                <a:lnTo>
                  <a:pt x="584" y="53"/>
                </a:lnTo>
                <a:lnTo>
                  <a:pt x="596" y="47"/>
                </a:lnTo>
                <a:lnTo>
                  <a:pt x="616" y="35"/>
                </a:lnTo>
                <a:lnTo>
                  <a:pt x="640" y="29"/>
                </a:lnTo>
                <a:lnTo>
                  <a:pt x="652" y="24"/>
                </a:lnTo>
                <a:lnTo>
                  <a:pt x="664" y="24"/>
                </a:lnTo>
                <a:lnTo>
                  <a:pt x="676" y="18"/>
                </a:lnTo>
                <a:lnTo>
                  <a:pt x="688" y="18"/>
                </a:lnTo>
                <a:lnTo>
                  <a:pt x="700" y="18"/>
                </a:lnTo>
                <a:lnTo>
                  <a:pt x="712" y="18"/>
                </a:lnTo>
                <a:lnTo>
                  <a:pt x="724" y="24"/>
                </a:lnTo>
                <a:lnTo>
                  <a:pt x="736" y="24"/>
                </a:lnTo>
                <a:lnTo>
                  <a:pt x="752" y="29"/>
                </a:lnTo>
                <a:lnTo>
                  <a:pt x="764" y="24"/>
                </a:lnTo>
                <a:lnTo>
                  <a:pt x="776" y="18"/>
                </a:lnTo>
                <a:lnTo>
                  <a:pt x="788" y="12"/>
                </a:lnTo>
                <a:lnTo>
                  <a:pt x="804" y="12"/>
                </a:lnTo>
                <a:lnTo>
                  <a:pt x="816" y="6"/>
                </a:lnTo>
                <a:lnTo>
                  <a:pt x="828" y="6"/>
                </a:lnTo>
                <a:lnTo>
                  <a:pt x="840" y="6"/>
                </a:lnTo>
                <a:lnTo>
                  <a:pt x="852" y="6"/>
                </a:lnTo>
                <a:lnTo>
                  <a:pt x="864" y="6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8" y="0"/>
                </a:lnTo>
                <a:lnTo>
                  <a:pt x="960" y="0"/>
                </a:lnTo>
                <a:lnTo>
                  <a:pt x="972" y="6"/>
                </a:lnTo>
                <a:lnTo>
                  <a:pt x="984" y="6"/>
                </a:lnTo>
                <a:lnTo>
                  <a:pt x="996" y="12"/>
                </a:lnTo>
                <a:lnTo>
                  <a:pt x="1008" y="18"/>
                </a:lnTo>
                <a:lnTo>
                  <a:pt x="1020" y="24"/>
                </a:lnTo>
                <a:lnTo>
                  <a:pt x="1032" y="24"/>
                </a:lnTo>
                <a:lnTo>
                  <a:pt x="1044" y="24"/>
                </a:lnTo>
                <a:lnTo>
                  <a:pt x="1056" y="29"/>
                </a:lnTo>
                <a:lnTo>
                  <a:pt x="1068" y="35"/>
                </a:lnTo>
                <a:lnTo>
                  <a:pt x="1080" y="41"/>
                </a:lnTo>
                <a:lnTo>
                  <a:pt x="1092" y="41"/>
                </a:lnTo>
                <a:lnTo>
                  <a:pt x="1104" y="41"/>
                </a:lnTo>
                <a:lnTo>
                  <a:pt x="1116" y="41"/>
                </a:lnTo>
                <a:lnTo>
                  <a:pt x="1128" y="41"/>
                </a:lnTo>
                <a:lnTo>
                  <a:pt x="1140" y="41"/>
                </a:lnTo>
                <a:lnTo>
                  <a:pt x="1152" y="41"/>
                </a:lnTo>
                <a:lnTo>
                  <a:pt x="1164" y="41"/>
                </a:lnTo>
                <a:lnTo>
                  <a:pt x="1176" y="41"/>
                </a:lnTo>
                <a:lnTo>
                  <a:pt x="1188" y="53"/>
                </a:lnTo>
                <a:lnTo>
                  <a:pt x="1200" y="59"/>
                </a:lnTo>
                <a:lnTo>
                  <a:pt x="1212" y="59"/>
                </a:lnTo>
                <a:lnTo>
                  <a:pt x="1224" y="65"/>
                </a:lnTo>
                <a:lnTo>
                  <a:pt x="1236" y="71"/>
                </a:lnTo>
                <a:lnTo>
                  <a:pt x="1248" y="76"/>
                </a:lnTo>
                <a:lnTo>
                  <a:pt x="1260" y="76"/>
                </a:lnTo>
                <a:lnTo>
                  <a:pt x="1272" y="82"/>
                </a:lnTo>
                <a:lnTo>
                  <a:pt x="1284" y="88"/>
                </a:lnTo>
                <a:lnTo>
                  <a:pt x="1296" y="94"/>
                </a:lnTo>
                <a:lnTo>
                  <a:pt x="1308" y="94"/>
                </a:lnTo>
                <a:lnTo>
                  <a:pt x="1320" y="100"/>
                </a:lnTo>
                <a:lnTo>
                  <a:pt x="1332" y="106"/>
                </a:lnTo>
                <a:lnTo>
                  <a:pt x="1344" y="112"/>
                </a:lnTo>
                <a:lnTo>
                  <a:pt x="1356" y="118"/>
                </a:lnTo>
                <a:lnTo>
                  <a:pt x="1368" y="118"/>
                </a:lnTo>
                <a:lnTo>
                  <a:pt x="1380" y="129"/>
                </a:lnTo>
                <a:lnTo>
                  <a:pt x="1392" y="129"/>
                </a:lnTo>
                <a:lnTo>
                  <a:pt x="1404" y="141"/>
                </a:lnTo>
                <a:lnTo>
                  <a:pt x="1416" y="147"/>
                </a:lnTo>
                <a:lnTo>
                  <a:pt x="1428" y="153"/>
                </a:lnTo>
                <a:lnTo>
                  <a:pt x="1440" y="159"/>
                </a:lnTo>
                <a:lnTo>
                  <a:pt x="1452" y="170"/>
                </a:lnTo>
                <a:lnTo>
                  <a:pt x="1464" y="182"/>
                </a:lnTo>
                <a:lnTo>
                  <a:pt x="1476" y="182"/>
                </a:lnTo>
                <a:lnTo>
                  <a:pt x="1488" y="200"/>
                </a:lnTo>
                <a:lnTo>
                  <a:pt x="1500" y="200"/>
                </a:lnTo>
                <a:lnTo>
                  <a:pt x="1512" y="212"/>
                </a:lnTo>
                <a:lnTo>
                  <a:pt x="1524" y="217"/>
                </a:lnTo>
                <a:lnTo>
                  <a:pt x="1536" y="217"/>
                </a:lnTo>
                <a:lnTo>
                  <a:pt x="1548" y="229"/>
                </a:lnTo>
                <a:lnTo>
                  <a:pt x="1560" y="235"/>
                </a:lnTo>
                <a:lnTo>
                  <a:pt x="1572" y="241"/>
                </a:lnTo>
                <a:lnTo>
                  <a:pt x="1584" y="253"/>
                </a:lnTo>
                <a:lnTo>
                  <a:pt x="1596" y="253"/>
                </a:lnTo>
                <a:lnTo>
                  <a:pt x="1608" y="270"/>
                </a:lnTo>
                <a:lnTo>
                  <a:pt x="1620" y="276"/>
                </a:lnTo>
                <a:lnTo>
                  <a:pt x="1632" y="288"/>
                </a:lnTo>
                <a:lnTo>
                  <a:pt x="1644" y="300"/>
                </a:lnTo>
                <a:lnTo>
                  <a:pt x="1656" y="306"/>
                </a:lnTo>
                <a:lnTo>
                  <a:pt x="1664" y="323"/>
                </a:lnTo>
                <a:lnTo>
                  <a:pt x="1676" y="329"/>
                </a:lnTo>
                <a:lnTo>
                  <a:pt x="1688" y="341"/>
                </a:lnTo>
                <a:lnTo>
                  <a:pt x="1700" y="353"/>
                </a:lnTo>
                <a:lnTo>
                  <a:pt x="1708" y="370"/>
                </a:lnTo>
                <a:lnTo>
                  <a:pt x="1720" y="376"/>
                </a:lnTo>
              </a:path>
            </a:pathLst>
          </a:custGeom>
          <a:solidFill>
            <a:srgbClr val="bbe0e3"/>
          </a:solidFill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03372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20640" y="1676520"/>
            <a:ext cx="4724280" cy="1365840"/>
            <a:chOff x="620640" y="1676520"/>
            <a:chExt cx="4724280" cy="1365840"/>
          </a:xfrm>
        </p:grpSpPr>
        <p:grpSp>
          <p:nvGrpSpPr>
            <p:cNvPr id="127" name=""/>
            <p:cNvGrpSpPr/>
            <p:nvPr/>
          </p:nvGrpSpPr>
          <p:grpSpPr>
            <a:xfrm>
              <a:off x="5218200" y="1779480"/>
              <a:ext cx="126720" cy="1262520"/>
              <a:chOff x="5218200" y="1779480"/>
              <a:chExt cx="126720" cy="126252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5344920" y="1981800"/>
                <a:ext cx="0" cy="1060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9" name=""/>
              <p:cNvGraphicFramePr/>
              <p:nvPr/>
            </p:nvGraphicFramePr>
            <p:xfrm>
              <a:off x="5218200" y="1779480"/>
              <a:ext cx="83160" cy="664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8200" y="1779480"/>
                        <a:ext cx="83160" cy="66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31" name=""/>
            <p:cNvGrpSpPr/>
            <p:nvPr/>
          </p:nvGrpSpPr>
          <p:grpSpPr>
            <a:xfrm>
              <a:off x="620640" y="1676520"/>
              <a:ext cx="132840" cy="1365840"/>
              <a:chOff x="620640" y="1676520"/>
              <a:chExt cx="132840" cy="1365840"/>
            </a:xfrm>
          </p:grpSpPr>
          <p:graphicFrame>
            <p:nvGraphicFramePr>
              <p:cNvPr id="132" name=""/>
              <p:cNvGraphicFramePr/>
              <p:nvPr/>
            </p:nvGraphicFramePr>
            <p:xfrm>
              <a:off x="655560" y="1676520"/>
              <a:ext cx="97920" cy="714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55560" y="1676520"/>
                        <a:ext cx="97920" cy="71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" name=""/>
              <p:cNvSpPr/>
              <p:nvPr/>
            </p:nvSpPr>
            <p:spPr>
              <a:xfrm flipV="1">
                <a:off x="620640" y="1897560"/>
                <a:ext cx="0" cy="1144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-174600" y="1617120"/>
            <a:ext cx="3700080" cy="2516400"/>
            <a:chOff x="-174600" y="1617120"/>
            <a:chExt cx="3700080" cy="2516400"/>
          </a:xfrm>
        </p:grpSpPr>
        <p:sp>
          <p:nvSpPr>
            <p:cNvPr id="136" name=""/>
            <p:cNvSpPr/>
            <p:nvPr/>
          </p:nvSpPr>
          <p:spPr>
            <a:xfrm rot="360000">
              <a:off x="83880" y="1916640"/>
              <a:ext cx="3224520" cy="20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7" y="2"/>
                  </a:moveTo>
                  <a:arcTo wR="10800" hR="10800" stAng="-5340548" swAng="16171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7" y="2"/>
                  </a:moveTo>
                  <a:arcTo wR="10800" hR="10800" stAng="-5340548" swAng="1617139"/>
                </a:path>
              </a:pathLst>
            </a:custGeom>
            <a:noFill/>
            <a:ln cap="rnd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660000">
              <a:off x="-50760" y="1931400"/>
              <a:ext cx="3452760" cy="162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81" y="2768"/>
                  </a:moveTo>
                  <a:arcTo wR="10800" hR="10800" stAng="-7916930" swAng="2511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3581" y="2768"/>
                  </a:moveTo>
                  <a:arcTo wR="10800" hR="10800" stAng="-7916930" swAng="2511525"/>
                </a:path>
              </a:pathLst>
            </a:custGeom>
            <a:noFill/>
            <a:ln cap="rnd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220120" y="1480320"/>
            <a:ext cx="3954600" cy="1671120"/>
            <a:chOff x="2220120" y="1480320"/>
            <a:chExt cx="3954600" cy="1671120"/>
          </a:xfrm>
        </p:grpSpPr>
        <p:sp>
          <p:nvSpPr>
            <p:cNvPr id="139" name=""/>
            <p:cNvSpPr/>
            <p:nvPr/>
          </p:nvSpPr>
          <p:spPr>
            <a:xfrm rot="21240000">
              <a:off x="2361240" y="1673280"/>
              <a:ext cx="3759480" cy="123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4" y="4900"/>
                  </a:moveTo>
                  <a:arcTo wR="10800" hR="10800" stAng="-8813156" swAng="34081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4" y="4900"/>
                  </a:moveTo>
                  <a:arcTo wR="10800" hR="10800" stAng="-8813156" swAng="3408189"/>
                </a:path>
              </a:pathLst>
            </a:custGeom>
            <a:noFill/>
            <a:ln cap="rnd" w="57240">
              <a:solidFill>
                <a:srgbClr val="ff66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1240000">
              <a:off x="2274120" y="1724400"/>
              <a:ext cx="3750480" cy="123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4" y="0"/>
                  </a:moveTo>
                  <a:arcTo wR="10800" hR="10800" stAng="-5404968" swAng="2453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4" y="0"/>
                  </a:moveTo>
                  <a:arcTo wR="10800" hR="10800" stAng="-5404968" swAng="2453984"/>
                </a:path>
              </a:pathLst>
            </a:custGeom>
            <a:noFill/>
            <a:ln cap="rnd" w="57240">
              <a:solidFill>
                <a:srgbClr val="ff6600"/>
              </a:solidFill>
              <a:custDash>
                <a:ds d="499000" sp="20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 rot="21444000">
            <a:off x="-429840" y="4775400"/>
            <a:ext cx="12427560" cy="86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14" swAng="3582875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14" swAng="3582875"/>
              </a:path>
            </a:pathLst>
          </a:custGeom>
          <a:noFill/>
          <a:ln cap="rnd" w="57240">
            <a:solidFill>
              <a:srgbClr val="ff66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813280"/>
            <a:ext cx="4241880" cy="831960"/>
          </a:xfrm>
          <a:custGeom>
            <a:avLst/>
            <a:gdLst/>
            <a:ahLst/>
            <a:rect l="l" t="t" r="r" b="b"/>
            <a:pathLst>
              <a:path w="1721" h="397">
                <a:moveTo>
                  <a:pt x="0" y="396"/>
                </a:moveTo>
                <a:lnTo>
                  <a:pt x="12" y="384"/>
                </a:lnTo>
                <a:lnTo>
                  <a:pt x="24" y="377"/>
                </a:lnTo>
                <a:lnTo>
                  <a:pt x="36" y="365"/>
                </a:lnTo>
                <a:lnTo>
                  <a:pt x="48" y="353"/>
                </a:lnTo>
                <a:lnTo>
                  <a:pt x="60" y="347"/>
                </a:lnTo>
                <a:lnTo>
                  <a:pt x="72" y="334"/>
                </a:lnTo>
                <a:lnTo>
                  <a:pt x="84" y="328"/>
                </a:lnTo>
                <a:lnTo>
                  <a:pt x="96" y="309"/>
                </a:lnTo>
                <a:lnTo>
                  <a:pt x="108" y="303"/>
                </a:lnTo>
                <a:lnTo>
                  <a:pt x="120" y="291"/>
                </a:lnTo>
                <a:lnTo>
                  <a:pt x="132" y="278"/>
                </a:lnTo>
                <a:lnTo>
                  <a:pt x="144" y="272"/>
                </a:lnTo>
                <a:lnTo>
                  <a:pt x="156" y="254"/>
                </a:lnTo>
                <a:lnTo>
                  <a:pt x="168" y="254"/>
                </a:lnTo>
                <a:lnTo>
                  <a:pt x="180" y="248"/>
                </a:lnTo>
                <a:lnTo>
                  <a:pt x="192" y="241"/>
                </a:lnTo>
                <a:lnTo>
                  <a:pt x="204" y="235"/>
                </a:lnTo>
                <a:lnTo>
                  <a:pt x="216" y="229"/>
                </a:lnTo>
                <a:lnTo>
                  <a:pt x="228" y="223"/>
                </a:lnTo>
                <a:lnTo>
                  <a:pt x="240" y="217"/>
                </a:lnTo>
                <a:lnTo>
                  <a:pt x="252" y="204"/>
                </a:lnTo>
                <a:lnTo>
                  <a:pt x="264" y="198"/>
                </a:lnTo>
                <a:lnTo>
                  <a:pt x="276" y="186"/>
                </a:lnTo>
                <a:lnTo>
                  <a:pt x="288" y="173"/>
                </a:lnTo>
                <a:lnTo>
                  <a:pt x="300" y="161"/>
                </a:lnTo>
                <a:lnTo>
                  <a:pt x="312" y="161"/>
                </a:lnTo>
                <a:lnTo>
                  <a:pt x="324" y="149"/>
                </a:lnTo>
                <a:lnTo>
                  <a:pt x="336" y="142"/>
                </a:lnTo>
                <a:lnTo>
                  <a:pt x="348" y="136"/>
                </a:lnTo>
                <a:lnTo>
                  <a:pt x="360" y="130"/>
                </a:lnTo>
                <a:lnTo>
                  <a:pt x="372" y="124"/>
                </a:lnTo>
                <a:lnTo>
                  <a:pt x="384" y="124"/>
                </a:lnTo>
                <a:lnTo>
                  <a:pt x="396" y="118"/>
                </a:lnTo>
                <a:lnTo>
                  <a:pt x="408" y="111"/>
                </a:lnTo>
                <a:lnTo>
                  <a:pt x="420" y="111"/>
                </a:lnTo>
                <a:lnTo>
                  <a:pt x="444" y="105"/>
                </a:lnTo>
                <a:lnTo>
                  <a:pt x="456" y="105"/>
                </a:lnTo>
                <a:lnTo>
                  <a:pt x="468" y="93"/>
                </a:lnTo>
                <a:lnTo>
                  <a:pt x="480" y="93"/>
                </a:lnTo>
                <a:lnTo>
                  <a:pt x="492" y="87"/>
                </a:lnTo>
                <a:lnTo>
                  <a:pt x="504" y="87"/>
                </a:lnTo>
                <a:lnTo>
                  <a:pt x="516" y="80"/>
                </a:lnTo>
                <a:lnTo>
                  <a:pt x="548" y="74"/>
                </a:lnTo>
                <a:lnTo>
                  <a:pt x="560" y="68"/>
                </a:lnTo>
                <a:lnTo>
                  <a:pt x="572" y="68"/>
                </a:lnTo>
                <a:lnTo>
                  <a:pt x="584" y="56"/>
                </a:lnTo>
                <a:lnTo>
                  <a:pt x="596" y="50"/>
                </a:lnTo>
                <a:lnTo>
                  <a:pt x="616" y="37"/>
                </a:lnTo>
                <a:lnTo>
                  <a:pt x="640" y="31"/>
                </a:lnTo>
                <a:lnTo>
                  <a:pt x="652" y="25"/>
                </a:lnTo>
                <a:lnTo>
                  <a:pt x="664" y="25"/>
                </a:lnTo>
                <a:lnTo>
                  <a:pt x="676" y="19"/>
                </a:lnTo>
                <a:lnTo>
                  <a:pt x="688" y="19"/>
                </a:lnTo>
                <a:lnTo>
                  <a:pt x="700" y="19"/>
                </a:lnTo>
                <a:lnTo>
                  <a:pt x="712" y="19"/>
                </a:lnTo>
                <a:lnTo>
                  <a:pt x="724" y="25"/>
                </a:lnTo>
                <a:lnTo>
                  <a:pt x="736" y="25"/>
                </a:lnTo>
                <a:lnTo>
                  <a:pt x="752" y="31"/>
                </a:lnTo>
                <a:lnTo>
                  <a:pt x="764" y="25"/>
                </a:lnTo>
                <a:lnTo>
                  <a:pt x="776" y="19"/>
                </a:lnTo>
                <a:lnTo>
                  <a:pt x="788" y="12"/>
                </a:lnTo>
                <a:lnTo>
                  <a:pt x="804" y="12"/>
                </a:lnTo>
                <a:lnTo>
                  <a:pt x="816" y="6"/>
                </a:lnTo>
                <a:lnTo>
                  <a:pt x="828" y="6"/>
                </a:lnTo>
                <a:lnTo>
                  <a:pt x="840" y="6"/>
                </a:lnTo>
                <a:lnTo>
                  <a:pt x="852" y="6"/>
                </a:lnTo>
                <a:lnTo>
                  <a:pt x="864" y="6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8" y="0"/>
                </a:lnTo>
                <a:lnTo>
                  <a:pt x="960" y="0"/>
                </a:lnTo>
                <a:lnTo>
                  <a:pt x="972" y="6"/>
                </a:lnTo>
                <a:lnTo>
                  <a:pt x="984" y="6"/>
                </a:lnTo>
                <a:lnTo>
                  <a:pt x="996" y="12"/>
                </a:lnTo>
                <a:lnTo>
                  <a:pt x="1008" y="19"/>
                </a:lnTo>
                <a:lnTo>
                  <a:pt x="1020" y="25"/>
                </a:lnTo>
                <a:lnTo>
                  <a:pt x="1032" y="25"/>
                </a:lnTo>
                <a:lnTo>
                  <a:pt x="1044" y="25"/>
                </a:lnTo>
                <a:lnTo>
                  <a:pt x="1056" y="31"/>
                </a:lnTo>
                <a:lnTo>
                  <a:pt x="1068" y="37"/>
                </a:lnTo>
                <a:lnTo>
                  <a:pt x="1080" y="43"/>
                </a:lnTo>
                <a:lnTo>
                  <a:pt x="1092" y="43"/>
                </a:lnTo>
                <a:lnTo>
                  <a:pt x="1104" y="43"/>
                </a:lnTo>
                <a:lnTo>
                  <a:pt x="1116" y="43"/>
                </a:lnTo>
                <a:lnTo>
                  <a:pt x="1128" y="43"/>
                </a:lnTo>
                <a:lnTo>
                  <a:pt x="1140" y="43"/>
                </a:lnTo>
                <a:lnTo>
                  <a:pt x="1152" y="43"/>
                </a:lnTo>
                <a:lnTo>
                  <a:pt x="1164" y="43"/>
                </a:lnTo>
                <a:lnTo>
                  <a:pt x="1176" y="43"/>
                </a:lnTo>
                <a:lnTo>
                  <a:pt x="1188" y="56"/>
                </a:lnTo>
                <a:lnTo>
                  <a:pt x="1200" y="62"/>
                </a:lnTo>
                <a:lnTo>
                  <a:pt x="1212" y="62"/>
                </a:lnTo>
                <a:lnTo>
                  <a:pt x="1224" y="68"/>
                </a:lnTo>
                <a:lnTo>
                  <a:pt x="1236" y="74"/>
                </a:lnTo>
                <a:lnTo>
                  <a:pt x="1248" y="80"/>
                </a:lnTo>
                <a:lnTo>
                  <a:pt x="1260" y="80"/>
                </a:lnTo>
                <a:lnTo>
                  <a:pt x="1272" y="87"/>
                </a:lnTo>
                <a:lnTo>
                  <a:pt x="1284" y="93"/>
                </a:lnTo>
                <a:lnTo>
                  <a:pt x="1296" y="99"/>
                </a:lnTo>
                <a:lnTo>
                  <a:pt x="1308" y="99"/>
                </a:lnTo>
                <a:lnTo>
                  <a:pt x="1320" y="105"/>
                </a:lnTo>
                <a:lnTo>
                  <a:pt x="1332" y="111"/>
                </a:lnTo>
                <a:lnTo>
                  <a:pt x="1344" y="118"/>
                </a:lnTo>
                <a:lnTo>
                  <a:pt x="1356" y="124"/>
                </a:lnTo>
                <a:lnTo>
                  <a:pt x="1368" y="124"/>
                </a:lnTo>
                <a:lnTo>
                  <a:pt x="1380" y="136"/>
                </a:lnTo>
                <a:lnTo>
                  <a:pt x="1392" y="136"/>
                </a:lnTo>
                <a:lnTo>
                  <a:pt x="1404" y="149"/>
                </a:lnTo>
                <a:lnTo>
                  <a:pt x="1416" y="155"/>
                </a:lnTo>
                <a:lnTo>
                  <a:pt x="1428" y="161"/>
                </a:lnTo>
                <a:lnTo>
                  <a:pt x="1440" y="167"/>
                </a:lnTo>
                <a:lnTo>
                  <a:pt x="1452" y="179"/>
                </a:lnTo>
                <a:lnTo>
                  <a:pt x="1464" y="192"/>
                </a:lnTo>
                <a:lnTo>
                  <a:pt x="1476" y="192"/>
                </a:lnTo>
                <a:lnTo>
                  <a:pt x="1488" y="210"/>
                </a:lnTo>
                <a:lnTo>
                  <a:pt x="1500" y="210"/>
                </a:lnTo>
                <a:lnTo>
                  <a:pt x="1512" y="223"/>
                </a:lnTo>
                <a:lnTo>
                  <a:pt x="1524" y="229"/>
                </a:lnTo>
                <a:lnTo>
                  <a:pt x="1536" y="229"/>
                </a:lnTo>
                <a:lnTo>
                  <a:pt x="1548" y="241"/>
                </a:lnTo>
                <a:lnTo>
                  <a:pt x="1560" y="248"/>
                </a:lnTo>
                <a:lnTo>
                  <a:pt x="1572" y="254"/>
                </a:lnTo>
                <a:lnTo>
                  <a:pt x="1584" y="266"/>
                </a:lnTo>
                <a:lnTo>
                  <a:pt x="1596" y="266"/>
                </a:lnTo>
                <a:lnTo>
                  <a:pt x="1608" y="285"/>
                </a:lnTo>
                <a:lnTo>
                  <a:pt x="1620" y="291"/>
                </a:lnTo>
                <a:lnTo>
                  <a:pt x="1632" y="303"/>
                </a:lnTo>
                <a:lnTo>
                  <a:pt x="1644" y="316"/>
                </a:lnTo>
                <a:lnTo>
                  <a:pt x="1656" y="322"/>
                </a:lnTo>
                <a:lnTo>
                  <a:pt x="1664" y="340"/>
                </a:lnTo>
                <a:lnTo>
                  <a:pt x="1676" y="347"/>
                </a:lnTo>
                <a:lnTo>
                  <a:pt x="1688" y="359"/>
                </a:lnTo>
                <a:lnTo>
                  <a:pt x="1700" y="371"/>
                </a:lnTo>
                <a:lnTo>
                  <a:pt x="1708" y="390"/>
                </a:lnTo>
                <a:lnTo>
                  <a:pt x="1720" y="396"/>
                </a:lnTo>
              </a:path>
            </a:pathLst>
          </a:custGeom>
          <a:solidFill>
            <a:srgbClr val="bbe0e3"/>
          </a:solidFill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440" y="6642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90600" y="4840200"/>
            <a:ext cx="4228560" cy="1824840"/>
            <a:chOff x="390600" y="4840200"/>
            <a:chExt cx="4228560" cy="1824840"/>
          </a:xfrm>
        </p:grpSpPr>
        <p:grpSp>
          <p:nvGrpSpPr>
            <p:cNvPr id="145" name=""/>
            <p:cNvGrpSpPr/>
            <p:nvPr/>
          </p:nvGrpSpPr>
          <p:grpSpPr>
            <a:xfrm>
              <a:off x="390600" y="4840200"/>
              <a:ext cx="119880" cy="1802520"/>
              <a:chOff x="390600" y="4840200"/>
              <a:chExt cx="119880" cy="1802520"/>
            </a:xfrm>
          </p:grpSpPr>
          <p:graphicFrame>
            <p:nvGraphicFramePr>
              <p:cNvPr id="146" name=""/>
              <p:cNvGraphicFramePr/>
              <p:nvPr/>
            </p:nvGraphicFramePr>
            <p:xfrm>
              <a:off x="422640" y="4840200"/>
              <a:ext cx="87840" cy="945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22640" y="4840200"/>
                        <a:ext cx="87840" cy="94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8" name=""/>
              <p:cNvSpPr/>
              <p:nvPr/>
            </p:nvSpPr>
            <p:spPr>
              <a:xfrm flipV="1">
                <a:off x="390600" y="5129640"/>
                <a:ext cx="0" cy="151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503600" y="4867200"/>
              <a:ext cx="115560" cy="1797840"/>
              <a:chOff x="4503600" y="4867200"/>
              <a:chExt cx="115560" cy="179784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4619160" y="5153040"/>
                <a:ext cx="0" cy="151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1" name=""/>
              <p:cNvGraphicFramePr/>
              <p:nvPr/>
            </p:nvGraphicFramePr>
            <p:xfrm>
              <a:off x="4503600" y="4867200"/>
              <a:ext cx="75960" cy="945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3600" y="4867200"/>
                        <a:ext cx="75960" cy="94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53" name=""/>
          <p:cNvSpPr/>
          <p:nvPr/>
        </p:nvSpPr>
        <p:spPr>
          <a:xfrm>
            <a:off x="4718160" y="3483000"/>
            <a:ext cx="4168800" cy="868320"/>
          </a:xfrm>
          <a:custGeom>
            <a:avLst/>
            <a:gdLst/>
            <a:ahLst/>
            <a:rect l="l" t="t" r="r" b="b"/>
            <a:pathLst>
              <a:path w="1721" h="366">
                <a:moveTo>
                  <a:pt x="0" y="365"/>
                </a:moveTo>
                <a:lnTo>
                  <a:pt x="12" y="354"/>
                </a:lnTo>
                <a:lnTo>
                  <a:pt x="24" y="348"/>
                </a:lnTo>
                <a:lnTo>
                  <a:pt x="36" y="336"/>
                </a:lnTo>
                <a:lnTo>
                  <a:pt x="48" y="325"/>
                </a:lnTo>
                <a:lnTo>
                  <a:pt x="60" y="319"/>
                </a:lnTo>
                <a:lnTo>
                  <a:pt x="72" y="308"/>
                </a:lnTo>
                <a:lnTo>
                  <a:pt x="84" y="302"/>
                </a:lnTo>
                <a:lnTo>
                  <a:pt x="96" y="285"/>
                </a:lnTo>
                <a:lnTo>
                  <a:pt x="108" y="279"/>
                </a:lnTo>
                <a:lnTo>
                  <a:pt x="120" y="268"/>
                </a:lnTo>
                <a:lnTo>
                  <a:pt x="132" y="257"/>
                </a:lnTo>
                <a:lnTo>
                  <a:pt x="144" y="251"/>
                </a:lnTo>
                <a:lnTo>
                  <a:pt x="156" y="234"/>
                </a:lnTo>
                <a:lnTo>
                  <a:pt x="168" y="234"/>
                </a:lnTo>
                <a:lnTo>
                  <a:pt x="180" y="228"/>
                </a:lnTo>
                <a:lnTo>
                  <a:pt x="192" y="222"/>
                </a:lnTo>
                <a:lnTo>
                  <a:pt x="204" y="217"/>
                </a:lnTo>
                <a:lnTo>
                  <a:pt x="216" y="211"/>
                </a:lnTo>
                <a:lnTo>
                  <a:pt x="228" y="205"/>
                </a:lnTo>
                <a:lnTo>
                  <a:pt x="240" y="200"/>
                </a:lnTo>
                <a:lnTo>
                  <a:pt x="252" y="188"/>
                </a:lnTo>
                <a:lnTo>
                  <a:pt x="264" y="183"/>
                </a:lnTo>
                <a:lnTo>
                  <a:pt x="276" y="171"/>
                </a:lnTo>
                <a:lnTo>
                  <a:pt x="288" y="160"/>
                </a:lnTo>
                <a:lnTo>
                  <a:pt x="300" y="148"/>
                </a:lnTo>
                <a:lnTo>
                  <a:pt x="312" y="148"/>
                </a:lnTo>
                <a:lnTo>
                  <a:pt x="324" y="137"/>
                </a:lnTo>
                <a:lnTo>
                  <a:pt x="336" y="131"/>
                </a:lnTo>
                <a:lnTo>
                  <a:pt x="348" y="125"/>
                </a:lnTo>
                <a:lnTo>
                  <a:pt x="360" y="120"/>
                </a:lnTo>
                <a:lnTo>
                  <a:pt x="372" y="114"/>
                </a:lnTo>
                <a:lnTo>
                  <a:pt x="384" y="114"/>
                </a:lnTo>
                <a:lnTo>
                  <a:pt x="396" y="108"/>
                </a:lnTo>
                <a:lnTo>
                  <a:pt x="408" y="103"/>
                </a:lnTo>
                <a:lnTo>
                  <a:pt x="420" y="103"/>
                </a:lnTo>
                <a:lnTo>
                  <a:pt x="444" y="97"/>
                </a:lnTo>
                <a:lnTo>
                  <a:pt x="456" y="97"/>
                </a:lnTo>
                <a:lnTo>
                  <a:pt x="468" y="86"/>
                </a:lnTo>
                <a:lnTo>
                  <a:pt x="480" y="86"/>
                </a:lnTo>
                <a:lnTo>
                  <a:pt x="492" y="80"/>
                </a:lnTo>
                <a:lnTo>
                  <a:pt x="504" y="80"/>
                </a:lnTo>
                <a:lnTo>
                  <a:pt x="516" y="74"/>
                </a:lnTo>
                <a:lnTo>
                  <a:pt x="548" y="68"/>
                </a:lnTo>
                <a:lnTo>
                  <a:pt x="560" y="63"/>
                </a:lnTo>
                <a:lnTo>
                  <a:pt x="572" y="63"/>
                </a:lnTo>
                <a:lnTo>
                  <a:pt x="584" y="51"/>
                </a:lnTo>
                <a:lnTo>
                  <a:pt x="596" y="46"/>
                </a:lnTo>
                <a:lnTo>
                  <a:pt x="616" y="34"/>
                </a:lnTo>
                <a:lnTo>
                  <a:pt x="640" y="29"/>
                </a:lnTo>
                <a:lnTo>
                  <a:pt x="652" y="23"/>
                </a:lnTo>
                <a:lnTo>
                  <a:pt x="664" y="23"/>
                </a:lnTo>
                <a:lnTo>
                  <a:pt x="676" y="17"/>
                </a:lnTo>
                <a:lnTo>
                  <a:pt x="688" y="17"/>
                </a:lnTo>
                <a:lnTo>
                  <a:pt x="700" y="17"/>
                </a:lnTo>
                <a:lnTo>
                  <a:pt x="712" y="17"/>
                </a:lnTo>
                <a:lnTo>
                  <a:pt x="724" y="23"/>
                </a:lnTo>
                <a:lnTo>
                  <a:pt x="736" y="23"/>
                </a:lnTo>
                <a:lnTo>
                  <a:pt x="752" y="29"/>
                </a:lnTo>
                <a:lnTo>
                  <a:pt x="764" y="23"/>
                </a:lnTo>
                <a:lnTo>
                  <a:pt x="776" y="17"/>
                </a:lnTo>
                <a:lnTo>
                  <a:pt x="788" y="11"/>
                </a:lnTo>
                <a:lnTo>
                  <a:pt x="804" y="11"/>
                </a:lnTo>
                <a:lnTo>
                  <a:pt x="816" y="6"/>
                </a:lnTo>
                <a:lnTo>
                  <a:pt x="828" y="6"/>
                </a:lnTo>
                <a:lnTo>
                  <a:pt x="840" y="6"/>
                </a:lnTo>
                <a:lnTo>
                  <a:pt x="852" y="6"/>
                </a:lnTo>
                <a:lnTo>
                  <a:pt x="864" y="6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8" y="0"/>
                </a:lnTo>
                <a:lnTo>
                  <a:pt x="960" y="0"/>
                </a:lnTo>
                <a:lnTo>
                  <a:pt x="972" y="6"/>
                </a:lnTo>
                <a:lnTo>
                  <a:pt x="984" y="6"/>
                </a:lnTo>
                <a:lnTo>
                  <a:pt x="996" y="11"/>
                </a:lnTo>
                <a:lnTo>
                  <a:pt x="1008" y="17"/>
                </a:lnTo>
                <a:lnTo>
                  <a:pt x="1020" y="23"/>
                </a:lnTo>
                <a:lnTo>
                  <a:pt x="1032" y="23"/>
                </a:lnTo>
                <a:lnTo>
                  <a:pt x="1044" y="23"/>
                </a:lnTo>
                <a:lnTo>
                  <a:pt x="1056" y="29"/>
                </a:lnTo>
                <a:lnTo>
                  <a:pt x="1068" y="34"/>
                </a:lnTo>
                <a:lnTo>
                  <a:pt x="1080" y="40"/>
                </a:lnTo>
                <a:lnTo>
                  <a:pt x="1092" y="40"/>
                </a:lnTo>
                <a:lnTo>
                  <a:pt x="1104" y="40"/>
                </a:lnTo>
                <a:lnTo>
                  <a:pt x="1116" y="40"/>
                </a:lnTo>
                <a:lnTo>
                  <a:pt x="1128" y="40"/>
                </a:lnTo>
                <a:lnTo>
                  <a:pt x="1140" y="40"/>
                </a:lnTo>
                <a:lnTo>
                  <a:pt x="1152" y="40"/>
                </a:lnTo>
                <a:lnTo>
                  <a:pt x="1164" y="40"/>
                </a:lnTo>
                <a:lnTo>
                  <a:pt x="1176" y="40"/>
                </a:lnTo>
                <a:lnTo>
                  <a:pt x="1188" y="51"/>
                </a:lnTo>
                <a:lnTo>
                  <a:pt x="1200" y="57"/>
                </a:lnTo>
                <a:lnTo>
                  <a:pt x="1212" y="57"/>
                </a:lnTo>
                <a:lnTo>
                  <a:pt x="1224" y="63"/>
                </a:lnTo>
                <a:lnTo>
                  <a:pt x="1236" y="68"/>
                </a:lnTo>
                <a:lnTo>
                  <a:pt x="1248" y="74"/>
                </a:lnTo>
                <a:lnTo>
                  <a:pt x="1260" y="74"/>
                </a:lnTo>
                <a:lnTo>
                  <a:pt x="1272" y="80"/>
                </a:lnTo>
                <a:lnTo>
                  <a:pt x="1284" y="86"/>
                </a:lnTo>
                <a:lnTo>
                  <a:pt x="1296" y="91"/>
                </a:lnTo>
                <a:lnTo>
                  <a:pt x="1308" y="91"/>
                </a:lnTo>
                <a:lnTo>
                  <a:pt x="1320" y="97"/>
                </a:lnTo>
                <a:lnTo>
                  <a:pt x="1332" y="103"/>
                </a:lnTo>
                <a:lnTo>
                  <a:pt x="1344" y="108"/>
                </a:lnTo>
                <a:lnTo>
                  <a:pt x="1356" y="114"/>
                </a:lnTo>
                <a:lnTo>
                  <a:pt x="1368" y="114"/>
                </a:lnTo>
                <a:lnTo>
                  <a:pt x="1380" y="125"/>
                </a:lnTo>
                <a:lnTo>
                  <a:pt x="1392" y="125"/>
                </a:lnTo>
                <a:lnTo>
                  <a:pt x="1404" y="137"/>
                </a:lnTo>
                <a:lnTo>
                  <a:pt x="1416" y="143"/>
                </a:lnTo>
                <a:lnTo>
                  <a:pt x="1428" y="148"/>
                </a:lnTo>
                <a:lnTo>
                  <a:pt x="1440" y="154"/>
                </a:lnTo>
                <a:lnTo>
                  <a:pt x="1452" y="165"/>
                </a:lnTo>
                <a:lnTo>
                  <a:pt x="1464" y="177"/>
                </a:lnTo>
                <a:lnTo>
                  <a:pt x="1476" y="177"/>
                </a:lnTo>
                <a:lnTo>
                  <a:pt x="1488" y="194"/>
                </a:lnTo>
                <a:lnTo>
                  <a:pt x="1500" y="194"/>
                </a:lnTo>
                <a:lnTo>
                  <a:pt x="1512" y="205"/>
                </a:lnTo>
                <a:lnTo>
                  <a:pt x="1524" y="211"/>
                </a:lnTo>
                <a:lnTo>
                  <a:pt x="1536" y="211"/>
                </a:lnTo>
                <a:lnTo>
                  <a:pt x="1548" y="222"/>
                </a:lnTo>
                <a:lnTo>
                  <a:pt x="1560" y="228"/>
                </a:lnTo>
                <a:lnTo>
                  <a:pt x="1572" y="234"/>
                </a:lnTo>
                <a:lnTo>
                  <a:pt x="1584" y="245"/>
                </a:lnTo>
                <a:lnTo>
                  <a:pt x="1596" y="245"/>
                </a:lnTo>
                <a:lnTo>
                  <a:pt x="1608" y="262"/>
                </a:lnTo>
                <a:lnTo>
                  <a:pt x="1620" y="268"/>
                </a:lnTo>
                <a:lnTo>
                  <a:pt x="1632" y="279"/>
                </a:lnTo>
                <a:lnTo>
                  <a:pt x="1644" y="291"/>
                </a:lnTo>
                <a:lnTo>
                  <a:pt x="1656" y="297"/>
                </a:lnTo>
                <a:lnTo>
                  <a:pt x="1664" y="314"/>
                </a:lnTo>
                <a:lnTo>
                  <a:pt x="1676" y="319"/>
                </a:lnTo>
                <a:lnTo>
                  <a:pt x="1688" y="331"/>
                </a:lnTo>
                <a:lnTo>
                  <a:pt x="1700" y="342"/>
                </a:lnTo>
                <a:lnTo>
                  <a:pt x="1708" y="359"/>
                </a:lnTo>
                <a:lnTo>
                  <a:pt x="1720" y="365"/>
                </a:lnTo>
              </a:path>
            </a:pathLst>
          </a:custGeom>
          <a:solidFill>
            <a:srgbClr val="bbe0e3"/>
          </a:solidFill>
          <a:ln cap="rnd"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81360" y="43466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718160" y="3159000"/>
            <a:ext cx="4146120" cy="1190520"/>
            <a:chOff x="4718160" y="3159000"/>
            <a:chExt cx="4146120" cy="1190520"/>
          </a:xfrm>
        </p:grpSpPr>
        <p:grpSp>
          <p:nvGrpSpPr>
            <p:cNvPr id="156" name=""/>
            <p:cNvGrpSpPr/>
            <p:nvPr/>
          </p:nvGrpSpPr>
          <p:grpSpPr>
            <a:xfrm>
              <a:off x="8751960" y="3160800"/>
              <a:ext cx="112320" cy="1188360"/>
              <a:chOff x="8751960" y="3160800"/>
              <a:chExt cx="112320" cy="118836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8864280" y="3350160"/>
                <a:ext cx="0" cy="99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8" name=""/>
              <p:cNvGraphicFramePr/>
              <p:nvPr/>
            </p:nvGraphicFramePr>
            <p:xfrm>
              <a:off x="8751960" y="3160800"/>
              <a:ext cx="74160" cy="623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751960" y="3160800"/>
                        <a:ext cx="74160" cy="62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0" name=""/>
            <p:cNvGrpSpPr/>
            <p:nvPr/>
          </p:nvGrpSpPr>
          <p:grpSpPr>
            <a:xfrm>
              <a:off x="4718160" y="3159000"/>
              <a:ext cx="118080" cy="1190520"/>
              <a:chOff x="4718160" y="3159000"/>
              <a:chExt cx="118080" cy="1190520"/>
            </a:xfrm>
          </p:grpSpPr>
          <p:graphicFrame>
            <p:nvGraphicFramePr>
              <p:cNvPr id="161" name=""/>
              <p:cNvGraphicFramePr/>
              <p:nvPr/>
            </p:nvGraphicFramePr>
            <p:xfrm>
              <a:off x="4749120" y="3159000"/>
              <a:ext cx="87120" cy="623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62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749120" y="3159000"/>
                        <a:ext cx="87120" cy="62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3" name=""/>
              <p:cNvSpPr/>
              <p:nvPr/>
            </p:nvSpPr>
            <p:spPr>
              <a:xfrm flipV="1">
                <a:off x="4718160" y="3350880"/>
                <a:ext cx="0" cy="99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122760" y="-493560"/>
            <a:ext cx="9323640" cy="39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47" y="16034"/>
                </a:moveTo>
                <a:arcTo wR="10800" hR="10800" stAng="1739131" swAng="3660869"/>
                <a:lnTo>
                  <a:pt x="10800" y="10800"/>
                </a:lnTo>
                <a:close/>
              </a:path>
              <a:path fill="none" w="21600" h="21600">
                <a:moveTo>
                  <a:pt x="20247" y="16034"/>
                </a:moveTo>
                <a:arcTo wR="10800" hR="10800" stAng="1739131" swAng="3660869"/>
              </a:path>
            </a:pathLst>
          </a:custGeom>
          <a:noFill/>
          <a:ln cap="rnd" w="57240">
            <a:solidFill>
              <a:srgbClr val="ff66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36960" y="5661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6668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ref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492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 ref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15880" y="487080"/>
            <a:ext cx="6189840" cy="669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agation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2A5F-4AF2-4284-A8FE-D5EF9670C9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uses the LOS multipa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emperature, moisture and pressu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170080"/>
            <a:ext cx="8393760" cy="2882880"/>
            <a:chOff x="380880" y="2170080"/>
            <a:chExt cx="8393760" cy="2882880"/>
          </a:xfrm>
        </p:grpSpPr>
        <p:graphicFrame>
          <p:nvGraphicFramePr>
            <p:cNvPr id="172" name=""/>
            <p:cNvGraphicFramePr/>
            <p:nvPr/>
          </p:nvGraphicFramePr>
          <p:xfrm>
            <a:off x="380880" y="2286000"/>
            <a:ext cx="8367840" cy="240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0"/>
                      <a:ext cx="836784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541080" y="4684680"/>
              <a:ext cx="82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ather service soundings indicate the “current” state of what’s going on ab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334120" y="2743200"/>
              <a:ext cx="83808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35200" y="2550960"/>
              <a:ext cx="15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emper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62520" y="3276720"/>
              <a:ext cx="1066680" cy="3045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5800" y="300816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Dew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59984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2680" y="217008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ssur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98760" y="384660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99"/>
                  </a:solidFill>
                  <a:latin typeface="Arial"/>
                </a:rPr>
                <a:t>Lines of equal Temp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2209320" y="3962160"/>
              <a:ext cx="304920" cy="759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63560" y="4300560"/>
              <a:ext cx="6767280" cy="246240"/>
              <a:chOff x="763560" y="4300560"/>
              <a:chExt cx="6767280" cy="246240"/>
            </a:xfrm>
          </p:grpSpPr>
          <p:sp>
            <p:nvSpPr>
              <p:cNvPr id="184" name=""/>
              <p:cNvSpPr/>
              <p:nvPr/>
            </p:nvSpPr>
            <p:spPr>
              <a:xfrm>
                <a:off x="6234120" y="4300560"/>
                <a:ext cx="36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64360" y="4300560"/>
                <a:ext cx="36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0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35560" y="4300560"/>
                <a:ext cx="36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421160" y="4300560"/>
                <a:ext cx="36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06760" y="4300560"/>
                <a:ext cx="296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92360" y="4300560"/>
                <a:ext cx="4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10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02000" y="4300560"/>
                <a:ext cx="4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20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3560" y="4300560"/>
                <a:ext cx="4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30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5181480" y="3809880"/>
            <a:ext cx="60984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91320" y="36576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09360" y="33130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ulp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AA15-B5C4-45BC-8C20-A493265BCE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848720" y="2286000"/>
            <a:ext cx="1231920" cy="2744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371600" y="2209680"/>
            <a:ext cx="6477120" cy="914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1241640" cy="2763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280" y="50497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400" y="3505320"/>
            <a:ext cx="7837560" cy="1514520"/>
          </a:xfrm>
          <a:custGeom>
            <a:avLst/>
            <a:gdLst/>
            <a:ahLst/>
            <a:rect l="l" t="t" r="r" b="b"/>
            <a:pathLst>
              <a:path w="1721" h="384">
                <a:moveTo>
                  <a:pt x="0" y="383"/>
                </a:moveTo>
                <a:lnTo>
                  <a:pt x="12" y="371"/>
                </a:lnTo>
                <a:lnTo>
                  <a:pt x="24" y="365"/>
                </a:lnTo>
                <a:lnTo>
                  <a:pt x="36" y="353"/>
                </a:lnTo>
                <a:lnTo>
                  <a:pt x="48" y="341"/>
                </a:lnTo>
                <a:lnTo>
                  <a:pt x="60" y="335"/>
                </a:lnTo>
                <a:lnTo>
                  <a:pt x="72" y="323"/>
                </a:lnTo>
                <a:lnTo>
                  <a:pt x="84" y="317"/>
                </a:lnTo>
                <a:lnTo>
                  <a:pt x="96" y="299"/>
                </a:lnTo>
                <a:lnTo>
                  <a:pt x="108" y="293"/>
                </a:lnTo>
                <a:lnTo>
                  <a:pt x="120" y="281"/>
                </a:lnTo>
                <a:lnTo>
                  <a:pt x="132" y="269"/>
                </a:lnTo>
                <a:lnTo>
                  <a:pt x="144" y="263"/>
                </a:lnTo>
                <a:lnTo>
                  <a:pt x="156" y="245"/>
                </a:lnTo>
                <a:lnTo>
                  <a:pt x="168" y="245"/>
                </a:lnTo>
                <a:lnTo>
                  <a:pt x="180" y="239"/>
                </a:lnTo>
                <a:lnTo>
                  <a:pt x="192" y="233"/>
                </a:lnTo>
                <a:lnTo>
                  <a:pt x="204" y="227"/>
                </a:lnTo>
                <a:lnTo>
                  <a:pt x="216" y="221"/>
                </a:lnTo>
                <a:lnTo>
                  <a:pt x="228" y="215"/>
                </a:lnTo>
                <a:lnTo>
                  <a:pt x="240" y="209"/>
                </a:lnTo>
                <a:lnTo>
                  <a:pt x="252" y="197"/>
                </a:lnTo>
                <a:lnTo>
                  <a:pt x="264" y="192"/>
                </a:lnTo>
                <a:lnTo>
                  <a:pt x="276" y="180"/>
                </a:lnTo>
                <a:lnTo>
                  <a:pt x="288" y="168"/>
                </a:lnTo>
                <a:lnTo>
                  <a:pt x="300" y="156"/>
                </a:lnTo>
                <a:lnTo>
                  <a:pt x="312" y="156"/>
                </a:lnTo>
                <a:lnTo>
                  <a:pt x="324" y="144"/>
                </a:lnTo>
                <a:lnTo>
                  <a:pt x="336" y="138"/>
                </a:lnTo>
                <a:lnTo>
                  <a:pt x="348" y="132"/>
                </a:lnTo>
                <a:lnTo>
                  <a:pt x="360" y="126"/>
                </a:lnTo>
                <a:lnTo>
                  <a:pt x="372" y="120"/>
                </a:lnTo>
                <a:lnTo>
                  <a:pt x="384" y="120"/>
                </a:lnTo>
                <a:lnTo>
                  <a:pt x="396" y="114"/>
                </a:lnTo>
                <a:lnTo>
                  <a:pt x="408" y="108"/>
                </a:lnTo>
                <a:lnTo>
                  <a:pt x="420" y="108"/>
                </a:lnTo>
                <a:lnTo>
                  <a:pt x="444" y="102"/>
                </a:lnTo>
                <a:lnTo>
                  <a:pt x="456" y="102"/>
                </a:lnTo>
                <a:lnTo>
                  <a:pt x="468" y="90"/>
                </a:lnTo>
                <a:lnTo>
                  <a:pt x="480" y="90"/>
                </a:lnTo>
                <a:lnTo>
                  <a:pt x="492" y="84"/>
                </a:lnTo>
                <a:lnTo>
                  <a:pt x="504" y="84"/>
                </a:lnTo>
                <a:lnTo>
                  <a:pt x="516" y="78"/>
                </a:lnTo>
                <a:lnTo>
                  <a:pt x="548" y="72"/>
                </a:lnTo>
                <a:lnTo>
                  <a:pt x="560" y="66"/>
                </a:lnTo>
                <a:lnTo>
                  <a:pt x="572" y="66"/>
                </a:lnTo>
                <a:lnTo>
                  <a:pt x="584" y="54"/>
                </a:lnTo>
                <a:lnTo>
                  <a:pt x="596" y="48"/>
                </a:lnTo>
                <a:lnTo>
                  <a:pt x="616" y="36"/>
                </a:lnTo>
                <a:lnTo>
                  <a:pt x="640" y="30"/>
                </a:lnTo>
                <a:lnTo>
                  <a:pt x="652" y="24"/>
                </a:lnTo>
                <a:lnTo>
                  <a:pt x="664" y="24"/>
                </a:lnTo>
                <a:lnTo>
                  <a:pt x="676" y="18"/>
                </a:lnTo>
                <a:lnTo>
                  <a:pt x="688" y="18"/>
                </a:lnTo>
                <a:lnTo>
                  <a:pt x="700" y="18"/>
                </a:lnTo>
                <a:lnTo>
                  <a:pt x="712" y="18"/>
                </a:lnTo>
                <a:lnTo>
                  <a:pt x="724" y="24"/>
                </a:lnTo>
                <a:lnTo>
                  <a:pt x="736" y="24"/>
                </a:lnTo>
                <a:lnTo>
                  <a:pt x="752" y="30"/>
                </a:lnTo>
                <a:lnTo>
                  <a:pt x="764" y="24"/>
                </a:lnTo>
                <a:lnTo>
                  <a:pt x="776" y="18"/>
                </a:lnTo>
                <a:lnTo>
                  <a:pt x="788" y="12"/>
                </a:lnTo>
                <a:lnTo>
                  <a:pt x="804" y="12"/>
                </a:lnTo>
                <a:lnTo>
                  <a:pt x="816" y="6"/>
                </a:lnTo>
                <a:lnTo>
                  <a:pt x="828" y="6"/>
                </a:lnTo>
                <a:lnTo>
                  <a:pt x="840" y="6"/>
                </a:lnTo>
                <a:lnTo>
                  <a:pt x="852" y="6"/>
                </a:lnTo>
                <a:lnTo>
                  <a:pt x="864" y="6"/>
                </a:lnTo>
                <a:lnTo>
                  <a:pt x="876" y="0"/>
                </a:lnTo>
                <a:lnTo>
                  <a:pt x="888" y="0"/>
                </a:lnTo>
                <a:lnTo>
                  <a:pt x="900" y="0"/>
                </a:lnTo>
                <a:lnTo>
                  <a:pt x="912" y="0"/>
                </a:lnTo>
                <a:lnTo>
                  <a:pt x="924" y="0"/>
                </a:lnTo>
                <a:lnTo>
                  <a:pt x="936" y="0"/>
                </a:lnTo>
                <a:lnTo>
                  <a:pt x="948" y="0"/>
                </a:lnTo>
                <a:lnTo>
                  <a:pt x="960" y="0"/>
                </a:lnTo>
                <a:lnTo>
                  <a:pt x="972" y="6"/>
                </a:lnTo>
                <a:lnTo>
                  <a:pt x="984" y="6"/>
                </a:lnTo>
                <a:lnTo>
                  <a:pt x="996" y="12"/>
                </a:lnTo>
                <a:lnTo>
                  <a:pt x="1008" y="18"/>
                </a:lnTo>
                <a:lnTo>
                  <a:pt x="1020" y="24"/>
                </a:lnTo>
                <a:lnTo>
                  <a:pt x="1032" y="24"/>
                </a:lnTo>
                <a:lnTo>
                  <a:pt x="1044" y="24"/>
                </a:lnTo>
                <a:lnTo>
                  <a:pt x="1056" y="30"/>
                </a:lnTo>
                <a:lnTo>
                  <a:pt x="1068" y="36"/>
                </a:lnTo>
                <a:lnTo>
                  <a:pt x="1080" y="42"/>
                </a:lnTo>
                <a:lnTo>
                  <a:pt x="1092" y="42"/>
                </a:lnTo>
                <a:lnTo>
                  <a:pt x="1104" y="42"/>
                </a:lnTo>
                <a:lnTo>
                  <a:pt x="1116" y="42"/>
                </a:lnTo>
                <a:lnTo>
                  <a:pt x="1128" y="42"/>
                </a:lnTo>
                <a:lnTo>
                  <a:pt x="1140" y="42"/>
                </a:lnTo>
                <a:lnTo>
                  <a:pt x="1152" y="42"/>
                </a:lnTo>
                <a:lnTo>
                  <a:pt x="1164" y="42"/>
                </a:lnTo>
                <a:lnTo>
                  <a:pt x="1176" y="42"/>
                </a:lnTo>
                <a:lnTo>
                  <a:pt x="1188" y="54"/>
                </a:lnTo>
                <a:lnTo>
                  <a:pt x="1200" y="60"/>
                </a:lnTo>
                <a:lnTo>
                  <a:pt x="1212" y="60"/>
                </a:lnTo>
                <a:lnTo>
                  <a:pt x="1224" y="66"/>
                </a:lnTo>
                <a:lnTo>
                  <a:pt x="1236" y="72"/>
                </a:lnTo>
                <a:lnTo>
                  <a:pt x="1248" y="78"/>
                </a:lnTo>
                <a:lnTo>
                  <a:pt x="1260" y="78"/>
                </a:lnTo>
                <a:lnTo>
                  <a:pt x="1272" y="84"/>
                </a:lnTo>
                <a:lnTo>
                  <a:pt x="1284" y="90"/>
                </a:lnTo>
                <a:lnTo>
                  <a:pt x="1296" y="96"/>
                </a:lnTo>
                <a:lnTo>
                  <a:pt x="1308" y="96"/>
                </a:lnTo>
                <a:lnTo>
                  <a:pt x="1320" y="102"/>
                </a:lnTo>
                <a:lnTo>
                  <a:pt x="1332" y="108"/>
                </a:lnTo>
                <a:lnTo>
                  <a:pt x="1344" y="114"/>
                </a:lnTo>
                <a:lnTo>
                  <a:pt x="1356" y="120"/>
                </a:lnTo>
                <a:lnTo>
                  <a:pt x="1368" y="120"/>
                </a:lnTo>
                <a:lnTo>
                  <a:pt x="1380" y="132"/>
                </a:lnTo>
                <a:lnTo>
                  <a:pt x="1392" y="132"/>
                </a:lnTo>
                <a:lnTo>
                  <a:pt x="1404" y="144"/>
                </a:lnTo>
                <a:lnTo>
                  <a:pt x="1416" y="150"/>
                </a:lnTo>
                <a:lnTo>
                  <a:pt x="1428" y="156"/>
                </a:lnTo>
                <a:lnTo>
                  <a:pt x="1440" y="162"/>
                </a:lnTo>
                <a:lnTo>
                  <a:pt x="1452" y="174"/>
                </a:lnTo>
                <a:lnTo>
                  <a:pt x="1464" y="186"/>
                </a:lnTo>
                <a:lnTo>
                  <a:pt x="1476" y="186"/>
                </a:lnTo>
                <a:lnTo>
                  <a:pt x="1488" y="203"/>
                </a:lnTo>
                <a:lnTo>
                  <a:pt x="1500" y="203"/>
                </a:lnTo>
                <a:lnTo>
                  <a:pt x="1512" y="215"/>
                </a:lnTo>
                <a:lnTo>
                  <a:pt x="1524" y="221"/>
                </a:lnTo>
                <a:lnTo>
                  <a:pt x="1536" y="221"/>
                </a:lnTo>
                <a:lnTo>
                  <a:pt x="1548" y="233"/>
                </a:lnTo>
                <a:lnTo>
                  <a:pt x="1560" y="239"/>
                </a:lnTo>
                <a:lnTo>
                  <a:pt x="1572" y="245"/>
                </a:lnTo>
                <a:lnTo>
                  <a:pt x="1584" y="257"/>
                </a:lnTo>
                <a:lnTo>
                  <a:pt x="1596" y="257"/>
                </a:lnTo>
                <a:lnTo>
                  <a:pt x="1608" y="275"/>
                </a:lnTo>
                <a:lnTo>
                  <a:pt x="1620" y="281"/>
                </a:lnTo>
                <a:lnTo>
                  <a:pt x="1632" y="293"/>
                </a:lnTo>
                <a:lnTo>
                  <a:pt x="1644" y="305"/>
                </a:lnTo>
                <a:lnTo>
                  <a:pt x="1656" y="311"/>
                </a:lnTo>
                <a:lnTo>
                  <a:pt x="1664" y="329"/>
                </a:lnTo>
                <a:lnTo>
                  <a:pt x="1676" y="335"/>
                </a:lnTo>
                <a:lnTo>
                  <a:pt x="1688" y="347"/>
                </a:lnTo>
                <a:lnTo>
                  <a:pt x="1700" y="359"/>
                </a:lnTo>
                <a:lnTo>
                  <a:pt x="1708" y="377"/>
                </a:lnTo>
                <a:lnTo>
                  <a:pt x="1720" y="383"/>
                </a:lnTo>
              </a:path>
            </a:pathLst>
          </a:custGeom>
          <a:solidFill>
            <a:srgbClr val="bbe0e3"/>
          </a:solidFill>
          <a:ln cap="rnd"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960" y="5181480"/>
            <a:ext cx="43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Factor = Curvature of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2920" y="784080"/>
            <a:ext cx="4519800" cy="549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al Propa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snel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D72C-FA7E-4E18-A552-36EA8EE9A7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4-05-10T21:47:36Z</dcterms:modified>
  <cp:revision>63</cp:revision>
  <dc:subject/>
  <dc:title>Slide 1</dc:title>
</cp:coreProperties>
</file>