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E9E-2CA6-45E8-8620-2E6656B1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157-B7DC-4345-B20B-FBC0FC4B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176-4FD3-453A-8250-A80B285E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F36-3E3C-45A2-993C-BE14349F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012-72AC-4EF1-8B12-DE3E2AA0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D35-3663-478C-A2E5-B7BABD60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978-21E9-4581-9303-46CC21F4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AD3-DF2E-4406-8F68-10D1BD0B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34A-B512-4512-9302-00A6AD2A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EDB-7783-48E8-8EB8-603C5426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E7E-A388-42CF-B787-F417258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E38-2EE9-4848-95F4-BD2D27F2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8979-5FAB-4F6E-BD4A-61BA2FBFB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8920" y="2590920"/>
            <a:ext cx="59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N5PYK Prescaler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19520" y="1905120"/>
            <a:ext cx="434340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295280" y="32763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27432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2438280"/>
            <a:ext cx="3812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40280" y="3144960"/>
            <a:ext cx="114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sca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de by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5905440" y="247644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54680" y="310500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0968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5257800"/>
            <a:ext cx="1295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H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2743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295280" y="48006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3434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4191120"/>
            <a:ext cx="16002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lock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962520" y="3733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9200" y="403848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9V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8520" y="453060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actor tuning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7400" y="150480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36.0 MHz 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7320240" y="33577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2.0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048120"/>
            <a:ext cx="30456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38080" y="3352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2360" y="5086440"/>
            <a:ext cx="18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ary loop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70000" y="843120"/>
            <a:ext cx="5567400" cy="5127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9600" y="380880"/>
            <a:ext cx="65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5PYK PRESCALER BOARD AND DEM M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caler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44560" y="1600200"/>
            <a:ext cx="32637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57840" y="1600200"/>
            <a:ext cx="361944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70120" y="3938760"/>
            <a:ext cx="321300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120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2 78L05 (SO-8 pac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IC MAR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1 1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 1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 10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4 10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5 0.1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6 10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7 0.01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 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14:20:55Z</dcterms:created>
  <dc:creator>Joseph Jurecka</dc:creator>
  <dc:description/>
  <dc:language>en-US</dc:language>
  <cp:lastModifiedBy>Joseph Jurecka</cp:lastModifiedBy>
  <dcterms:modified xsi:type="dcterms:W3CDTF">2004-02-07T15:20:40Z</dcterms:modified>
  <cp:revision>5</cp:revision>
  <dc:subject/>
  <dc:title>Slide 1</dc:title>
</cp:coreProperties>
</file>