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1772-5722-44AC-AEFC-8071C0573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070E-386A-47FC-86FC-0FB872FBE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22B6-28C5-4577-8DB9-A24486432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BD2C-FDC5-4C4E-8576-537C47631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0ACC-F201-4289-A67C-CA2B01E19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DD29-3DB4-45CE-A590-C17A7ACBB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14AB-FB98-441B-9A72-ECDE6E193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B506-808F-4C84-836F-9FEDCFE11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ECEB-FE9E-4ACE-A0AA-AAC3D9E59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A971-EBA9-4DE1-BAD1-548970078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809A-C8A1-49AC-B7A6-57B9FF7F4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6921-5E3C-4226-99A0-A9822F46E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46080" y="5867280"/>
            <a:ext cx="9191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6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0F52-60B6-4A6B-856F-6B7BAAEB261C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axis.com/~boblark/dsp10.htm" TargetMode="External"/><Relationship Id="rId2" Type="http://schemas.openxmlformats.org/officeDocument/2006/relationships/hyperlink" Target="http://www.fidalgo.net/~wa7gxd/kdsp10.html" TargetMode="External"/><Relationship Id="rId3" Type="http://schemas.openxmlformats.org/officeDocument/2006/relationships/hyperlink" Target="http://www.tapr.org/tapr/html/Fdsp10.html" TargetMode="External"/><Relationship Id="rId4" Type="http://schemas.openxmlformats.org/officeDocument/2006/relationships/hyperlink" Target="http://www.aa1yn.com/dsp-10/index.html" TargetMode="External"/><Relationship Id="rId5" Type="http://schemas.openxmlformats.org/officeDocument/2006/relationships/hyperlink" Target="http://users.easystreet.com/rhayward/dsp10/pll_tuneup.htm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ilding the W7PUA DSP10 144MHz Transce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8620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ave Robinson, WW2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ed at Ham-com June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P-10 with 30W 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144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6294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902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934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5HN 1296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390680"/>
            <a:ext cx="70102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” NT5NT 10G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7057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”  NT5NT 10G b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368.000000MHz GPS R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z-Lite board discontinued, replacement is n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$242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(was $99!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yle Johnson KK7P developed replacement DSP board (“DSPX”, built) and interface board to DSP10 (“KDSP10”, kit) total $139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SPX has lower power consumption and more powerful DSP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108080"/>
            <a:ext cx="7215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ngineer easier switching between internal/external 10MHz referenc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 with external Microwave Modules transverter to enable 435MHz operation (5/10/24/47G IF) (need to lock 435/144 xverter Oscillator to GP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CD/PIC tuning/mode sel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al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sign by Bob Larkin W7PU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blished in Sep-Nov 1999 Q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vers 144 to 148MHz USB/LSB/FM/Oth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ute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ntrolled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ough RS232 por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be locked to external 10MHz refer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7PUA DSP-10 web site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roaxis.com/~boblark/dsp10.ht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K7P DSPX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dalgo.net/~wa7gxd/kdsp10.htm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APR SITE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apr.org/tapr/html/Fdsp10.html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struction pictures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1yn.com/dsp-10/index.htm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A7EXM Alignment procedures/software: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users.easystreet.com/rhayward/dsp10/pll_tuneup.htm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verage from 144 to 148 MHz, USB, LSB, CW, and FM operatio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1 Hz frequency control (except FM)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ull integration of UHF/Microwave transverter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I-F and audio is defined in software (SDR) to allow additions and improvement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Low-power 20+ milliwatt with an add-on 8-Watt amplifier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Eight audio filters including One audio filter custom tailored from the scree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LMS noise-reduction and auto-notch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wo selectable I-F bandwidth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Fully defineable spectral analysis, Spectral Waterfall display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creen saves built i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imed (Beacon) transmit and receive control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recise EME (Moonbounce) Doppler correction of frequency for all mode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al-time Moon and Sun tracking in Az, El and distance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omplete CW sending from the PC keyboard.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-meter that is accurate from -140 to -25 dBm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Provision for frequency control to a fraction of a Hertz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Highly accurate Sun (and Moon) noise measurements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uter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controls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SP-10, it doesn’t do much proces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s is different from the AC5OG FlexRadio where the computer does the number crunching….600MHz+ machine requir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successfully use a 75MHz ThinkPa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S currently required (Don’t use DOS window under another OS, others working this issu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41148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construction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 2001: Bought all compon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5 2004: sent to work in NC for 2 weeks, decided could use all that spare evening time to stuff PCB rather than watching HBO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21-24 2004: Return and finish constru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n 25: DSP-10 QRV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y 5: Added 30W Amplifi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ed DSP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4864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LITE DSP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08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rnal 30W 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4572000" cy="5410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1320" y="335268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Mitsubishi RA30H1317 Power module (30W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00:58Z</dcterms:created>
  <dc:creator>David Robinson</dc:creator>
  <dc:description/>
  <dc:language>en-US</dc:language>
  <cp:lastModifiedBy>Joseph Jurecka</cp:lastModifiedBy>
  <dcterms:modified xsi:type="dcterms:W3CDTF">2004-06-21T15:32:51Z</dcterms:modified>
  <cp:revision>60</cp:revision>
  <dc:subject/>
  <dc:title>Slide 1</dc:title>
</cp:coreProperties>
</file>