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EBC6-2636-49A7-B759-9FD5259EC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A1AC-3512-40AB-9718-5442CA333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9930-4A60-4C29-84A4-7E6A22FD8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D688-771F-49DD-80A9-25181EE4E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6DB7-A602-4E1D-95A7-D4A556346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2479-8480-41AE-8B17-9170CCB35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DB05-9BF6-4AE2-91EC-8BE8924B7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2384-D8C1-452F-A8C1-1CFEE3446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905C-FED4-41DF-A4DF-9F820E94E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2898-D3E2-4848-B1FA-DE6D94536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53B8-CA06-4BF5-88C7-2450A643D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EAFB-91B5-4DAC-B309-80CB2363D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46080" y="5867280"/>
            <a:ext cx="9191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6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5B5B-5516-40A3-9ABC-E412B080FA06}" type="slidenum">
              <a:rPr b="1" i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roaxis.com/~boblark/dsp10.htm" TargetMode="External"/><Relationship Id="rId2" Type="http://schemas.openxmlformats.org/officeDocument/2006/relationships/hyperlink" Target="http://www.fidalgo.net/~wa7gxd/kdsp10.html" TargetMode="External"/><Relationship Id="rId3" Type="http://schemas.openxmlformats.org/officeDocument/2006/relationships/hyperlink" Target="http://www.aa1yn.com/dsp-10/index.html" TargetMode="External"/><Relationship Id="rId4" Type="http://schemas.openxmlformats.org/officeDocument/2006/relationships/hyperlink" Target="http://users.easystreet.com/rhayward/dsp10/pll_tuneup.htm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-87120" y="-360"/>
            <a:ext cx="9273960" cy="6858360"/>
            <a:chOff x="-87120" y="-360"/>
            <a:chExt cx="9273960" cy="6858360"/>
          </a:xfrm>
        </p:grpSpPr>
        <p:sp>
          <p:nvSpPr>
            <p:cNvPr id="54" name=""/>
            <p:cNvSpPr/>
            <p:nvPr/>
          </p:nvSpPr>
          <p:spPr>
            <a:xfrm flipH="1" rot="10800000">
              <a:off x="367560" y="0"/>
              <a:ext cx="221292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-61560" y="1440"/>
            <a:ext cx="9205560" cy="685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61560" y="1440"/>
                      <a:ext cx="920556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-8712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7894440" y="243000"/>
              <a:ext cx="1292400" cy="1110600"/>
              <a:chOff x="7894440" y="243000"/>
              <a:chExt cx="1292400" cy="1110600"/>
            </a:xfrm>
          </p:grpSpPr>
          <p:sp>
            <p:nvSpPr>
              <p:cNvPr id="59" name=""/>
              <p:cNvSpPr/>
              <p:nvPr/>
            </p:nvSpPr>
            <p:spPr>
              <a:xfrm>
                <a:off x="845820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45712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45748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5676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5892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4" name=""/>
              <p:cNvGraphicFramePr/>
              <p:nvPr/>
            </p:nvGraphicFramePr>
            <p:xfrm>
              <a:off x="7894440" y="276120"/>
              <a:ext cx="638640" cy="106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4440" y="276120"/>
                        <a:ext cx="63864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6" name=""/>
          <p:cNvSpPr/>
          <p:nvPr/>
        </p:nvSpPr>
        <p:spPr>
          <a:xfrm>
            <a:off x="228600" y="22096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uilding the W7PUA DSP10 144MHz Transce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886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ve Robinson, WW2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DB60-8BC6-41C2-BFCA-06364F8DA2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902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3880" y="1790640"/>
            <a:ext cx="6477120" cy="48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B01F-7FB8-4059-B385-5E6A62BD15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1296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173340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2D2E-563E-4F83-9860-81A57AC539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T5NT 10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2019240"/>
            <a:ext cx="594360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5E7F-B176-4BB8-80FD-1BC40DC4BD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z-Lite board discontinued, replacement is now $242 (was $99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yle Johnson KK7P developed replacement DSP board (“DSPX”, built) and interface board to DSP10 (“KDSP10”, kit) total $139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ower power consumption, more powerful DSP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26A1-0A55-41A0-97DC-A6214B3B33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P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7600" y="1600200"/>
            <a:ext cx="65073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034F-6FD2-4BFA-83C7-9F979B739E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ntegrate 30W Mitsubishi Modul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ut xtal into Microwave Modules transverter to enable 435MHz operation (5/10/24/47G IF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CD/PIC tuning/mode sel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uild Another On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6F73-DCB6-4B58-A073-70546256F2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7PUA DSP-10 web site: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roaxis.com/~boblark/dsp10.ht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KK7P DSPX: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dalgo.net/~wa7gxd/kdsp10.htm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nstruction pictures: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1yn.com/dsp-10/index.htm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KA7EXM Alignment procedures/software: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users.easystreet.com/rhayward/dsp10/pll_tuneup.htm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1C7B-8333-466A-9747-DAC964B93CD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sign by Bob Larkin W7PU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blished in Sep-Nov 1999 Q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vers 144 to 148MHz USB/LSB/FM/Oth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ut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ontrolled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ough RS232 por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be locked to external10MHz refer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030F-9C5A-437B-B542-E5041B4E813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Coverage from 144 to 148 MHz, USB, LSB, CW, and FM operatio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1 Hz frequency control (except FM)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Full integration of UHF/Microwave transverter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I-F and audio is defined in software (SDR) to allow additions and improvement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Low-power 20+ milliwatt with an add-on 8-Watt amplifier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Eight audio filters including One audio filter custom tailored from the scree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LMS noise-reduction and auto-notch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wo selectable I-F bandwidth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Fully defineable spectral analysis, Spectral Waterfall display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creen saves built i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imed (Beacon) transmit and receive control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Precise EME (Moonbounce) Doppler correction of frequency for all mode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Real-time Moon and Sun tracking in Az, El and distance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Complete CW sending from the PC keyboard.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-meter that is accurate from -140 to -25 dBm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Provision for frequency control to a fraction of a Hertz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Highly accurate Sun (and Moon) noise measurement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F9E0-BF5D-400A-9BDC-F55372788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uter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controls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SP-10, it doesn’t do much proces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s is different from the AC5OG FlexRadio where the computer does the number crunching….600MHz+ machine requir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successfully use a 75MHz ThinkPa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S required (Don’t use DOS window under another OS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0A41-BABA-4A19-936F-C896AEC436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153200" cy="48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DBD3-4138-4F18-9095-3C4E8234EC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construction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 2001 Bought all compon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5 2004 sent to work in NC for 2 weeks, decided could use all that spare evening time to stuff PCB rather than watch HBO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21-24 2004 return and finish constru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25 DSP-10 QRV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9748-9A99-44FD-8C99-DF5BDBA70C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ed DSP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66800" y="1600200"/>
            <a:ext cx="58104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1D84-C2ED-4889-B446-10487A23E9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LITE DSP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66800" y="1600200"/>
            <a:ext cx="58104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64F9-4B12-46E5-8BAF-A2C1C16311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144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1733400"/>
            <a:ext cx="624816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F5DC-C21B-4F4E-A90B-4E6793ABE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03-08T15:58:28Z</dcterms:modified>
  <cp:revision>35</cp:revision>
  <dc:subject/>
  <dc:title>Slide 1</dc:title>
</cp:coreProperties>
</file>